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0C0-3B15-4382-84CC-977D4857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207-ED4C-49CD-B67A-F1796C14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08F-F65C-4C6E-A240-B2C8AA08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2BE-FC4E-4712-946E-3E4919A5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DE3-5D7C-4239-AF81-FEC8C63D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9EE-21C7-4730-80FE-535801C3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709-8577-4DC9-BACB-C96CAB9A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EAB-63A2-4630-9A3B-BBE40CE9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5E7-0C2B-4A81-BD04-881258CC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363-87A5-42A4-9331-0846D8FF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2E6-DB6D-45C8-9364-8FA201F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A0A-7354-4A74-B636-3355F4F1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032E-030F-4BDE-9740-1C5F474A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0" y="19051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ase Study in OO Design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Tea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0440" y="1231920"/>
            <a:ext cx="45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Game of S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18080" y="3387600"/>
            <a:ext cx="351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Lit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lips Acade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over, Massachuset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49640" y="5564160"/>
            <a:ext cx="6705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Placement Program Professional Development 2004-2005, AP Computer Science A and Computer Science AB, Special Topic: Object-Oriented Design.  Copyright © 2004 by College Board.  Reproduced with permission.  All rights reserved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ww.collegeboard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ML Diagram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3240" y="13381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fie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eling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uage) diagrams represent graphically relationships between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5200" y="290844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62760" y="290844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90840" y="2787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ext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3111480"/>
            <a:ext cx="23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5820840" y="299736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5200" y="346536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02200" y="3465360"/>
            <a:ext cx="1540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fac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2280" y="334476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p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3668760"/>
            <a:ext cx="22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5671800" y="35542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5200" y="403056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02280" y="390996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6320" y="4233960"/>
            <a:ext cx="245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62760" y="402912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3960" y="4611600"/>
            <a:ext cx="2162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of Clas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02280" y="44830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has-a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60880" y="4815000"/>
            <a:ext cx="131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94320" y="4610160"/>
            <a:ext cx="235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of Clas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54320" y="4754520"/>
            <a:ext cx="344520" cy="1270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95400" y="5224320"/>
            <a:ext cx="2162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03720" y="5095800"/>
            <a:ext cx="13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62320" y="5427720"/>
            <a:ext cx="131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5760" y="5222880"/>
            <a:ext cx="235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of Clas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56120" y="5367240"/>
            <a:ext cx="344520" cy="1270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64120" y="5897520"/>
            <a:ext cx="131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57560" y="5829480"/>
            <a:ext cx="344520" cy="126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54440" y="55008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97160" y="519732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65640" y="519732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8400" y="5829480"/>
            <a:ext cx="344520" cy="126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861-4D43-4849-8307-B5B70A56CD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ET Class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601640" y="1111320"/>
            <a:ext cx="6477120" cy="5420520"/>
            <a:chOff x="1601640" y="1111320"/>
            <a:chExt cx="6477120" cy="5420520"/>
          </a:xfrm>
        </p:grpSpPr>
        <p:sp>
          <p:nvSpPr>
            <p:cNvPr id="160" name=""/>
            <p:cNvSpPr/>
            <p:nvPr/>
          </p:nvSpPr>
          <p:spPr>
            <a:xfrm>
              <a:off x="3125880" y="1111320"/>
              <a:ext cx="10666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tG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01640" y="1339920"/>
              <a:ext cx="10670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tMen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5880" y="1882800"/>
              <a:ext cx="10666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ZetP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4280" y="2720880"/>
              <a:ext cx="17524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uterZetP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11680" y="2711520"/>
              <a:ext cx="17524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umanZetP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3440" y="3406680"/>
              <a:ext cx="15242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tTableDisp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6960" y="4092480"/>
              <a:ext cx="15238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tTable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5560" y="4776840"/>
              <a:ext cx="10666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t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59040" y="4759200"/>
              <a:ext cx="1143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tAnaly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16480" y="5472000"/>
              <a:ext cx="11048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tDe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2080" y="5464080"/>
              <a:ext cx="10666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et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6480" y="6224760"/>
              <a:ext cx="11048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12080" y="6216480"/>
              <a:ext cx="10666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8160" y="1425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59040" y="1425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668320" y="1501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9040" y="241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72880" y="26449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3240" y="26449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68880" y="26449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1000" y="2416320"/>
              <a:ext cx="135000" cy="10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30440" y="1494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7640" y="1494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820600" y="1730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20960" y="1730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97480" y="1730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887640" y="1730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6280" y="11970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4680" y="304488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68880" y="11970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2560" y="1349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792760" y="13489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34000" y="37195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21160" y="4168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8680" y="43210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68680" y="30258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21160" y="30258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801680" y="4930920"/>
              <a:ext cx="5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9080" y="4473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69080" y="5159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9080" y="578340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26240" y="4413240"/>
              <a:ext cx="8388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3360" y="1438200"/>
              <a:ext cx="84240" cy="15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89400" y="1433520"/>
              <a:ext cx="8388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4234320" y="1126440"/>
              <a:ext cx="8388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4235760" y="1278720"/>
              <a:ext cx="8424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26240" y="5105520"/>
              <a:ext cx="8388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478560" y="5616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478560" y="637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6464520" y="5537880"/>
              <a:ext cx="8424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00000">
              <a:off x="6545880" y="5539680"/>
              <a:ext cx="8388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00000">
              <a:off x="6469560" y="6303240"/>
              <a:ext cx="8388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6541200" y="6296760"/>
              <a:ext cx="84240" cy="15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802480" y="6105600"/>
              <a:ext cx="134640" cy="10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45240" y="578484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477200" y="6107040"/>
              <a:ext cx="135000" cy="10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C96-E238-4EDC-B0CD-0D540D72FA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43164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OO Design Basic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2743200"/>
            <a:ext cx="4114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Zet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s the deck and the open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s and removes specified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s for a “set” in the open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rranges the open cards, filling gaps when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De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55680" y="1415880"/>
            <a:ext cx="5056200" cy="703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b8b8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each class implement a limited set of responsi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029-8046-42DF-9015-5317ADA463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65120" y="1754280"/>
            <a:ext cx="7039080" cy="3998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lass ComputerZetPlayer extends JPanel implements ZetPlayer, 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omputerZetPlayer (ZetGame gam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tGameModel gameModel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start ( 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stop ( 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int getScore( 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setScore(int score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oid declareZet ( 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 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 del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 scor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79560" y="514440"/>
            <a:ext cx="5554440" cy="703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b8b8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 classes; make classes interact via well-defined public constructors and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CF5-2BE7-4ECD-BC61-8B2C7193CB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2138400" y="1798560"/>
            <a:ext cx="5103360" cy="4102560"/>
            <a:chOff x="2138400" y="1798560"/>
            <a:chExt cx="5103360" cy="4102560"/>
          </a:xfrm>
        </p:grpSpPr>
        <p:sp>
          <p:nvSpPr>
            <p:cNvPr id="222" name=""/>
            <p:cNvSpPr/>
            <p:nvPr/>
          </p:nvSpPr>
          <p:spPr>
            <a:xfrm>
              <a:off x="3337920" y="1798560"/>
              <a:ext cx="8427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G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38400" y="197172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Men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37920" y="2381400"/>
              <a:ext cx="84276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57200" y="3014640"/>
              <a:ext cx="13831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uter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8280" y="3005280"/>
              <a:ext cx="13820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man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79840" y="3530880"/>
              <a:ext cx="12020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Displ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00320" y="4046760"/>
              <a:ext cx="120060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Mod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80320" y="4564080"/>
              <a:ext cx="8402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9480" y="4549680"/>
              <a:ext cx="90180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Analy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65560" y="5087160"/>
              <a:ext cx="8704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De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00080" y="508248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65560" y="5654880"/>
              <a:ext cx="8704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0080" y="565020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59240" y="2035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59480" y="20354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979000" y="2093040"/>
              <a:ext cx="48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59480" y="2782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218760" y="2954880"/>
              <a:ext cx="1020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19120" y="295488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40080" y="295488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05840" y="2782800"/>
              <a:ext cx="10620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9120" y="20869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9480" y="20869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098880" y="2265480"/>
              <a:ext cx="48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98880" y="2265480"/>
              <a:ext cx="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20080" y="2265480"/>
              <a:ext cx="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939480" y="2265480"/>
              <a:ext cx="48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61160" y="1863000"/>
              <a:ext cx="0" cy="218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0440" y="325656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40080" y="1863000"/>
              <a:ext cx="16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79960" y="197784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440680" y="1977840"/>
              <a:ext cx="0" cy="155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15760" y="376560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59960" y="410436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79000" y="421920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79000" y="3242160"/>
              <a:ext cx="0" cy="97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59960" y="3242160"/>
              <a:ext cx="0" cy="86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660200" y="4679280"/>
              <a:ext cx="40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00800" y="4334400"/>
              <a:ext cx="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00800" y="4851720"/>
              <a:ext cx="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00800" y="53222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66960" y="4288680"/>
              <a:ext cx="65880" cy="1148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04560" y="2044800"/>
              <a:ext cx="66240" cy="1148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47080" y="2041560"/>
              <a:ext cx="65880" cy="1148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4214160" y="1807200"/>
              <a:ext cx="63000" cy="119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215240" y="1922040"/>
              <a:ext cx="63360" cy="119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66960" y="4810680"/>
              <a:ext cx="65880" cy="1148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980680" y="519624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980680" y="577080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5971320" y="5134320"/>
              <a:ext cx="63360" cy="119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6035400" y="5135760"/>
              <a:ext cx="63000" cy="119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5975280" y="5711400"/>
              <a:ext cx="63000" cy="119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6031800" y="5706720"/>
              <a:ext cx="63360" cy="1202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48240" y="5564520"/>
              <a:ext cx="10584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21640" y="532332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768000" y="5565600"/>
              <a:ext cx="10620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V="1">
            <a:off x="1765440" y="3398760"/>
            <a:ext cx="5138640" cy="7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048040" y="3863880"/>
            <a:ext cx="5121000" cy="7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90760" y="4421160"/>
            <a:ext cx="51307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33840" y="4986360"/>
            <a:ext cx="51130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44880" y="5472000"/>
            <a:ext cx="5121360" cy="7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92240" y="2303640"/>
            <a:ext cx="5121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39680" y="473040"/>
            <a:ext cx="6685200" cy="703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b8b8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e classes in layers: classes in the top layers utilize simpler, more general classes from the bottom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95A-F5DB-4442-8D04-2AA66E1DD3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2138400" y="1798560"/>
            <a:ext cx="5103360" cy="4102560"/>
            <a:chOff x="2138400" y="1798560"/>
            <a:chExt cx="5103360" cy="4102560"/>
          </a:xfrm>
        </p:grpSpPr>
        <p:sp>
          <p:nvSpPr>
            <p:cNvPr id="286" name=""/>
            <p:cNvSpPr/>
            <p:nvPr/>
          </p:nvSpPr>
          <p:spPr>
            <a:xfrm>
              <a:off x="3337920" y="1798560"/>
              <a:ext cx="8427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G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38400" y="197172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Men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37920" y="2381400"/>
              <a:ext cx="84276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57200" y="3014640"/>
              <a:ext cx="13831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uter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8280" y="3005280"/>
              <a:ext cx="13820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man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79840" y="3530880"/>
              <a:ext cx="12020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Displ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00320" y="4046760"/>
              <a:ext cx="120060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Mod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80320" y="4564080"/>
              <a:ext cx="8402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59480" y="4549680"/>
              <a:ext cx="90180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Analy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65560" y="5087160"/>
              <a:ext cx="8704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De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00080" y="508248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5560" y="5654880"/>
              <a:ext cx="8704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00080" y="565020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59240" y="2035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59480" y="20354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979000" y="2093040"/>
              <a:ext cx="48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59480" y="2782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218760" y="2954880"/>
              <a:ext cx="1020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19120" y="295488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40080" y="295488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05840" y="2782800"/>
              <a:ext cx="10620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79120" y="20869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39480" y="20869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098880" y="2265480"/>
              <a:ext cx="48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98880" y="2265480"/>
              <a:ext cx="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20080" y="2265480"/>
              <a:ext cx="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939480" y="2265480"/>
              <a:ext cx="48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61160" y="1863000"/>
              <a:ext cx="0" cy="218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80440" y="325656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40080" y="1863000"/>
              <a:ext cx="16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79960" y="197784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440680" y="1977840"/>
              <a:ext cx="0" cy="155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15760" y="376560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59960" y="410436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79000" y="421920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79000" y="3242160"/>
              <a:ext cx="0" cy="97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59960" y="3242160"/>
              <a:ext cx="0" cy="86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660200" y="4679280"/>
              <a:ext cx="40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00800" y="4334400"/>
              <a:ext cx="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00800" y="4851720"/>
              <a:ext cx="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00800" y="53222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6960" y="4288680"/>
              <a:ext cx="65880" cy="1148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04560" y="2044800"/>
              <a:ext cx="66240" cy="1148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47080" y="2041560"/>
              <a:ext cx="65880" cy="1148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4214160" y="1807200"/>
              <a:ext cx="63000" cy="119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4215240" y="1922040"/>
              <a:ext cx="63360" cy="119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66960" y="4810680"/>
              <a:ext cx="65880" cy="1148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980680" y="519624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80680" y="5770800"/>
              <a:ext cx="4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5971320" y="5134320"/>
              <a:ext cx="63360" cy="119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6035400" y="5135760"/>
              <a:ext cx="63000" cy="119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5975280" y="5711400"/>
              <a:ext cx="63000" cy="119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6031800" y="5706720"/>
              <a:ext cx="63360" cy="1202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448240" y="5564520"/>
              <a:ext cx="10584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21640" y="532332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68000" y="5565600"/>
              <a:ext cx="10620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625920" y="4495680"/>
            <a:ext cx="2462040" cy="4651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59040" y="1539720"/>
            <a:ext cx="4584600" cy="29005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8360" y="5040360"/>
            <a:ext cx="2563920" cy="1017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17880" y="2314440"/>
            <a:ext cx="3246120" cy="10638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69840" y="555480"/>
            <a:ext cx="5521320" cy="703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b8b8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terdependences between classes, subsystem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EE2-7457-4332-8587-ABAA1F802E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936800" y="4200480"/>
            <a:ext cx="5838840" cy="22035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24400" y="4718160"/>
            <a:ext cx="4016160" cy="13017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54080" y="395280"/>
            <a:ext cx="4637160" cy="703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b8b8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tests for individual classes and sybsystems, where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097000" y="1579680"/>
            <a:ext cx="5104080" cy="4102200"/>
            <a:chOff x="2097000" y="1579680"/>
            <a:chExt cx="5104080" cy="4102200"/>
          </a:xfrm>
        </p:grpSpPr>
        <p:sp>
          <p:nvSpPr>
            <p:cNvPr id="351" name=""/>
            <p:cNvSpPr/>
            <p:nvPr/>
          </p:nvSpPr>
          <p:spPr>
            <a:xfrm>
              <a:off x="3297240" y="1579680"/>
              <a:ext cx="8431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G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97000" y="1752480"/>
              <a:ext cx="8413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Men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97240" y="2162160"/>
              <a:ext cx="84312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16160" y="2795760"/>
              <a:ext cx="13827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uter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36880" y="2786040"/>
              <a:ext cx="13827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man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38800" y="3311640"/>
              <a:ext cx="120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Displ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9280" y="3827520"/>
              <a:ext cx="12002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Mod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434484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8080" y="4330800"/>
              <a:ext cx="9014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Analy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24520" y="4869000"/>
              <a:ext cx="8697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De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59400" y="486396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24520" y="5435640"/>
              <a:ext cx="8697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59400" y="543096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17840" y="1816200"/>
              <a:ext cx="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18080" y="181620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938320" y="1874880"/>
              <a:ext cx="4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18080" y="25639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178080" y="2736720"/>
              <a:ext cx="1020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78080" y="273672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99040" y="273672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64080" y="2563920"/>
              <a:ext cx="10620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38440" y="186840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98800" y="186840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3057480" y="204624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7480" y="2046240"/>
              <a:ext cx="0" cy="74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78320" y="2046240"/>
              <a:ext cx="0" cy="74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898800" y="2046240"/>
              <a:ext cx="4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19760" y="1644480"/>
              <a:ext cx="0" cy="21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38680" y="303840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9040" y="164448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38560" y="175896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398920" y="175860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3640" y="35463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17840" y="3884760"/>
              <a:ext cx="5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38320" y="40006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38320" y="3024360"/>
              <a:ext cx="0" cy="9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7840" y="302436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619160" y="4459320"/>
              <a:ext cx="40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59400" y="41148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59400" y="463248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59400" y="510228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25920" y="4070520"/>
              <a:ext cx="66960" cy="1141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63880" y="1825560"/>
              <a:ext cx="65160" cy="1159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05320" y="1822320"/>
              <a:ext cx="66600" cy="1144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4173120" y="1587240"/>
              <a:ext cx="6336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5400000">
              <a:off x="4173840" y="1703880"/>
              <a:ext cx="63360" cy="1191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25920" y="4591080"/>
              <a:ext cx="66960" cy="1159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940360" y="497664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940360" y="555156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5400000">
              <a:off x="5930280" y="4914720"/>
              <a:ext cx="6336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5400000">
              <a:off x="5994000" y="4916520"/>
              <a:ext cx="6372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5933520" y="5492520"/>
              <a:ext cx="6336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990760" y="5487840"/>
              <a:ext cx="6336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407200" y="5346000"/>
              <a:ext cx="10620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80240" y="510372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26240" y="5346000"/>
              <a:ext cx="10620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124000" y="4349880"/>
            <a:ext cx="119556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ZetAnaly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237360" y="3784680"/>
            <a:ext cx="101124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Zet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62560" y="4324320"/>
            <a:ext cx="95904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ZetD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92520" y="5446800"/>
            <a:ext cx="95868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D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97360" y="5265720"/>
            <a:ext cx="2548080" cy="576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46640" y="4255920"/>
            <a:ext cx="1404720" cy="406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21000" y="4467240"/>
            <a:ext cx="379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54440" y="5572080"/>
            <a:ext cx="379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851440" y="4449600"/>
            <a:ext cx="403200" cy="40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826240" y="3944880"/>
            <a:ext cx="403200" cy="40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074-CEE8-4C52-8AF6-A27A358D7A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 flipH="1">
            <a:off x="6683040" y="5132520"/>
            <a:ext cx="490680" cy="5000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10160" y="2652840"/>
            <a:ext cx="190512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amework for other SET-type games and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965920" y="3836880"/>
            <a:ext cx="869760" cy="871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60720" y="4497480"/>
            <a:ext cx="4010040" cy="1603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80200" y="4543560"/>
            <a:ext cx="1295640" cy="9169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s for any card 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54080" y="395280"/>
            <a:ext cx="6432480" cy="1008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b8b8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reusable classes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amewor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xtendable systems of classes) when appropriate. (But do not overgeneralize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28640" y="1841400"/>
            <a:ext cx="5104080" cy="4102200"/>
            <a:chOff x="1628640" y="1841400"/>
            <a:chExt cx="5104080" cy="4102200"/>
          </a:xfrm>
        </p:grpSpPr>
        <p:sp>
          <p:nvSpPr>
            <p:cNvPr id="424" name=""/>
            <p:cNvSpPr/>
            <p:nvPr/>
          </p:nvSpPr>
          <p:spPr>
            <a:xfrm>
              <a:off x="2828880" y="1841400"/>
              <a:ext cx="8431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G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28640" y="2014200"/>
              <a:ext cx="8413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Men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28880" y="2423880"/>
              <a:ext cx="84312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47800" y="3057480"/>
              <a:ext cx="13827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uter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68520" y="3047760"/>
              <a:ext cx="13827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man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70440" y="3573360"/>
              <a:ext cx="120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Displ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90920" y="4089240"/>
              <a:ext cx="12002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Mod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0200" y="460656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49720" y="4592520"/>
              <a:ext cx="9014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Analy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56160" y="5130720"/>
              <a:ext cx="8697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De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91040" y="512568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56160" y="5697360"/>
              <a:ext cx="8697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91040" y="569268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949480" y="2077920"/>
              <a:ext cx="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49720" y="2077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469960" y="2136600"/>
              <a:ext cx="4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49720" y="282564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709720" y="2998440"/>
              <a:ext cx="1020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09720" y="2998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30680" y="2998440"/>
              <a:ext cx="0" cy="5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95720" y="2825640"/>
              <a:ext cx="10620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70080" y="213012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30440" y="213012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589120" y="230796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89120" y="2307960"/>
              <a:ext cx="0" cy="74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09960" y="2307960"/>
              <a:ext cx="0" cy="74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3430440" y="2307960"/>
              <a:ext cx="4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51400" y="1906200"/>
              <a:ext cx="0" cy="21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70320" y="330012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30680" y="190620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70200" y="20206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930560" y="202032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05280" y="380808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49480" y="4146480"/>
              <a:ext cx="5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69960" y="426240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69960" y="3286080"/>
              <a:ext cx="0" cy="9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49480" y="3286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150800" y="4721040"/>
              <a:ext cx="40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91040" y="437652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91040" y="48942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91040" y="536400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57560" y="4332240"/>
              <a:ext cx="66960" cy="1141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5520" y="2087280"/>
              <a:ext cx="65160" cy="1159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36960" y="2084040"/>
              <a:ext cx="66600" cy="1144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3704760" y="1848960"/>
              <a:ext cx="6336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5400000">
              <a:off x="3705480" y="1965600"/>
              <a:ext cx="63360" cy="1191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57560" y="4852800"/>
              <a:ext cx="66960" cy="1159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5472000" y="523836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472000" y="581328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5400000">
              <a:off x="5461920" y="5176440"/>
              <a:ext cx="6336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00000">
              <a:off x="5525640" y="5178240"/>
              <a:ext cx="6372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5400000">
              <a:off x="5465160" y="5754240"/>
              <a:ext cx="6336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5400000">
              <a:off x="5522400" y="5749560"/>
              <a:ext cx="6336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938840" y="5607720"/>
              <a:ext cx="10620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11880" y="536544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257880" y="5607720"/>
              <a:ext cx="10620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354560" y="5502240"/>
            <a:ext cx="2574720" cy="541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2E4-4206-4B7E-96E9-3A4F024373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265800" y="3956040"/>
            <a:ext cx="90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70480" y="4710240"/>
            <a:ext cx="824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00720" y="5006880"/>
            <a:ext cx="870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299360" y="4719600"/>
            <a:ext cx="8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048360" y="4352760"/>
            <a:ext cx="658800" cy="33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740640" y="4343400"/>
            <a:ext cx="1440" cy="66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73760" y="4352760"/>
            <a:ext cx="674640" cy="3366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64000" y="3186000"/>
            <a:ext cx="1390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64200" y="3297240"/>
            <a:ext cx="1365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919560" y="3678120"/>
            <a:ext cx="26028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35840" y="3579840"/>
            <a:ext cx="34596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41880" y="2852640"/>
            <a:ext cx="3422520" cy="2873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20600" y="453960"/>
            <a:ext cx="4206960" cy="703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b8b8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established design patterns, when applic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95480" y="1708200"/>
            <a:ext cx="397980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del-View-Controll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.k.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serve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patter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(s) trigger changes i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notifies all the “view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bservers) that it has 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ews are upd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2A7-E2AE-45BD-8157-4D107FDD66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MVC in SE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614600" y="2427120"/>
            <a:ext cx="6189480" cy="15573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706400" y="1308240"/>
            <a:ext cx="5104080" cy="4102200"/>
            <a:chOff x="1706400" y="1308240"/>
            <a:chExt cx="5104080" cy="4102200"/>
          </a:xfrm>
        </p:grpSpPr>
        <p:sp>
          <p:nvSpPr>
            <p:cNvPr id="498" name=""/>
            <p:cNvSpPr/>
            <p:nvPr/>
          </p:nvSpPr>
          <p:spPr>
            <a:xfrm>
              <a:off x="2906640" y="1308240"/>
              <a:ext cx="8431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G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06400" y="1481040"/>
              <a:ext cx="84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Men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06640" y="1890720"/>
              <a:ext cx="84312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25560" y="2523960"/>
              <a:ext cx="13827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uter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46640" y="2514600"/>
              <a:ext cx="138240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manZetP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48200" y="3039840"/>
              <a:ext cx="120168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Displ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68680" y="3555720"/>
              <a:ext cx="120024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Mod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48320" y="4073400"/>
              <a:ext cx="8413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27480" y="4059000"/>
              <a:ext cx="90180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Analy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33920" y="4597200"/>
              <a:ext cx="8701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De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69160" y="4592520"/>
              <a:ext cx="8413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t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33920" y="5164200"/>
              <a:ext cx="8701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69160" y="5159160"/>
              <a:ext cx="8413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27240" y="1544400"/>
              <a:ext cx="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27480" y="154440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547720" y="160344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27480" y="22921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2787480" y="2465280"/>
              <a:ext cx="1020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87480" y="2465280"/>
              <a:ext cx="0" cy="5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08440" y="2465280"/>
              <a:ext cx="0" cy="5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73480" y="2292120"/>
              <a:ext cx="106200" cy="82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48200" y="159696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08560" y="159696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2666520" y="1774800"/>
              <a:ext cx="48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66880" y="177480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87720" y="177480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508200" y="177480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29160" y="1373040"/>
              <a:ext cx="0" cy="21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48080" y="276696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8440" y="137304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47960" y="148752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008680" y="1487160"/>
              <a:ext cx="0" cy="155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83040" y="327492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27600" y="3612960"/>
              <a:ext cx="54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48080" y="3728880"/>
              <a:ext cx="19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48080" y="2752560"/>
              <a:ext cx="0" cy="9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27600" y="2752560"/>
              <a:ext cx="0" cy="86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229280" y="418788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68800" y="3843360"/>
              <a:ext cx="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68800" y="436068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68800" y="483048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5680" y="3798720"/>
              <a:ext cx="66600" cy="1141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473280" y="1554120"/>
              <a:ext cx="65160" cy="1155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14720" y="1550880"/>
              <a:ext cx="66600" cy="1141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5400000">
              <a:off x="3782880" y="1315800"/>
              <a:ext cx="6300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5400000">
              <a:off x="3783600" y="1432440"/>
              <a:ext cx="63000" cy="1191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35680" y="4319640"/>
              <a:ext cx="66600" cy="1152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5549400" y="470520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5549400" y="527976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5400000">
              <a:off x="5540400" y="4643280"/>
              <a:ext cx="6300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5400000">
              <a:off x="5603760" y="4644720"/>
              <a:ext cx="6300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5400000">
              <a:off x="5543640" y="5220720"/>
              <a:ext cx="63000" cy="1209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5400000">
              <a:off x="5600160" y="5216040"/>
              <a:ext cx="63360" cy="120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016600" y="5075280"/>
              <a:ext cx="106200" cy="82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89640" y="4832280"/>
              <a:ext cx="0" cy="27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335640" y="5075280"/>
              <a:ext cx="106560" cy="82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039000" y="2871720"/>
            <a:ext cx="841320" cy="550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java.uti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1320" y="3166920"/>
            <a:ext cx="7160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5400000">
            <a:off x="5926680" y="3126600"/>
            <a:ext cx="106200" cy="82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453360" y="3487680"/>
            <a:ext cx="942840" cy="398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.uti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73600" y="3692520"/>
            <a:ext cx="71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5400000">
            <a:off x="6348600" y="3651840"/>
            <a:ext cx="106560" cy="82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97160" y="4338720"/>
            <a:ext cx="1420560" cy="3682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292480" y="2812680"/>
            <a:ext cx="1390680" cy="139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2149560" y="2836800"/>
            <a:ext cx="1440" cy="1370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38840" y="1341360"/>
            <a:ext cx="1436760" cy="6426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(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109840" y="2041560"/>
            <a:ext cx="974520" cy="9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00920" y="4411800"/>
            <a:ext cx="1538280" cy="6426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(Observ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5732640" y="3862440"/>
            <a:ext cx="1242720" cy="676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F8D-70A3-455E-B05F-3B53C1F72B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8800" y="1676520"/>
            <a:ext cx="5562720" cy="2844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hank Marsha Jean Falco, president of SET Enterprises, Inc. (and the inventor of the SET game) for the permission to use SET in this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very grateful to Gary Litvin for his help with the program design and implementation of the GUI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9E1-E65C-48C2-AF6C-EB77D499DF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eam Develop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87400" y="4187880"/>
            <a:ext cx="990720" cy="3373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79560" y="5284800"/>
            <a:ext cx="990720" cy="3373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29160" y="1521000"/>
            <a:ext cx="842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G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428920" y="1693800"/>
            <a:ext cx="841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29160" y="2103480"/>
            <a:ext cx="842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Zet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48080" y="2736720"/>
            <a:ext cx="13824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Zet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68800" y="2727360"/>
            <a:ext cx="1382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Zet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70360" y="3252960"/>
            <a:ext cx="12016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Table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91200" y="3768840"/>
            <a:ext cx="12002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Table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4683240"/>
            <a:ext cx="841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049640" y="4668840"/>
            <a:ext cx="9018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Analy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56080" y="5397480"/>
            <a:ext cx="8701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D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91320" y="5392800"/>
            <a:ext cx="841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56080" y="5964120"/>
            <a:ext cx="8701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91320" y="5959440"/>
            <a:ext cx="841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49760" y="1757520"/>
            <a:ext cx="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049640" y="17575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270240" y="181620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49640" y="250524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509640" y="2678040"/>
            <a:ext cx="1020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10000" y="2678040"/>
            <a:ext cx="0" cy="5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30600" y="2678040"/>
            <a:ext cx="0" cy="5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2505240"/>
            <a:ext cx="106560" cy="82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70360" y="1809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30720" y="1809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3389400" y="19875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89400" y="19875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10240" y="19875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230720" y="198756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51680" y="1585800"/>
            <a:ext cx="0" cy="218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70600" y="297972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530600" y="1585800"/>
            <a:ext cx="16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70480" y="170028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730840" y="1699920"/>
            <a:ext cx="0" cy="15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05560" y="34876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49760" y="3825720"/>
            <a:ext cx="5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70240" y="3941640"/>
            <a:ext cx="192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70240" y="2965320"/>
            <a:ext cx="0" cy="9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49760" y="296532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51440" y="4797360"/>
            <a:ext cx="40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91320" y="4040280"/>
            <a:ext cx="0" cy="64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91320" y="4992840"/>
            <a:ext cx="0" cy="39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566568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57840" y="4011480"/>
            <a:ext cx="66600" cy="114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5800" y="1766880"/>
            <a:ext cx="65160" cy="115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36880" y="1763640"/>
            <a:ext cx="66960" cy="114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5400000">
            <a:off x="4505400" y="1528560"/>
            <a:ext cx="63360" cy="120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5400000">
            <a:off x="4505760" y="1645200"/>
            <a:ext cx="63360" cy="1191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57840" y="4929120"/>
            <a:ext cx="66600" cy="115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272280" y="55054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272280" y="608004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400000">
            <a:off x="6262200" y="5443560"/>
            <a:ext cx="63720" cy="120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5400000">
            <a:off x="6326280" y="5445000"/>
            <a:ext cx="63360" cy="120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5400000">
            <a:off x="6265440" y="6021360"/>
            <a:ext cx="63720" cy="120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5400000">
            <a:off x="6322680" y="6016680"/>
            <a:ext cx="63720" cy="120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738760" y="5875200"/>
            <a:ext cx="106560" cy="82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112160" y="565776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7058160" y="5875200"/>
            <a:ext cx="106200" cy="82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909880" y="4292640"/>
            <a:ext cx="119556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ZetAnaly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72080" y="4292640"/>
            <a:ext cx="101124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Zet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06800" y="5392800"/>
            <a:ext cx="95904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ZetD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08600" y="5975280"/>
            <a:ext cx="95868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D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832200" y="4546440"/>
            <a:ext cx="209520" cy="21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962600" y="6100920"/>
            <a:ext cx="379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76480" y="1155600"/>
            <a:ext cx="1084320" cy="3373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93760" y="1155600"/>
            <a:ext cx="3581640" cy="19051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41680" y="3137040"/>
            <a:ext cx="990720" cy="3373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541680" y="3137040"/>
            <a:ext cx="2971800" cy="9493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67280" y="5513400"/>
            <a:ext cx="379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79560" y="5253120"/>
            <a:ext cx="4953240" cy="10764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51600" y="4556160"/>
            <a:ext cx="209520" cy="210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752480" y="4173480"/>
            <a:ext cx="4633920" cy="9334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DA2-A997-4B1F-ADA8-6BA4B4FFE3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6370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eam Development (cont’d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46000" y="334656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TestD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Zet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ZetD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TestZetDe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22320" y="2584440"/>
            <a:ext cx="1523880" cy="6426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-6 peo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79720" y="1593720"/>
            <a:ext cx="320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84440" y="227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9920" y="205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84440" y="22795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23120" y="227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71920" y="33465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ZetAnaly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TestZetAnaly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Zet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TestZet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47880" y="2584440"/>
            <a:ext cx="1524240" cy="6426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-4 peo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0000" y="227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56240" y="363204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ZetTable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ZetGame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0680" y="2584440"/>
            <a:ext cx="1735200" cy="9169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ode suppl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2-3 peo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4320" y="227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37320" y="334656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Zet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Zet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Zet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ComputerZet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90a8"/>
                </a:solidFill>
                <a:latin typeface="Arial"/>
              </a:rPr>
              <a:t>HumanZetPlay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37320" y="2584440"/>
            <a:ext cx="1676520" cy="6426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ode suppl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98840" y="2660760"/>
            <a:ext cx="0" cy="2400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62560" y="2660760"/>
            <a:ext cx="0" cy="2400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94400" y="2660760"/>
            <a:ext cx="0" cy="2400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870-C602-4EEC-A28B-9830C5388B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72880" y="457200"/>
            <a:ext cx="659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velopers — Group 1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-6 peo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D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TestD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D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TestZetD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structors and “get”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.util.Array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Sort or Collections.sort(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, super(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40520" y="2379600"/>
            <a:ext cx="869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D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475400" y="2374920"/>
            <a:ext cx="8416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140520" y="2946240"/>
            <a:ext cx="869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475400" y="2941560"/>
            <a:ext cx="8416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575400" y="264780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7056360" y="248760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7056360" y="306216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5400000">
            <a:off x="7046640" y="2425320"/>
            <a:ext cx="63720" cy="120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7110000" y="2427120"/>
            <a:ext cx="63360" cy="120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5400000">
            <a:off x="7049520" y="3003480"/>
            <a:ext cx="63360" cy="120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5400000">
            <a:off x="7106760" y="2998800"/>
            <a:ext cx="63720" cy="120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523200" y="2856960"/>
            <a:ext cx="106200" cy="82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896240" y="263988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7842240" y="2856960"/>
            <a:ext cx="106200" cy="82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91240" y="2374920"/>
            <a:ext cx="95868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ZetD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92680" y="2957400"/>
            <a:ext cx="95868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D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3083040"/>
            <a:ext cx="379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51360" y="2495520"/>
            <a:ext cx="379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D1B-035D-4861-850E-0957831F5E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1447560" y="1752480"/>
            <a:ext cx="4343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TestZet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Analy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TestZetAnaly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o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velopers — Group 2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-4 peo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207200" y="3200400"/>
            <a:ext cx="841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6360" y="3186000"/>
            <a:ext cx="9018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Analy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788160" y="3314880"/>
            <a:ext cx="40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46600" y="2809800"/>
            <a:ext cx="119556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ZetAnaly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08800" y="2809800"/>
            <a:ext cx="101124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stZet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68920" y="3063960"/>
            <a:ext cx="209520" cy="210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88320" y="3073320"/>
            <a:ext cx="209520" cy="21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5AC-963E-4925-A960-57ABD4218E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1447560" y="1828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Table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Game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C concept and java.util.Observer / Obser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velopers — Group 3</a:t>
            </a:r>
            <a:br>
              <a:rPr sz="36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de is Suppli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or 2-3 peop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850000" y="2637000"/>
            <a:ext cx="12016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Table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70480" y="3152880"/>
            <a:ext cx="12002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Table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84840" y="287172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BEF-5532-41F7-A3CE-27315255A6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ComputerZet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HumanZet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requisite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x.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, keyboard, and timer event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velopers — Group 4</a:t>
            </a:r>
            <a:br>
              <a:rPr sz="36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de is Suppl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318360" y="2163600"/>
            <a:ext cx="842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G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18120" y="2360520"/>
            <a:ext cx="8413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t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18360" y="2770200"/>
            <a:ext cx="842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Zet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37280" y="3403440"/>
            <a:ext cx="1382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Zet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0" y="3402000"/>
            <a:ext cx="1382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Zet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38960" y="2424240"/>
            <a:ext cx="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730920" y="2443320"/>
            <a:ext cx="792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959440" y="248292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738840" y="317196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198840" y="3344760"/>
            <a:ext cx="1020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99200" y="3344760"/>
            <a:ext cx="0" cy="5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219800" y="3344760"/>
            <a:ext cx="0" cy="5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684840" y="3171960"/>
            <a:ext cx="106560" cy="82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59560" y="247644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919920" y="247644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6078600" y="265428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78600" y="265428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99440" y="265428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6919920" y="265428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5000" y="2425680"/>
            <a:ext cx="65160" cy="115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526080" y="2430360"/>
            <a:ext cx="66960" cy="114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161-48E9-497F-B975-4FD6C1998F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352680" y="533520"/>
            <a:ext cx="2484720" cy="8380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Group 1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371600" y="1981080"/>
            <a:ext cx="2362320" cy="3682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1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-3 peo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1981080"/>
            <a:ext cx="2895480" cy="33530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4775040"/>
            <a:ext cx="1523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95480" y="41148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33720" y="3632040"/>
            <a:ext cx="1523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33720" y="2514600"/>
            <a:ext cx="1523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29718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81480" y="1981080"/>
            <a:ext cx="2514600" cy="3682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2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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-3 peo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81480" y="1981080"/>
            <a:ext cx="2895840" cy="33530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91320" y="4775040"/>
            <a:ext cx="1676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t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05720" y="41148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791320" y="3632040"/>
            <a:ext cx="1676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t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91320" y="2514600"/>
            <a:ext cx="1676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Zet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05720" y="29718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380988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rot="16200000">
            <a:off x="3656520" y="3733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33920" y="495288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rot="16200000">
            <a:off x="3656520" y="4876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179-65C4-4DA2-AFF3-4E7C11CEFB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591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lass Card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implements Comparable&lt;Card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219320" y="2117880"/>
            <a:ext cx="5715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a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t id)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et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qu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ject other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mpare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rd other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Str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 Fiel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72200" y="152280"/>
            <a:ext cx="281952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  Task 1-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7FE-BDFB-47CE-92CE-A516BF800B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5913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lass De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219320" y="1600200"/>
            <a:ext cx="7619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t capacity) { ... }      // creates an empty 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  of given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etNumCar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sEmp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rd card)  { ... }  // adds card to the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ar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akeTo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 { ... }         // removes card from the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uff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Str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 Fiel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867280" y="152280"/>
            <a:ext cx="31244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  Task 1-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0" y="5638680"/>
            <a:ext cx="35812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implementation tips in </a:t>
            </a:r>
            <a:r>
              <a:rPr b="1" lang="en-US" sz="2000" spc="-1" strike="noStrike">
                <a:solidFill>
                  <a:srgbClr val="5490a8"/>
                </a:solidFill>
                <a:latin typeface="Arial"/>
              </a:rPr>
              <a:t>Deck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9B2-9139-49FA-A5AE-06E60C2A64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19320" y="1126800"/>
            <a:ext cx="5913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lass TestDe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19320" y="1812960"/>
            <a:ext cx="60195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 empty 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few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uff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cards one by 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out after each removed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67280" y="152280"/>
            <a:ext cx="31244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  Task 1-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9A7-C56E-4E82-AF2E-A2A15DAB26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SET Gam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is a simple card game which is gaining popula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http://www.setgam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the official rules, examples, game variations, and other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egistered trademark of SET Enterpris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43F-06A8-44FE-A604-6619926511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591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lass ZetCard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extends C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19320" y="1660680"/>
            <a:ext cx="6019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ombines the four attributes to mak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  unique ID in the range from 0 to 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ZetCa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t number, int shap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fill, int color)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et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etShap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etFi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etCol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Str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Fiel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172200" y="152280"/>
            <a:ext cx="281952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  Task 2-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286-5956-4614-85FC-5C05D92F87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5913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lass ZetDe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15238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ZetD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{ ... }       // creates a full deck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  81 SET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67280" y="152280"/>
            <a:ext cx="31244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  Task 2-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19320" y="4327560"/>
            <a:ext cx="591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lass TestZetD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5089680"/>
            <a:ext cx="6019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 Zet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and print out three top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67280" y="3413160"/>
            <a:ext cx="31244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  Task 2-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32004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C8A-6226-4059-82CE-CA8946B399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352680" y="533520"/>
            <a:ext cx="2484720" cy="8380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Group 2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1981080"/>
            <a:ext cx="2514600" cy="3682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1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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-2 peo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95280" y="1981080"/>
            <a:ext cx="2971800" cy="28195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52480" y="3936960"/>
            <a:ext cx="2133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tAnaly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52480" y="2819520"/>
            <a:ext cx="2133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ZetAnaly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276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1981080"/>
            <a:ext cx="2667240" cy="3682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2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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-2 peo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1981080"/>
            <a:ext cx="2895840" cy="28195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4120" y="3936960"/>
            <a:ext cx="1904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t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4120" y="2819520"/>
            <a:ext cx="1904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Zet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286680" y="3276720"/>
            <a:ext cx="144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3886200" y="41148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739-C75B-4A1E-A983-D226B3269E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19320" y="1203120"/>
            <a:ext cx="5913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lass ZetAnalyz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219320" y="1889280"/>
            <a:ext cx="7619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boolea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sZ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etCard card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tCard card2, ZetCard card3)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int[ ]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indZ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etCard[ ] cards)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867280" y="152280"/>
            <a:ext cx="31244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  Task 1-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09880" y="4175280"/>
            <a:ext cx="358164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implementation tips in </a:t>
            </a:r>
            <a:r>
              <a:rPr b="1" lang="en-US" sz="2000" spc="-1" strike="noStrike">
                <a:solidFill>
                  <a:srgbClr val="5490a8"/>
                </a:solidFill>
                <a:latin typeface="Arial"/>
              </a:rPr>
              <a:t>ZetAnalyzer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059-D760-40DD-8312-C2D05BCBFF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1279440"/>
            <a:ext cx="5913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lass TestZetAnalyz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1965240"/>
            <a:ext cx="66294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nd print out a few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print out all “sets” by calling </a:t>
            </a: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isZ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plets of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d print out one “set” by calling </a:t>
            </a: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findZ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152280"/>
            <a:ext cx="31244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  Task 1-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CD6-8BA2-4495-8311-A616D38A9E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19320" y="1279440"/>
            <a:ext cx="5913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lass Zet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219320" y="196524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67280" y="228600"/>
            <a:ext cx="31244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  Task 2-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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38280" y="3489480"/>
            <a:ext cx="358164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specs in the javadoc docs and the implementation tips in </a:t>
            </a:r>
            <a:r>
              <a:rPr b="1" lang="en-US" sz="2000" spc="-1" strike="noStrike">
                <a:solidFill>
                  <a:srgbClr val="5490a8"/>
                </a:solidFill>
                <a:latin typeface="Arial"/>
              </a:rPr>
              <a:t>ZetTabl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B75-9101-447D-973F-67061CBC7A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5913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lass TestZet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219320" y="1905120"/>
            <a:ext cx="6553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javadoc documentation for </a:t>
            </a: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Tabl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a SET game for one p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table.findZet 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while a “set” is not fou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table.open3Cards 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if it returns fal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me i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out the “s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table.remove3Cards (..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o remove the “s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enough cards open ( </a:t>
            </a: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! table.enoughOpen(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3 more cards; if can’t open, the 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he above steps until the deck is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867280" y="152280"/>
            <a:ext cx="31244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  Task 2-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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56D-96B3-4010-83EC-356CA63772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en everyone has finished..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254240" y="1646280"/>
            <a:ext cx="6294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leader collects the code from the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leader adds the supplied class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01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A (Quality Assurance) team (everyone) tests th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21120" y="3443400"/>
            <a:ext cx="3200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Computer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Human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82840" y="3443400"/>
            <a:ext cx="3200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M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Game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ZetTable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5D5-AD9E-4039-811B-0265476A4C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17324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599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P helped us split the project into small classes with well-defined limited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helped us minimize documentation and interactions between develo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ABD-CAF1-4BAD-8EE7-5903935574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7324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ummary (cont’d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6808680" cy="32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helped us make some of the classes (</a:t>
            </a: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C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D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reusable and to create a framework (</a:t>
            </a: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ZetC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ZetD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ZetAnalyz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Zet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other SET-type games and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 helped us reuse the code from </a:t>
            </a: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D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ZetD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made it easier to add different types of p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DBE-725A-427C-B9D8-3E107B2EF05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SET Game (cont’d)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3612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deck consists of 81 cards.  A card has four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ymbols (1, 2, or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shape (oval, squiggle, or diamo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fill (outlined, striped, or sol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color (red, green, or b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set” is three cards, such that for each attribute its values for the cards are eith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ame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14600" y="5638680"/>
            <a:ext cx="1009800" cy="66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0" y="5638680"/>
            <a:ext cx="1000080" cy="657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4120" y="5638680"/>
            <a:ext cx="990360" cy="65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2160" y="5540400"/>
            <a:ext cx="1655640" cy="6426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xample of a “s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482880" y="5992560"/>
            <a:ext cx="381240" cy="3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EAF-BD0B-444D-865F-FDB9D34484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936720" y="1052280"/>
            <a:ext cx="77724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lides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me of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se study code are posted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ttp://www.skylit.com/oo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structorNotes.doc</a:t>
            </a:r>
            <a:r>
              <a:rPr b="0" lang="en-US" sz="2800" spc="-1" strike="noStrike">
                <a:solidFill>
                  <a:srgbClr val="5490a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ggestions on how to run this project with you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questions and comments about this projec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litvin@andover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253-8B24-4E16-9C9A-984E71D9226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SET Game (cont’d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606320"/>
            <a:ext cx="73612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start of the game, 12 cards are open and all the players look for a “set” in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yer who sees a set announces, “Set!” then promptly points to the three cards of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ards indeed form a set, these cards are removed and replaced with three cards from the deck, and the player gets one point; otherwise, the cards remain on the table, and the player loses on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the players agree that the open cards don’t have any sets, 3 additional cards are op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B41-C050-46D4-AE47-B9445C6A36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2960" y="279360"/>
            <a:ext cx="728496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puter SE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73360" y="6229440"/>
            <a:ext cx="1447560" cy="3682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60680" y="5410080"/>
            <a:ext cx="792000" cy="7956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3276720"/>
            <a:ext cx="1271520" cy="6426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n 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705360" y="3733920"/>
            <a:ext cx="6094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200400"/>
            <a:ext cx="1143000" cy="3682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“S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05120" y="3276360"/>
            <a:ext cx="533160" cy="152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429000"/>
            <a:ext cx="160020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3429000"/>
            <a:ext cx="761760" cy="990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9560" y="2895480"/>
            <a:ext cx="6858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19560" y="4952880"/>
            <a:ext cx="6858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705720" y="2895120"/>
            <a:ext cx="0" cy="2057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56080" y="701640"/>
            <a:ext cx="2001960" cy="6426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spee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208040" y="1378080"/>
            <a:ext cx="777960" cy="771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08680" y="811080"/>
            <a:ext cx="1462320" cy="3682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!”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76560" y="1168560"/>
            <a:ext cx="1292040" cy="1299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72C-89C1-4F69-B838-C038B5E204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dentifying Classes — CRC Card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C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s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onsibilities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laborators) cards facilitate brainstorming for identifying classes in an OO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C card is usually an index card that lists a class, its responsibilities, and helper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C cards are informal; responsibilites are listed with few details (not a list of the class’s metho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85A-62CE-4724-BD1E-D46D05A98A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6560" y="228600"/>
            <a:ext cx="583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RC Cards for SE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219320"/>
            <a:ext cx="31244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Zet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s a SET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s card attributes (color, fill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2971800"/>
            <a:ext cx="31244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ZetD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s 81 SE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uffles and sorts the d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s cards one at a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C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4724280"/>
            <a:ext cx="31244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Zet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s the deck and the open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s and removes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s for a “se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De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1676520"/>
            <a:ext cx="3124080" cy="20142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fortunately, the name of the game, SET, clashes with java.util.Set and with names of setter methods.  To avoid confusion, in this case study we us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lass and method nam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0D9-5D71-4D80-AFF9-9A2F2A70BA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6920" y="228600"/>
            <a:ext cx="652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RC Cards for SET (cont’d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2971440"/>
            <a:ext cx="31240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ZetGame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s track of the card table and the picked c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s the display as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Table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4724280"/>
            <a:ext cx="31240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ZetTable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s the open cards, picked cards, and the d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Game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1219320"/>
            <a:ext cx="31240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mputerZetP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s computer’s control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timer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s computer’s 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Game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2971800"/>
            <a:ext cx="31240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HumanZetP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s guest’s control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s keyboard / 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s guest’s 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Game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4724280"/>
            <a:ext cx="31240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Zet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es 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and manages the players and the gam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Game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1219320"/>
            <a:ext cx="31240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Zet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s whether three cards form a “se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99cc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s a “set” in a given array of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90a8"/>
                </a:solidFill>
                <a:latin typeface="Arial"/>
              </a:rPr>
              <a:t>Zet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9B7-BC30-45BA-B7C8-D98C7E2E9F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02:22:08Z</dcterms:created>
  <dc:creator>Gary Litvin</dc:creator>
  <dc:description/>
  <dc:language>en-US</dc:language>
  <cp:lastModifiedBy>Gary Litvin</cp:lastModifiedBy>
  <cp:lastPrinted>2004-04-20T13:16:32Z</cp:lastPrinted>
  <dcterms:modified xsi:type="dcterms:W3CDTF">2007-05-06T23:54:49Z</dcterms:modified>
  <cp:revision>178</cp:revision>
  <dc:subject>Chapter 1</dc:subject>
  <dc:title>Object-Oriented Programming in the Classroom</dc:title>
</cp:coreProperties>
</file>