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C668-2E89-49D6-9FD0-AF77DB6B3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hierarchies is the heart of O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rror checking: if a concrete (non-abstract) class extends an abstract class, it must override all of the abstract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arts the new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erarchy added in Java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class’s constructors are called using the keywor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s discussed shor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urns a string that holds object’s class name and hex address in memory -- not very useful for most classes.  For example, if we comment out for a moment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in Fraction and 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out.println(new Fraction(2, 3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see something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action@7d77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overrid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o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our class if we want to convert our objects to strings in a meaningful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sses “up” all the parameters received b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al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s constructor.  In general, this does not have to be the c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rror message pops up unexpectedly and appears quite puzz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class’s constructor is called to initialize superclass’s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Ste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lls superclass’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Ste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e same method that it overrides.  This is common, but, in general, a method can explicitly call any method of the superclass.  For example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Ste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uld call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per.stop(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classes of library classes also often call superclass’s constructors. 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class Hello extends J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Hello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per("Hello, World");  // sets the title 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 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mputer world, the term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fers to any mechanism that connects two devices or entities and defines the rules for their inter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lso finish the </a:t>
            </a:r>
            <a:r>
              <a:rPr b="0" i="1" lang="en-US" sz="1200" spc="-1" strike="noStrike">
                <a:solidFill>
                  <a:srgbClr val="000000"/>
                </a:solidFill>
                <a:latin typeface="Garamond"/>
              </a:rPr>
              <a:t>Dance Studio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project, started in Chapter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face can also have public static const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sufficient to supply all the methods -- we must state “implements” in the class’s he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tract class can supply some of the interface’s methods, leaving others abs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advantage of interfaces over abstract classes is that a class can implement several interfaces but extend only one super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viously an interface cannot help to factor out common code from several classes (because an interface does not have any executable code); but an interface can help to eliminate duplicate code by letting us write more general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 in a hierarchy accumulates all the secondary data types of its ancestors, including all the interfaces that they imp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concrete class implements several interfaces, it must supply all of their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 is Java’s response to “multiple inheritan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ically positioned interfaces in this application add flexibility.  For example, in Chapter 3 we were able to easily tur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ance Stud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rst Ste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replacing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nceGro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nc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with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alkingGro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al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(or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cingGro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c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cribe two ways for eliminating duplicate code using class hierarch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out common code and writing more general methods that take more generic para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an abstract cla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 that has one or several abstract methods and is declared abs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y is it better to use an abstract method rather than an empty meth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iler makes sure that a concrete class overrides an abstract method, so you can’t accidentally forget to overrid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e concrete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 that is not abstract: all methods are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happens when a constructor of a subclass does not have a super statement?  Is superclass’s constructor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.  Superclass’s no-args constructor is called, and it must exist then (either defined explicitly or provided by default, when no constructors are explicitly defin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bclass inherits all the fields and methods of its superclass, but not constru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an abstract class be instanti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meMethod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have a cal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per.someMethod2(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happens if, by mistake, a programmer puts in h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method a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intComponent(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ead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e recursion, which blows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the main difference between an abstract class and an inte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tract class can have fields, constructors, and regular methods; an interface does not have any executable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a class implement several interfa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that’s the whol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ppose you declare a variable of an interface type.  What type of value can be assigned to that vari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 of any class that implements the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the main advantage of interfaces over abstract cla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 can implement several interf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as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ip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generic class that represents any kind of “creature” that moves on two legs.  (The term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ip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es from Latin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ans “two,”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ans “foot.”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classes share a lot of code, it makes sense to define a common superclass and factor out common code into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nheritance helps to eliminate duplicating code in two ways: (1) by factoring out common code and (2) by writing more general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implements polymorphism through a technique known a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method bind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which method to call is defined at run time, not compile time.  Each object holds a table of entry points to its methods, so each object itself knows exactly what to do when one of its methods is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ass to a method a specific type of object.  Inside the method the object is disguised as a more generic type, but “deep inside” it still “knows” what type of object i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tract class can have fields, constructors, and regular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77E-7668-45A0-8D58-D9990B6C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3E0-C7D4-4D44-AF9D-DC7A6AC2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0FD-F279-41EF-A4F5-C9FB25F5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56C-7DD2-4D7D-92C8-E005D405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58A-A712-4EA0-BF6C-A376B46A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283-0BA9-4AD8-B031-85C40A78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88C-C4F9-4B9F-A416-1E1E7476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C87-0B5E-4C11-A1F2-37387BB9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353-7A85-4F2A-9872-BE1C99B2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60F-FCD1-4FCB-9849-A0A4083E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D8A-F34F-4D88-B14F-C481841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0C2-6609-41B8-AE0D-DE19B053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-</a:t>
            </a:r>
            <a:fld id="{A95E2E86-F745-497E-84A0-E0DE088B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93720" y="527364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Hierarchies a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17920" y="430200"/>
            <a:ext cx="394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 &amp;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25840" y="14000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17920" y="2228760"/>
            <a:ext cx="394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06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305160" y="2876400"/>
          <a:ext cx="2743200" cy="22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876400"/>
                    <a:ext cx="2743200" cy="22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1000" y="343080"/>
            <a:ext cx="1514160" cy="19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BE2-4E64-4AD5-BF31-F83F24F10F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bstract Class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tract classes serve as common superclasses for more specific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bstract method provides an opportunity for the compiler to do additional error check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tract classes and methods are needed for polymorphism to 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stract classes are closer to the root of the hierarchy; they describe more abstract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C81-BC4C-4E94-9A66-8E2856224C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bstract Class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370160" y="1714680"/>
          <a:ext cx="6777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714680"/>
                    <a:ext cx="6777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987560" y="5064120"/>
            <a:ext cx="539892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ragment of Java library GUI class hierarchy (abstract classes are box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A92-E4E6-4D95-B946-0EE18D2F2E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bstract Class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does not allow us to instantiate (that is, create objects of) abstrac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ill, an abstract class can have constructors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y can be called from constructors of subclass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lass with no abstract methods is calle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oncre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1E0-1B22-46B3-A7EF-C597BAA75E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Java every class by default extends a library cl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la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7480" indent="-267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7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4800" y="3262320"/>
            <a:ext cx="5321520" cy="2838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ring toString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oolean equals (Object other) {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nt hashCode()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a few other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86280" y="3840120"/>
            <a:ext cx="88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86280" y="5884920"/>
            <a:ext cx="88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669000" y="3840120"/>
            <a:ext cx="0" cy="2044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660720" y="3909960"/>
            <a:ext cx="1160640" cy="968400"/>
            <a:chOff x="6660720" y="3909960"/>
            <a:chExt cx="1160640" cy="968400"/>
          </a:xfrm>
        </p:grpSpPr>
        <p:sp>
          <p:nvSpPr>
            <p:cNvPr id="154" name=""/>
            <p:cNvSpPr/>
            <p:nvPr/>
          </p:nvSpPr>
          <p:spPr>
            <a:xfrm flipH="1">
              <a:off x="6660720" y="4876920"/>
              <a:ext cx="1152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821360" y="3909960"/>
              <a:ext cx="0" cy="968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961320" y="2844720"/>
            <a:ext cx="1707840" cy="13136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redefined (overridden) a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E87-3777-4C1E-A127-F6B9822750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31760" y="483840"/>
            <a:ext cx="55072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lling Superclass’s Construct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1400" y="2390760"/>
            <a:ext cx="7040520" cy="2838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ker extends Bi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t x, int y, Image leftPic, Image rightP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(x, y, leftPic, rightP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483320" y="1147680"/>
            <a:ext cx="152280" cy="639720"/>
            <a:chOff x="7483320" y="1147680"/>
            <a:chExt cx="152280" cy="639720"/>
          </a:xfrm>
        </p:grpSpPr>
        <p:sp>
          <p:nvSpPr>
            <p:cNvPr id="160" name=""/>
            <p:cNvSpPr/>
            <p:nvPr/>
          </p:nvSpPr>
          <p:spPr>
            <a:xfrm flipV="1">
              <a:off x="7559640" y="1243080"/>
              <a:ext cx="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83320" y="114768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716880" y="660240"/>
            <a:ext cx="168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18320" y="1554120"/>
            <a:ext cx="168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508720" y="4159080"/>
            <a:ext cx="1209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51720" y="3821040"/>
            <a:ext cx="203508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148280"/>
            <a:ext cx="1447560" cy="129528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912" y="816"/>
                </a:moveTo>
                <a:lnTo>
                  <a:pt x="0" y="816"/>
                </a:lnTo>
                <a:lnTo>
                  <a:pt x="0" y="0"/>
                </a:lnTo>
                <a:lnTo>
                  <a:pt x="41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8640" y="5375160"/>
            <a:ext cx="24274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resent, must be the firs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51320" y="4624560"/>
            <a:ext cx="523548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/ types of parameters pass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match parameters of one of the superclass’s constru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58B-7CD5-42A1-ACCB-6091C1B878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31760" y="52812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lling Superclass’s Construc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8640" y="199404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of the superclass’s constructors is always called, but you don’t have to have an explic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re is no explicit call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then superclass’s no-args constructor is called by defaul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457440" y="4148280"/>
            <a:ext cx="3133800" cy="218880"/>
            <a:chOff x="3457440" y="4148280"/>
            <a:chExt cx="3133800" cy="218880"/>
          </a:xfrm>
        </p:grpSpPr>
        <p:sp>
          <p:nvSpPr>
            <p:cNvPr id="172" name=""/>
            <p:cNvSpPr/>
            <p:nvPr/>
          </p:nvSpPr>
          <p:spPr>
            <a:xfrm>
              <a:off x="3457440" y="4148280"/>
              <a:ext cx="0" cy="218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91240" y="4148280"/>
              <a:ext cx="0" cy="218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57440" y="4367160"/>
              <a:ext cx="3130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075280" y="4363920"/>
            <a:ext cx="0" cy="816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31840" y="4991040"/>
            <a:ext cx="60724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defined then.  If not define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ntax err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not find symbol : constructor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87A-2F43-4850-946B-ACC33671D8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5251320" y="4176720"/>
            <a:ext cx="152280" cy="639720"/>
            <a:chOff x="5251320" y="4176720"/>
            <a:chExt cx="152280" cy="639720"/>
          </a:xfrm>
        </p:grpSpPr>
        <p:sp>
          <p:nvSpPr>
            <p:cNvPr id="178" name=""/>
            <p:cNvSpPr/>
            <p:nvPr/>
          </p:nvSpPr>
          <p:spPr>
            <a:xfrm flipV="1">
              <a:off x="5327640" y="4272120"/>
              <a:ext cx="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1320" y="417672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31760" y="52812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lling Superclass’s Construc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8640" y="199404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class’s constructor calls its superclass’s constructor, and so on, all the way up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s construc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251320" y="5089680"/>
            <a:ext cx="152280" cy="639720"/>
            <a:chOff x="5251320" y="5089680"/>
            <a:chExt cx="152280" cy="639720"/>
          </a:xfrm>
        </p:grpSpPr>
        <p:sp>
          <p:nvSpPr>
            <p:cNvPr id="183" name=""/>
            <p:cNvSpPr/>
            <p:nvPr/>
          </p:nvSpPr>
          <p:spPr>
            <a:xfrm flipV="1">
              <a:off x="5327640" y="5185080"/>
              <a:ext cx="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1320" y="508968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484520" y="4592520"/>
            <a:ext cx="1686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84520" y="5495760"/>
            <a:ext cx="1686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83080" y="3689280"/>
            <a:ext cx="168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03720" y="3957480"/>
            <a:ext cx="2166840" cy="890640"/>
          </a:xfrm>
          <a:custGeom>
            <a:avLst/>
            <a:gdLst/>
            <a:ahLst/>
            <a:rect l="l" t="t" r="r" b="b"/>
            <a:pathLst>
              <a:path w="1365" h="522">
                <a:moveTo>
                  <a:pt x="1115" y="521"/>
                </a:moveTo>
                <a:lnTo>
                  <a:pt x="1365" y="522"/>
                </a:lnTo>
                <a:lnTo>
                  <a:pt x="1365" y="311"/>
                </a:lnTo>
                <a:lnTo>
                  <a:pt x="0" y="311"/>
                </a:lnTo>
                <a:lnTo>
                  <a:pt x="0" y="0"/>
                </a:lnTo>
                <a:lnTo>
                  <a:pt x="3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0040" y="4040280"/>
            <a:ext cx="2166840" cy="877680"/>
          </a:xfrm>
          <a:custGeom>
            <a:avLst/>
            <a:gdLst/>
            <a:ahLst/>
            <a:rect l="l" t="t" r="r" b="b"/>
            <a:pathLst>
              <a:path w="1365" h="515">
                <a:moveTo>
                  <a:pt x="251" y="0"/>
                </a:moveTo>
                <a:lnTo>
                  <a:pt x="0" y="0"/>
                </a:lnTo>
                <a:lnTo>
                  <a:pt x="0" y="208"/>
                </a:lnTo>
                <a:lnTo>
                  <a:pt x="1365" y="208"/>
                </a:lnTo>
                <a:lnTo>
                  <a:pt x="1365" y="515"/>
                </a:lnTo>
                <a:lnTo>
                  <a:pt x="1050" y="51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00480" y="4854600"/>
            <a:ext cx="2166840" cy="900000"/>
          </a:xfrm>
          <a:custGeom>
            <a:avLst/>
            <a:gdLst/>
            <a:ahLst/>
            <a:rect l="l" t="t" r="r" b="b"/>
            <a:pathLst>
              <a:path w="1365" h="522">
                <a:moveTo>
                  <a:pt x="1115" y="521"/>
                </a:moveTo>
                <a:lnTo>
                  <a:pt x="1365" y="522"/>
                </a:lnTo>
                <a:lnTo>
                  <a:pt x="1365" y="311"/>
                </a:lnTo>
                <a:lnTo>
                  <a:pt x="0" y="311"/>
                </a:lnTo>
                <a:lnTo>
                  <a:pt x="0" y="0"/>
                </a:lnTo>
                <a:lnTo>
                  <a:pt x="3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76800" y="4937040"/>
            <a:ext cx="2166840" cy="887400"/>
          </a:xfrm>
          <a:custGeom>
            <a:avLst/>
            <a:gdLst/>
            <a:ahLst/>
            <a:rect l="l" t="t" r="r" b="b"/>
            <a:pathLst>
              <a:path w="1365" h="515">
                <a:moveTo>
                  <a:pt x="251" y="0"/>
                </a:moveTo>
                <a:lnTo>
                  <a:pt x="0" y="0"/>
                </a:lnTo>
                <a:lnTo>
                  <a:pt x="0" y="208"/>
                </a:lnTo>
                <a:lnTo>
                  <a:pt x="1365" y="208"/>
                </a:lnTo>
                <a:lnTo>
                  <a:pt x="1365" y="515"/>
                </a:lnTo>
                <a:lnTo>
                  <a:pt x="1050" y="51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52560" y="3995640"/>
            <a:ext cx="12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79840" y="490068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(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28960" y="4224240"/>
            <a:ext cx="370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28960" y="5105520"/>
            <a:ext cx="370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E63-FECF-482C-8325-AE4A44A1AB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1400" y="483840"/>
            <a:ext cx="5575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lling Superclass’s Metho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9000" y="2390760"/>
            <a:ext cx="422136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 CharlieChap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s Wal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xtStep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FeetI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.next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FeetOu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458120" y="1147680"/>
            <a:ext cx="152280" cy="639720"/>
            <a:chOff x="7458120" y="1147680"/>
            <a:chExt cx="152280" cy="639720"/>
          </a:xfrm>
        </p:grpSpPr>
        <p:sp>
          <p:nvSpPr>
            <p:cNvPr id="199" name=""/>
            <p:cNvSpPr/>
            <p:nvPr/>
          </p:nvSpPr>
          <p:spPr>
            <a:xfrm flipV="1">
              <a:off x="7534440" y="1243080"/>
              <a:ext cx="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58120" y="114768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691320" y="660240"/>
            <a:ext cx="168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81720" y="1554120"/>
            <a:ext cx="2305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ieChap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71800" y="4767120"/>
            <a:ext cx="1393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08640" y="4402080"/>
            <a:ext cx="219852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008840" y="2362320"/>
            <a:ext cx="1066680" cy="1724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666880" y="5475240"/>
            <a:ext cx="559440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nearest class, up the inheritance line, whe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me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ef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2C4-81A8-4EDC-813C-2F4824F36B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20240" y="753840"/>
            <a:ext cx="72075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lling Superclass’s Method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9720" y="2295000"/>
            <a:ext cx="71629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lls are often used in subclasses of library class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85880" y="3409920"/>
            <a:ext cx="5689800" cy="2838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Canv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s J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intComponent (Graphics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.paintCompon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11C-74AB-45DE-B674-DB65FC5870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8080" y="215568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8080" y="285768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8080" y="355932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8080" y="426096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8080" y="496404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6840" y="1808280"/>
            <a:ext cx="2873520" cy="39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3000" y="215568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b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3000" y="285768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3000" y="355932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3000" y="426096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-Cha-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3000" y="4964040"/>
            <a:ext cx="2101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27600" y="1808280"/>
            <a:ext cx="2873520" cy="39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00480" y="3565440"/>
            <a:ext cx="1197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63880" y="379728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379728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83120" y="2644920"/>
            <a:ext cx="14587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11760" y="3100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BF7-8D05-4DBA-87FB-05B45D41A2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0440" y="1635120"/>
            <a:ext cx="720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class hierarchies and polymorph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abstract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the syntax for calling superclass’s constructors and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interfa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5A7-20D7-4980-BB96-E056DCB078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fac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86312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interface in Java is like an abstract class, but it does not have any fields or constructors, and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ts methods are abstra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blic abstract” is not written because all the methods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bstra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68480" y="3103560"/>
            <a:ext cx="3457440" cy="19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ceStep getStep (int 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getTempo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getBeat (int 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E21-E3EC-443F-82D8-4B9352C7EE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fac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20600" y="1436760"/>
            <a:ext cx="77724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must “officially” state that a cl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ncrete class that implements an interface must supply all the methods of that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95640" y="3584520"/>
            <a:ext cx="5154480" cy="2838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Waltz implements 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Metho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anceStep getStep (int i) 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nt getTempo ()  { return 750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nt getBeat (int i) 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E1A-908B-4309-B5D1-35956F794C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fac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7772400" cy="40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lass can implement several interfa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ke an abstract class, an interface supplies a secondary data type to objects of a class that implements that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declare variables and parameters of an interface ty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ymorphism fully applies to objects disguised as interface typ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23960" y="4549680"/>
            <a:ext cx="35150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ce d = new Waltz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15E-3834-4F6B-9FA1-1A30D503E6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31400" y="295200"/>
            <a:ext cx="53118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fac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47760" y="1247760"/>
            <a:ext cx="3747960" cy="1618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Ed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getFoodGrou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getCaloriesPerServing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38400" y="3084480"/>
            <a:ext cx="6286320" cy="344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Break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myTotalCalories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eat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, int servin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TotalCalories +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CaloriesPerServ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ving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778280" y="4568760"/>
            <a:ext cx="2438640" cy="676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75560" y="3241800"/>
            <a:ext cx="2100240" cy="1923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: the correct method is called for any specific typ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2035080"/>
            <a:ext cx="750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76840" y="1247760"/>
            <a:ext cx="3051360" cy="1618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s  Ed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4992480" y="1969560"/>
            <a:ext cx="141480" cy="131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B00-FBD8-44EC-8800-F54A21BD29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es            Interfac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20600" y="2143080"/>
            <a:ext cx="381024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uperclass provides a secondary data type to objects of its subclas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abstract class cannot be instantiat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82760" y="2142720"/>
            <a:ext cx="38098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terface provides a secondary data type to objects of classes that implement that interfa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terface cannot be instantiat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83040" y="1754280"/>
            <a:ext cx="0" cy="38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19040" y="411948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17600" y="199692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7880" y="1419120"/>
            <a:ext cx="193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1D4-4515-442C-A630-D67F388124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31760" y="2365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es            Interfac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20600" y="1923840"/>
            <a:ext cx="381024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oncrete subclass of an abstract class must define all the inherited abstract meth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lass can extend another class.  A subclass can add methods and override some of its superclass’s meth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82760" y="1924200"/>
            <a:ext cx="38098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oncrete class that implements an interface must define all the methods specified by the interfa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terface can extend another interface (called it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uperinterfac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by adding declarations of abstract meth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83040" y="1436760"/>
            <a:ext cx="0" cy="49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19040" y="390060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17600" y="177804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08520" y="1179360"/>
            <a:ext cx="19317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2EC-41FD-4F56-A47B-4EF8829F27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883040" y="1360440"/>
            <a:ext cx="0" cy="49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31760" y="264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es            Interfac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20600" y="1800000"/>
            <a:ext cx="38102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lass can extend only one clas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lass can have fiel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lass defines its own constructors (or gets a default constructor)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82760" y="1800000"/>
            <a:ext cx="38098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lass can implement any number of interfaces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terface cannot have fields (except, possibly, some public static final constant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terface has no constructo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19040" y="309888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17600" y="16542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27320" y="492912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08520" y="1122480"/>
            <a:ext cx="19317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CBA-211C-45F0-8033-B9F26EFD5F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31760" y="4176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es            Interfac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20600" y="1914120"/>
            <a:ext cx="381024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oncrete class has all its methods defined.  An abstract class usually has one or more abstract metho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y class is a part of a hierarchy of classes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t the top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82760" y="1914120"/>
            <a:ext cx="38098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methods declared in an interface are abstract.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terface may belong to a small hierarchy of interfaces, but this is not as comm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83040" y="1625760"/>
            <a:ext cx="0" cy="442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19040" y="3913200"/>
            <a:ext cx="71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176832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08520" y="1227240"/>
            <a:ext cx="19317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5B9-F09A-43AE-9036-30273F513A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946760" y="1479600"/>
            <a:ext cx="1295280" cy="579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Dance</a:t>
            </a:r>
            <a:br>
              <a:rPr sz="4400"/>
            </a:b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Studio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9000" y="3124080"/>
            <a:ext cx="947880" cy="579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925720" y="0"/>
          <a:ext cx="5421240" cy="672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5720" y="0"/>
                    <a:ext cx="542124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6477120" y="3870360"/>
            <a:ext cx="1904760" cy="15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73520" y="2187720"/>
            <a:ext cx="3450960" cy="3439800"/>
          </a:xfrm>
          <a:custGeom>
            <a:avLst/>
            <a:gdLst/>
            <a:ahLst/>
            <a:rect l="l" t="t" r="r" b="b"/>
            <a:pathLst>
              <a:path w="2174" h="2167">
                <a:moveTo>
                  <a:pt x="0" y="693"/>
                </a:moveTo>
                <a:lnTo>
                  <a:pt x="7" y="2167"/>
                </a:lnTo>
                <a:lnTo>
                  <a:pt x="988" y="2167"/>
                </a:lnTo>
                <a:lnTo>
                  <a:pt x="2174" y="1509"/>
                </a:lnTo>
                <a:lnTo>
                  <a:pt x="2167" y="0"/>
                </a:lnTo>
                <a:lnTo>
                  <a:pt x="1351" y="0"/>
                </a:lnTo>
                <a:lnTo>
                  <a:pt x="0" y="693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8979-2549-4346-94C6-728CB4734C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wo ways for eliminating duplicate code using class hierarch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an abstract clas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is it better to use an abstract method rather than an empty metho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on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happens when a constructor of a subclass does not hav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?  Is superclass’s constructor call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EFE-9618-41F7-996E-A3E6727E79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795760" y="2535120"/>
            <a:ext cx="152280" cy="1074600"/>
            <a:chOff x="2795760" y="2535120"/>
            <a:chExt cx="152280" cy="1074600"/>
          </a:xfrm>
        </p:grpSpPr>
        <p:sp>
          <p:nvSpPr>
            <p:cNvPr id="61" name=""/>
            <p:cNvSpPr/>
            <p:nvPr/>
          </p:nvSpPr>
          <p:spPr>
            <a:xfrm flipV="1">
              <a:off x="2871720" y="2630160"/>
              <a:ext cx="0" cy="9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95760" y="253512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herita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2880" y="4412880"/>
            <a:ext cx="75312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heritance represents the IS-A relationship between objects: an object of a subclass  IS-A(n) object of the super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9960" y="1700280"/>
            <a:ext cx="2066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ase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31880" y="3287880"/>
            <a:ext cx="2481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rived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30840" y="2365200"/>
            <a:ext cx="246996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CD2-A533-4353-B426-C01575E2BD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n abstract class be instantia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Method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a c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.someMethod2 ( 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happens if, by mistake, a programmer puts in h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a cal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(g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ead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.paintComponent(g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F19-4FF1-4B3E-A3CD-F332A3909D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main difference between an abstract class and an interfac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 class implement several interfac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se you declare a variable of an interface type.  What type of value can be assigned to that variab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main advantage of interfaces over abstract class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3D6-7F9D-47F9-94AA-E58D57168F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52800" y="3354840"/>
            <a:ext cx="1141200" cy="861120"/>
            <a:chOff x="5752800" y="3354840"/>
            <a:chExt cx="1141200" cy="861120"/>
          </a:xfrm>
        </p:grpSpPr>
        <p:sp>
          <p:nvSpPr>
            <p:cNvPr id="69" name=""/>
            <p:cNvSpPr/>
            <p:nvPr/>
          </p:nvSpPr>
          <p:spPr>
            <a:xfrm flipH="1" flipV="1">
              <a:off x="5874480" y="3472560"/>
              <a:ext cx="1019520" cy="7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8364800">
              <a:off x="5774400" y="338940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489840" y="3354840"/>
            <a:ext cx="1141200" cy="861120"/>
            <a:chOff x="3489840" y="3354840"/>
            <a:chExt cx="1141200" cy="861120"/>
          </a:xfrm>
        </p:grpSpPr>
        <p:sp>
          <p:nvSpPr>
            <p:cNvPr id="72" name=""/>
            <p:cNvSpPr/>
            <p:nvPr/>
          </p:nvSpPr>
          <p:spPr>
            <a:xfrm flipV="1">
              <a:off x="3489840" y="3472560"/>
              <a:ext cx="1019520" cy="7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3235200">
              <a:off x="4456080" y="338940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689920" y="4253760"/>
            <a:ext cx="1235520" cy="529920"/>
            <a:chOff x="2689920" y="4253760"/>
            <a:chExt cx="1235520" cy="529920"/>
          </a:xfrm>
        </p:grpSpPr>
        <p:grpSp>
          <p:nvGrpSpPr>
            <p:cNvPr id="75" name=""/>
            <p:cNvGrpSpPr/>
            <p:nvPr/>
          </p:nvGrpSpPr>
          <p:grpSpPr>
            <a:xfrm>
              <a:off x="2689920" y="4256640"/>
              <a:ext cx="483840" cy="527040"/>
              <a:chOff x="2689920" y="4256640"/>
              <a:chExt cx="483840" cy="5270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2689920" y="4378680"/>
                <a:ext cx="3636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2515200">
                <a:off x="2996640" y="4290480"/>
                <a:ext cx="152280" cy="131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3441240" y="4253760"/>
              <a:ext cx="484200" cy="526680"/>
              <a:chOff x="3441240" y="4253760"/>
              <a:chExt cx="484200" cy="52668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3561840" y="4375440"/>
                <a:ext cx="3636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19084800">
                <a:off x="3465000" y="4287600"/>
                <a:ext cx="152280" cy="131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" name=""/>
          <p:cNvGrpSpPr/>
          <p:nvPr/>
        </p:nvGrpSpPr>
        <p:grpSpPr>
          <a:xfrm>
            <a:off x="5099040" y="3422520"/>
            <a:ext cx="152280" cy="639720"/>
            <a:chOff x="5099040" y="3422520"/>
            <a:chExt cx="152280" cy="639720"/>
          </a:xfrm>
        </p:grpSpPr>
        <p:sp>
          <p:nvSpPr>
            <p:cNvPr id="82" name=""/>
            <p:cNvSpPr/>
            <p:nvPr/>
          </p:nvSpPr>
          <p:spPr>
            <a:xfrm flipV="1">
              <a:off x="5175360" y="3517920"/>
              <a:ext cx="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99040" y="342252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 Hierarchies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inheritance, a programmer can define a hierarchy of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32240" y="2935440"/>
            <a:ext cx="168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14520" y="3828960"/>
            <a:ext cx="168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34040" y="3828960"/>
            <a:ext cx="168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62560" y="3827520"/>
            <a:ext cx="168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15920" y="4721400"/>
            <a:ext cx="4938480" cy="459720"/>
            <a:chOff x="1015920" y="4721400"/>
            <a:chExt cx="4938480" cy="459720"/>
          </a:xfrm>
        </p:grpSpPr>
        <p:sp>
          <p:nvSpPr>
            <p:cNvPr id="91" name=""/>
            <p:cNvSpPr/>
            <p:nvPr/>
          </p:nvSpPr>
          <p:spPr>
            <a:xfrm>
              <a:off x="1015920" y="4721400"/>
              <a:ext cx="2163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edInWalk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31880" y="4721400"/>
              <a:ext cx="2522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lieChapl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A84-0CF6-45B3-ABA7-DD81DACF20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41600" y="3766680"/>
            <a:ext cx="1162800" cy="709200"/>
            <a:chOff x="5241600" y="3766680"/>
            <a:chExt cx="1162800" cy="709200"/>
          </a:xfrm>
        </p:grpSpPr>
        <p:sp>
          <p:nvSpPr>
            <p:cNvPr id="94" name=""/>
            <p:cNvSpPr/>
            <p:nvPr/>
          </p:nvSpPr>
          <p:spPr>
            <a:xfrm flipH="1">
              <a:off x="5241600" y="3879360"/>
              <a:ext cx="1041120" cy="5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3615600">
              <a:off x="6233040" y="379944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7054920" y="3846600"/>
            <a:ext cx="152280" cy="639720"/>
            <a:chOff x="7054920" y="3846600"/>
            <a:chExt cx="152280" cy="639720"/>
          </a:xfrm>
        </p:grpSpPr>
        <p:sp>
          <p:nvSpPr>
            <p:cNvPr id="97" name=""/>
            <p:cNvSpPr/>
            <p:nvPr/>
          </p:nvSpPr>
          <p:spPr>
            <a:xfrm flipV="1">
              <a:off x="7131240" y="3942000"/>
              <a:ext cx="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54920" y="3846600"/>
              <a:ext cx="152280" cy="131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 Hierarchi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43214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p reduce duplication of code by factoring out common code from similar classes into a common super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53120" y="1527120"/>
            <a:ext cx="1953720" cy="2306520"/>
            <a:chOff x="6153120" y="1527120"/>
            <a:chExt cx="1953720" cy="2306520"/>
          </a:xfrm>
        </p:grpSpPr>
        <p:sp>
          <p:nvSpPr>
            <p:cNvPr id="102" name=""/>
            <p:cNvSpPr/>
            <p:nvPr/>
          </p:nvSpPr>
          <p:spPr>
            <a:xfrm>
              <a:off x="6153120" y="1527120"/>
              <a:ext cx="1938240" cy="2306520"/>
            </a:xfrm>
            <a:custGeom>
              <a:avLst/>
              <a:gdLst>
                <a:gd name="textAreaLeft" fmla="*/ 94320 w 1938240"/>
                <a:gd name="textAreaRight" fmla="*/ 1843920 w 1938240"/>
                <a:gd name="textAreaTop" fmla="*/ 94320 h 2306520"/>
                <a:gd name="textAreaBottom" fmla="*/ 2212200 h 2306520"/>
              </a:gdLst>
              <a:ahLst/>
              <a:rect l="textAreaLeft" t="textAreaTop" r="textAreaRight" b="textAreaBottom"/>
              <a:pathLst>
                <a:path w="21600" h="25703">
                  <a:moveTo>
                    <a:pt x="3600" y="0"/>
                  </a:moveTo>
                  <a:arcTo wR="3600" hR="3600" stAng="16200000" swAng="-5400000"/>
                  <a:lnTo>
                    <a:pt x="0" y="22103"/>
                  </a:lnTo>
                  <a:arcTo wR="3600" hR="3600" stAng="10800000" swAng="-5400000"/>
                  <a:lnTo>
                    <a:pt x="18000" y="257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4680" y="1598760"/>
              <a:ext cx="18921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Bi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tru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cess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urnLe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urnRig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urnAr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a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78200" y="4233960"/>
            <a:ext cx="2581200" cy="2012760"/>
            <a:chOff x="2878200" y="4233960"/>
            <a:chExt cx="2581200" cy="2012760"/>
          </a:xfrm>
        </p:grpSpPr>
        <p:sp>
          <p:nvSpPr>
            <p:cNvPr id="105" name=""/>
            <p:cNvSpPr/>
            <p:nvPr/>
          </p:nvSpPr>
          <p:spPr>
            <a:xfrm>
              <a:off x="2878200" y="4233960"/>
              <a:ext cx="2581200" cy="2012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6640" y="4271760"/>
              <a:ext cx="24814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Wal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tru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St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xtSt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tanceTrave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840280" y="4233960"/>
            <a:ext cx="2581200" cy="2012760"/>
            <a:chOff x="5840280" y="4233960"/>
            <a:chExt cx="2581200" cy="2012760"/>
          </a:xfrm>
        </p:grpSpPr>
        <p:sp>
          <p:nvSpPr>
            <p:cNvPr id="108" name=""/>
            <p:cNvSpPr/>
            <p:nvPr/>
          </p:nvSpPr>
          <p:spPr>
            <a:xfrm>
              <a:off x="5840280" y="4233960"/>
              <a:ext cx="2581200" cy="2012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06880" y="4276800"/>
              <a:ext cx="24814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Hopp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tru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St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xtSt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tanceTrave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280200" y="2568600"/>
            <a:ext cx="1687320" cy="1208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45E-7E2F-4B27-B714-516D6DDADC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ass Hierarchi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0600" y="1295280"/>
            <a:ext cx="777240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p reduce duplication of code by letting you write more general methods in client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7920" y="2457360"/>
            <a:ext cx="4050000" cy="4388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Ac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ker crea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nt dist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ure.firstSte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(creature.distanceTraveled() &lt;  dist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ure.nextSte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ure.sto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Ac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pper crea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nt dist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ure.firstSte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(creature.distanceTraveled() &lt;  dist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ure.nextSte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ure.sto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95920" y="3789360"/>
            <a:ext cx="4049640" cy="2134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Ac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ped crea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nt dist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ure.firstSte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(creature.distanceTraveled() &lt;  dist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ure.nextSte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ure.stop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3354480"/>
            <a:ext cx="0" cy="425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5280" y="2390760"/>
            <a:ext cx="260028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for eith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polymorph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2782800"/>
            <a:ext cx="347760" cy="3386160"/>
          </a:xfrm>
          <a:custGeom>
            <a:avLst/>
            <a:gdLst>
              <a:gd name="textAreaLeft" fmla="*/ 0 w 347760"/>
              <a:gd name="textAreaRight" fmla="*/ 125640 w 347760"/>
              <a:gd name="textAreaTop" fmla="*/ 88200 h 3386160"/>
              <a:gd name="textAreaBottom" fmla="*/ 3297960 h 33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C2A-E3E7-4EBC-8C6C-8182023B38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lymorphis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sures that the correct method is called for an object of a specific type, even when that object is disguised as a reference to a more generic type, that is, the type of the object’s superclass or some ancestor higher up the inheritance l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you define a common superclass, polymorphism is just there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no need to do anything speci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C8C-7C83-417A-8C60-EB9B460BE5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lymorphism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36520" y="2935440"/>
            <a:ext cx="694548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Acr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ped cre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t dist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ur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creatur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Travel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&lt;  dist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ur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ur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73880" y="2611440"/>
            <a:ext cx="0" cy="425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60880" y="1635120"/>
            <a:ext cx="462600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ual parameter passed to this method can b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pp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tc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y subclas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049720" y="4220640"/>
            <a:ext cx="1285920" cy="125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744720" y="4535280"/>
            <a:ext cx="1360440" cy="1120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157560" y="4860720"/>
            <a:ext cx="1044720" cy="871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960" y="3776760"/>
            <a:ext cx="3341520" cy="1763640"/>
          </a:xfrm>
          <a:custGeom>
            <a:avLst/>
            <a:gdLst/>
            <a:ahLst/>
            <a:rect l="l" t="t" r="r" b="b"/>
            <a:pathLst>
              <a:path w="2105" h="1111">
                <a:moveTo>
                  <a:pt x="2105" y="1111"/>
                </a:moveTo>
                <a:lnTo>
                  <a:pt x="2105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7080" y="5373720"/>
            <a:ext cx="563724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methods will be called automatically for any specific typ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method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pp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pp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9FF-6F51-45AA-BCBD-B47580E918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bstract Clas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20600" y="1383840"/>
            <a:ext cx="7772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of the methods in a class can be decla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left with only signatures defin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lass with one or more abstract methods must be decla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76320" y="3836880"/>
            <a:ext cx="4757760" cy="2838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 Bi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id firstSte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id nextSte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id sto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draw(Graphics g)  { ...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241680" y="5270400"/>
            <a:ext cx="947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04160" y="4919760"/>
            <a:ext cx="119520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67240" y="4743000"/>
            <a:ext cx="882720" cy="1087560"/>
            <a:chOff x="5367240" y="4743000"/>
            <a:chExt cx="882720" cy="1087560"/>
          </a:xfrm>
        </p:grpSpPr>
        <p:sp>
          <p:nvSpPr>
            <p:cNvPr id="135" name=""/>
            <p:cNvSpPr/>
            <p:nvPr/>
          </p:nvSpPr>
          <p:spPr>
            <a:xfrm>
              <a:off x="5367240" y="4743360"/>
              <a:ext cx="882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7240" y="5821200"/>
              <a:ext cx="882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249960" y="4743000"/>
              <a:ext cx="0" cy="1087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83B-5ADA-4AA8-B9C0-BC1B9DD8B5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06-10-26T23:27:20Z</dcterms:modified>
  <cp:revision>157</cp:revision>
  <dc:subject>Chapter 11</dc:subject>
  <dc:title>Java Methods A &amp; AB</dc:title>
</cp:coreProperties>
</file>