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8289-43AF-490E-A3DC-CD17CF99F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 also has a “for each” loop for traversing lists and other structures.  It is explained later, in Chapters 12 and 1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very easy to replace any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oop with a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o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need to use the loop control variable after the loop, then declare it above the lo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idioms make your code instantly understandable to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al grows very rapidly, so you need to use a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-whi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probably used 1% of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eople believe a method should have only on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tatement. Instead of using a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tatement inside the loop, they set a Boolean flag in the loop and test it in the condition; this makes their code cumbers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ts the loop and continues with the next statement after the lo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ts the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learn about perfect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be a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oop nested within a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oop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cv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tands for “loop control variab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ab is described in th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Java Methods A &amp; A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xt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t took Euler to prove the converse for even numbers -- see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ians still do not know whether any odd perfect numbers exist or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ians still do not know whether any odd perfect numbers exist or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me three iterative control statements in Ja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-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is the difference between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o-whil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hecks the condition before each iteration; if the condition is false at the outset,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oop is never entered.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-whi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hecks the condition afterward, so it always goes through the body of the loop at least o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 any code with a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loop be rewritten with a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loo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, easi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es short-circuit evaluation apply to conditions in loop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, conditions are logical expressions and they are evaluated the same way everywhere in the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ich operators can be used in the “change” part of a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loo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operators can be used, but that part of the loop usually has an assignment operator, a compound assignment, or an increment or decrement oper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e method calls allowed in a condition in a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loo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e: just like in any other exp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allowed in a loo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, it immediately quits the loop and the whole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is a nested loo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op within a lo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me a situation where nested loops are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ing duplicates in a l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 you have neste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loop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e, why no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rations are what makes a program different from a cookbook reci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eople prefer to always use braces, as it is easier to add statements to the body of the lo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” can be increment, decrement, or any other op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example would be reading a file.  When the end of a file is reached, its state changes and this can be tested in the cond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branches of computer science aims at developing techniques for proving the correctness of programs mathematically (rather than testing them).  Iterations cause a bit of a problem in this effort, and loop invariants were introduced as a tool to overcome this difficul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B4E3-42C7-459C-806F-8703B2941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20600" y="405972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9B31-B1E0-46FD-99B9-42543ADA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328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F785-6A0E-4F52-B950-7AECF09A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860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624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2060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860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624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A312-9811-4FB4-AC2F-1272A644C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746D-BECE-4DD3-B9F9-84C17132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8F45-C073-4A55-BA46-EB9BD988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2303-7C30-46B1-8E48-A0542486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9A6B-3B2A-41E5-A493-39A5F21C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31760" y="484200"/>
            <a:ext cx="77724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FA2B-7B5E-4D72-A8D7-76A7475A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7F33-3DAF-44E9-BF98-C3028255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328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065E-4B14-44DD-B1B0-3BA161C3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CCE2-D300-4EA9-9E9D-7397D4E1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489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-</a:t>
            </a:r>
            <a:fld id="{83BB13EB-B45E-46FD-904C-34246DFD8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9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50960" y="4514760"/>
            <a:ext cx="611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ive Statements: while, for, do-w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17920" y="430200"/>
            <a:ext cx="394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Java Meth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 &amp;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25840" y="1400040"/>
            <a:ext cx="392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 Narrow"/>
              </a:rPr>
              <a:t>Object-Oriented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 Narrow"/>
              </a:rPr>
              <a:t>and Data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17920" y="2228760"/>
            <a:ext cx="3941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aria Litvin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Gary Litv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11520" y="6400800"/>
            <a:ext cx="62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pyright © 2006 by Maria Litvin, Gary Litvin, and Skylight Publishing.  All rights reserv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6200" y="3192480"/>
            <a:ext cx="5840280" cy="11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(chapter &lt;</a:t>
            </a:r>
            <a:r>
              <a:rPr b="0" i="1" lang="en-US" sz="3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8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chapter++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51000" y="343080"/>
            <a:ext cx="1514160" cy="191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987B-D1BC-4FD2-90AE-918A1AA1BB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76280" y="2351160"/>
            <a:ext cx="3881520" cy="3575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Returns the smallest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such that 2^n &gt;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static int intLog2 (int 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n = 0,  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p = 1;  p &lt; x;  p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Loop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3249720"/>
            <a:ext cx="2019240" cy="459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15000" y="3867120"/>
            <a:ext cx="2019240" cy="459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4489560"/>
            <a:ext cx="2019240" cy="459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971800" y="3498840"/>
            <a:ext cx="1219320" cy="53352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580920" y="3956040"/>
            <a:ext cx="228600" cy="76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3956040"/>
            <a:ext cx="1905120" cy="0"/>
          </a:xfrm>
          <a:prstGeom prst="line">
            <a:avLst/>
          </a:prstGeom>
          <a:ln w="3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4641840"/>
            <a:ext cx="1371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91120" y="3498840"/>
            <a:ext cx="1523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114440" y="4348080"/>
            <a:ext cx="228600" cy="2937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2D8D-9075-4FCD-A5CC-7AE0C58BF8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Loop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14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va allows you to declare the loop control variable in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 itself.  For examp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24040" y="3154320"/>
            <a:ext cx="4305240" cy="1557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 = 0;  i &lt; n ; 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22960" y="4854600"/>
            <a:ext cx="3200400" cy="15570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cope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body of the loop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ndefined outside the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92640" y="3233880"/>
            <a:ext cx="1131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92640" y="4670280"/>
            <a:ext cx="1131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24480" y="3233880"/>
            <a:ext cx="0" cy="1447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956280" y="3928680"/>
            <a:ext cx="0" cy="925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24480" y="3929040"/>
            <a:ext cx="6318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0B5F-F037-4355-B215-B814CC12AB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Loop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peat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imes” idiom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04880" y="2173320"/>
            <a:ext cx="4719600" cy="1557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i = 0;  i &lt; n ; 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90840" y="4365720"/>
            <a:ext cx="6497640" cy="1557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count = 1;  count &lt;= n ;  count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A46B-D0C5-4666-80CD-360FA184A1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Loop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: n! = 1 * 2 * ... * 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2346480"/>
            <a:ext cx="6248160" cy="3816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  Returns 1 * 2 * ... * n, if n &gt;= 1 (and 1 otherwi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static long factorial (int 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 f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k = 2;  k &lt;= n;  k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7449-AF81-4DD1-810F-4E51D20ED7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-while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Loop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1600200"/>
            <a:ext cx="3505320" cy="265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ment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ment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ment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while (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1571760"/>
            <a:ext cx="2971800" cy="15570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de runs through the body of the loop at least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4756320"/>
            <a:ext cx="2971800" cy="15570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use braces for readability (even if the body has only one stat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828800" y="4343040"/>
            <a:ext cx="0" cy="304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38680" y="3581280"/>
            <a:ext cx="2971800" cy="119124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false, the next iteration is not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429000" y="1752480"/>
            <a:ext cx="22096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1752480"/>
            <a:ext cx="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05520" y="4114800"/>
            <a:ext cx="3808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BE5F-5253-4819-B4E0-D462E5E04F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-while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Loop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-whi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convenient when the variables tested in the condition are calculated or read in the body of the loop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3295800"/>
            <a:ext cx="5867280" cy="265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st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 = file.readLin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 while (str  !=  nul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E9E7-8FAF-4095-A6FF-8CFF92E781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-while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Loop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-whi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be easily avoided: we can usually replace it with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loop initialized so that it goes through the first iteratio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76520" y="3352680"/>
            <a:ext cx="5867280" cy="265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str = "dummy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str  !=  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 = file.readLin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4933-3362-4522-AD46-4991C18F5F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in Loop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 a loop instructs the program to immediately quit the current iteration and go to the first statement following the loo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 a loop instructs the program to immediately quit the current method and return to the calling metho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ust be inside 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otherwise the code after it in the body of the loop will be unreach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F831-A0F3-4128-97EF-4387D5ECCE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in Loop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00200" y="2438280"/>
            <a:ext cx="5334120" cy="411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d = 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d  &gt;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n % d =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 d &gt; 0 )   // if found a div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9556-8161-4A0D-88A7-28BCC28DA8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in Loop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quential Search method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2438280"/>
            <a:ext cx="7162920" cy="3751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int search(String[ ] list, String wo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k = 0;  k &lt; list.length;  k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list[k].equals (wo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508C-3C54-4809-AFCC-92E0B119BB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Objectives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12008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the semantics and learn the Java syntax 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-whi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loo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 how to use nested loo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52CA-FD5F-40E3-86F1-619C473277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Nested Loop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loop within a loop is called nest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76280" y="2300400"/>
            <a:ext cx="5569200" cy="3751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Draw a 5 by 3 gr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x = 0;  x &lt; 50;  x +=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y = 0;  y &lt; 30;  y +=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fillRect(x, y, 8, 8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48000" y="3736800"/>
            <a:ext cx="28958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48000" y="5337000"/>
            <a:ext cx="28958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43840" y="3736800"/>
            <a:ext cx="0" cy="1600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13080" y="2975040"/>
            <a:ext cx="3483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7696080" y="2975040"/>
            <a:ext cx="0" cy="26668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45120" y="5641920"/>
            <a:ext cx="34509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596360" y="2308320"/>
            <a:ext cx="728640" cy="513000"/>
            <a:chOff x="7596360" y="2308320"/>
            <a:chExt cx="728640" cy="513000"/>
          </a:xfrm>
        </p:grpSpPr>
        <p:grpSp>
          <p:nvGrpSpPr>
            <p:cNvPr id="165" name=""/>
            <p:cNvGrpSpPr/>
            <p:nvPr/>
          </p:nvGrpSpPr>
          <p:grpSpPr>
            <a:xfrm>
              <a:off x="7596360" y="2308320"/>
              <a:ext cx="728640" cy="153000"/>
              <a:chOff x="7596360" y="2308320"/>
              <a:chExt cx="728640" cy="153000"/>
            </a:xfrm>
          </p:grpSpPr>
          <p:sp>
            <p:nvSpPr>
              <p:cNvPr id="166" name=""/>
              <p:cNvSpPr/>
              <p:nvPr/>
            </p:nvSpPr>
            <p:spPr>
              <a:xfrm>
                <a:off x="7596360" y="2308320"/>
                <a:ext cx="118800" cy="15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748640" y="2308320"/>
                <a:ext cx="119160" cy="15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900920" y="2308320"/>
                <a:ext cx="119160" cy="15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53560" y="2308320"/>
                <a:ext cx="118800" cy="15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205840" y="2308320"/>
                <a:ext cx="119160" cy="15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7596360" y="2487960"/>
              <a:ext cx="728640" cy="153360"/>
              <a:chOff x="7596360" y="2487960"/>
              <a:chExt cx="728640" cy="153360"/>
            </a:xfrm>
          </p:grpSpPr>
          <p:sp>
            <p:nvSpPr>
              <p:cNvPr id="172" name=""/>
              <p:cNvSpPr/>
              <p:nvPr/>
            </p:nvSpPr>
            <p:spPr>
              <a:xfrm>
                <a:off x="7596360" y="2487960"/>
                <a:ext cx="118800" cy="153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748640" y="2487960"/>
                <a:ext cx="119160" cy="153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900920" y="2487960"/>
                <a:ext cx="119160" cy="153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053560" y="2487960"/>
                <a:ext cx="118800" cy="153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205840" y="2487960"/>
                <a:ext cx="119160" cy="153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7596360" y="2667960"/>
              <a:ext cx="728640" cy="153360"/>
              <a:chOff x="7596360" y="2667960"/>
              <a:chExt cx="728640" cy="153360"/>
            </a:xfrm>
          </p:grpSpPr>
          <p:sp>
            <p:nvSpPr>
              <p:cNvPr id="178" name=""/>
              <p:cNvSpPr/>
              <p:nvPr/>
            </p:nvSpPr>
            <p:spPr>
              <a:xfrm>
                <a:off x="7596360" y="2667960"/>
                <a:ext cx="118800" cy="153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748640" y="2667960"/>
                <a:ext cx="119160" cy="153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900920" y="2667960"/>
                <a:ext cx="119160" cy="153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053560" y="2667960"/>
                <a:ext cx="118800" cy="153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205840" y="2667960"/>
                <a:ext cx="119160" cy="153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90AC-F61F-4C18-AB22-7DD2954037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Nested Loop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races are optional when the body of the loop(s) is one statemen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46320" y="2743200"/>
            <a:ext cx="5230800" cy="1557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x = 0;  x &lt; 100;  x +=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y = 0;  y &lt; 200;  y +=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fillRect(x, y, 8, 8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81680" y="2698920"/>
            <a:ext cx="1905120" cy="192276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only statement in the ou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4802040"/>
            <a:ext cx="779292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y programmers prefer to always use braces in loops, especially in nested loo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53080" y="3489480"/>
            <a:ext cx="3812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43600" y="3108240"/>
            <a:ext cx="6094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43600" y="3870360"/>
            <a:ext cx="6094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53080" y="3108240"/>
            <a:ext cx="0" cy="7621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1261-0610-40AC-97F0-567FE0FB10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Nested Loop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 careful wi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49280" y="2362320"/>
            <a:ext cx="5342040" cy="411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 r, 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r = 0;  r &lt; m.length;  r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c = 0;  c &lt; m[0].length;  c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m [ r ][ c ] == 'X'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5181480"/>
            <a:ext cx="2819520" cy="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21360" y="3429000"/>
            <a:ext cx="1905120" cy="22885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s out of the inner loop bu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in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he outer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E6E7-CFCC-407E-84EB-DEB3B70316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riangular” Nested Loop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nd duplicates” idiom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76280" y="2362320"/>
            <a:ext cx="7081920" cy="302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 i = 0;  i &lt; a.length; 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 = i +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 j &lt; a.length;  j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a [ i ].equals(a [ j 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.out.println ("Duplicate " + a [ j ]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29400" y="1752480"/>
            <a:ext cx="2133720" cy="15570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ner lcv starts at the outer lcv’s nex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200400" y="293508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00400" y="2924280"/>
            <a:ext cx="3429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7EFC-C2EE-40A3-833B-662D3EDFB8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ab: Perfect Numbe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20600" y="1550520"/>
            <a:ext cx="77724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perfect number is a positive integer equal to the sum of all its divisors (including 1 but excluding the number itself).  For examp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 = 1 + 2 + 4 + 7 + 1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86080" y="3811680"/>
            <a:ext cx="642132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program to find the first four perfect number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ava Methods A &amp; A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p. 204-20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41D0-4650-4D55-9924-5610A783C5E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ab: Perfect Number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746360"/>
            <a:ext cx="49752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uclid showed that if 2</a:t>
            </a:r>
            <a:r>
              <a:rPr b="0" i="1" lang="en-US" sz="2800" spc="-1" strike="noStrike" baseline="30000">
                <a:solidFill>
                  <a:srgbClr val="003366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 is a prime, then 2</a:t>
            </a:r>
            <a:r>
              <a:rPr b="0" i="1" lang="en-US" sz="2800" spc="-1" strike="noStrike" baseline="30000">
                <a:solidFill>
                  <a:srgbClr val="003366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3366"/>
                </a:solidFill>
                <a:latin typeface="Courier New"/>
              </a:rPr>
              <a:t>-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2</a:t>
            </a:r>
            <a:r>
              <a:rPr b="0" i="1" lang="en-US" sz="2800" spc="-1" strike="noStrike" baseline="30000">
                <a:solidFill>
                  <a:srgbClr val="003366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) is a perfect number.  For examp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= 7 is a prime  =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= 28 is a perfect numb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643800" y="1895400"/>
            <a:ext cx="1909800" cy="22669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575400" y="4354560"/>
            <a:ext cx="19908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cl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ound 300 B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67B2-311E-4231-B7E4-7EBEFDA854F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ab: Perfect Number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20240" y="1550520"/>
            <a:ext cx="4473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prime that has a form 2</a:t>
            </a:r>
            <a:r>
              <a:rPr b="0" i="1" lang="en-US" sz="2800" spc="-1" strike="noStrike" baseline="30000">
                <a:solidFill>
                  <a:srgbClr val="003366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 is called a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Mersenne prim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914480" y="2997360"/>
            <a:ext cx="1425600" cy="17287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436760" y="4714920"/>
            <a:ext cx="22953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in Merse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88-16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91320" y="3147840"/>
            <a:ext cx="229536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onhard Eu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07-17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44520" y="5629320"/>
            <a:ext cx="704376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program to find the first six Mersenne primes and the corresponding perfect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44880" y="3844800"/>
            <a:ext cx="407052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uler proved that any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eve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erfect number must have that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08560" y="1422360"/>
            <a:ext cx="1444680" cy="167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4DC6-0DE0-4A9F-B75D-C8B6820CE87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ab: Perfect Number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20600" y="1550520"/>
            <a:ext cx="7585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44th Mersenne Prime, 2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32,582,657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1 = 12457502601536945540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1752880154053967871 (9,808,358 digits), was discovered in September 2006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re is a $100,000 reward for finding a 10 million digit prime numb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22320" y="5173560"/>
            <a:ext cx="5950080" cy="459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mersenne.org/32582657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2281-A02F-4E1E-987D-E50E95D84E2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view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20600" y="1406160"/>
            <a:ext cx="698832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me three iterative control statements in Jav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difference betwe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-whi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any code with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loop be rewritten with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loop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es short-circuit evaluation apply to conditions in loop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operators can be used in the “change” part of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loop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AD07-EDE2-4320-958C-3337AEA16A0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view (cont’d)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20240" y="1550880"/>
            <a:ext cx="6737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e method calls allowed in a condition in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loop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llowed in a loop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a nested loop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me a situation where nested loops are us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you have nes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loop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AF8A-9C7A-4EAC-92AE-1ACDF0533EF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tera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is essential that a program be able to execute the same set of instructions many times: otherwise a computer would do only as much work as a programmer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peating the same code fragment several times is called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terat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va provides three control statements for iterations (a.k.a. loops)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and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-whi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D3AE-C2C6-4374-83E3-252175FB46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Loop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1905120"/>
            <a:ext cx="3505320" cy="265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ment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ment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ment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5200560"/>
            <a:ext cx="350532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ment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2666880"/>
            <a:ext cx="19810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4191120"/>
            <a:ext cx="19810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2666880"/>
            <a:ext cx="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5060880"/>
            <a:ext cx="2971800" cy="119124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body has only one statement, the braces are op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5715000"/>
            <a:ext cx="3808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1355760"/>
            <a:ext cx="2743200" cy="119124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y logical expression, as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429000" y="1600200"/>
            <a:ext cx="22096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00200"/>
            <a:ext cx="0" cy="2192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3406680"/>
            <a:ext cx="271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2971800"/>
            <a:ext cx="2011320" cy="8254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dy of the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D692-38AE-43BD-A180-B922CE7768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376280" y="2174760"/>
            <a:ext cx="3729240" cy="3880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Returns the smallest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  such that 2^n &gt;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static int intLog2 (int 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n = 0,  p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 p &lt; x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Loop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3075120"/>
            <a:ext cx="2016000" cy="459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784680"/>
            <a:ext cx="2019240" cy="459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4470480"/>
            <a:ext cx="2019240" cy="459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47960" y="3608280"/>
            <a:ext cx="1357560" cy="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57680" y="3436920"/>
            <a:ext cx="803160" cy="341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019400" y="3995280"/>
            <a:ext cx="146556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71800" y="4630680"/>
            <a:ext cx="2514600" cy="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105520" y="3355560"/>
            <a:ext cx="380880" cy="252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32000" y="4167360"/>
            <a:ext cx="265320" cy="13788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406680" y="3994200"/>
            <a:ext cx="625680" cy="307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6250-385B-464F-814D-0E4E94B48A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Loop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Initializa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The variables tested in the condition must be initialized to some values.  If the condition is false at the outset, the loop is never enter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Test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The condition is tested before each iteration.  If false, the program continues with the first statement after the loo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hang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At least one of the variables tested in the condition must change within the body of the loo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678D-4374-4C1F-836E-6E60127473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Loop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metimes change is implicit in the changed state of a variab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2833560"/>
            <a:ext cx="6015240" cy="1618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ner input = new Scanner(inputFil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input.hasNext(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.out.println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.next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99000" y="4719600"/>
            <a:ext cx="2514600" cy="8254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the state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917960" y="4195800"/>
            <a:ext cx="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A61C-1884-4A2A-BD4C-9A0CE53936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oop Invarian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loop invariant is an assertion that is true before the loop and at the end of each iter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variants help us reason about the cod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14440" y="3733920"/>
            <a:ext cx="3784680" cy="2660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n = 0,  p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p &lt; 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16480" y="4386240"/>
            <a:ext cx="2514600" cy="8254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invaria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94200" y="4456080"/>
            <a:ext cx="10220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92400" y="6172200"/>
            <a:ext cx="10224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114800" y="4456080"/>
            <a:ext cx="1440" cy="17161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6240" y="4826160"/>
            <a:ext cx="12002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AEDC-6B97-4D9A-8F5B-5D5E4C15ED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Loop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a shorthand that combines in one statement initialization, condition, and chang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2990880"/>
            <a:ext cx="5867280" cy="265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ition;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ment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ment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ment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1712-91DB-44CA-AAE7-B79F95CCB9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a Litvin and Gary Litvin</dc:creator>
  <dc:description/>
  <dc:language>en-US</dc:language>
  <cp:lastModifiedBy>Gary Litvin</cp:lastModifiedBy>
  <dcterms:modified xsi:type="dcterms:W3CDTF">2009-10-23T15:10:44Z</dcterms:modified>
  <cp:revision>109</cp:revision>
  <dc:subject>Chapter 8</dc:subject>
  <dc:title>Java Methods A &amp; AB</dc:title>
</cp:coreProperties>
</file>