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36AF-1FC9-4EA7-9BD9-826834596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also includes relational and logical operators, De Morgan’s Laws,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tatement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ata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son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orks for all types of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operators parallel those in formal log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inclusive or: either one or the other or b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ormal logic there is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uality princi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f you take a true statement made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ue, and false, and replace al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vice-versa, and all true with false and vice-versa, you’ll get another true statement.  De Morgan’s Laws are 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 you can string severa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th no parentheses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 &amp;&amp; b &amp;&amp; 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rank o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lower th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 &amp;&amp; b || c &amp;&amp; 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a &amp;&amp; b) || (c &amp;&amp; 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but such an expression is more readable with parenthe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has another set of operator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nd)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or),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not),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xor).  These are bitwise logical operators that work on bit patterns.  Unfortunately, these can be also used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s.  When applied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o NOT follow the short-circuit evaluation rule.  So be very careful to make sure you hav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s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more than two levels, it may be hard to read.  Reconsider your design: perhaps you need helper methods that handle different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-else-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quence, the seco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ctually nested within the preced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use, but this layout is conventional and more readable.  The sequence remains readable even if it is quite 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extra semicolon, the code will be execu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(...) do 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 statements in braces (unconditional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of the two examples of missing braces is known as a “dangl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use actually pairs with the inne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ot the oute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the programmer intended and as the indentation im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egend in software folklore that a miss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a program caused the whole telephone grid of New York to go down, costing millions of dollars.  You have to be careful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; they are among the many opportunities to make a stupid mistake not caught by the compiler.  Attention to detail is k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objective is to discuss team development and illustrate software reusability in the context of a simple but realistic case study,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a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special case of a case without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Case 1 "falls through" to Case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lues are based on objects -- they even have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oolean expression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lues are used with the type name-dot prefix;  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abels use only values, without a pref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is case study is both to practice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ressions and to discuss design topics: OO design, team development, and software reus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assignment is placed into the context of a larger team effort.  All you need to know is the public interfaces for your classe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apsG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at is, their constructors and public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ould take a long time to test your class in the rea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a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gram, with random numbers of points coming up on the dice.  You want a more controlled test, in which you can specify the outcome of a “dice roll,” and you need to run through all relevant sequences of “roll” outc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how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apsG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 is used in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a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gram, and also in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apsSta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gram.  This is a simple example of reus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 is here to let you code a swi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possible values of a boolean vari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operators are used to compare values of numbers and ch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al operator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can you test whether two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 have the same valu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str1.equals(str2))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binary operators have the higher rank (are executed first), relational or log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al.  First arithmetic (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nd %, the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then relational, and logical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you have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tatement without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opt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De Morgan’s Law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(a &amp;&amp; 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a || !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(a || 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a &amp;&amp; !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in short-circuit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quence o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perators, once you encounter one condition that is false, the rest are not evaluated and the result is set to false.  Likewise, in a sequence o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perators, once you encounter a condition that is true, the rest are not evaluated and the result is set to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long can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-else-i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equenc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ng as you need, usually quite readable.  But if it is very long, you might consider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use contains only one statement, the braces are optional, but it is safer to always keep them.  With braces it is also easier to add a statement to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breaks used for in a switch?  What happens if you forget 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structs the code to break out of the switch and go to the statement after the switch.  If a break is missing, the code “falls through” and continues with the statements in the next c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the same case in a switch have two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se may have severa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, but all except the last one must be inside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types of expressions can be used in a switch?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- ye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- ye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- no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- 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ny operators hav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pera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point, really, in us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ymbolic constants because you can just us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Boole was a British mathematician who studied properties of formal log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ssign the result of an arithmetic expression to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.  Similarly, you can assign the result of a Boolean expression to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.  For example, rather than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 exceedsLim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speed &gt; li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eedsLimit = 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eedsLimit = 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write simp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olean exceedsLimit = speed &gt; lim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for assignment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for compari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OK wi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, because in this type of comparison the program usually doesn’t care about the situation when the numbers are exactly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Java you have to always be aware when two variables refer to the same object and when to two different objects, perhaps with equal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lity may be defined differently for different types of objects.  Two strings are equal if they consist of equal characters; for two “employees,” equals may mean the same social security number.  A programmer defines the meaning of “equals” for the objects of his or her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28D-5514-4614-954D-09EA030C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B74-1F07-48DB-885F-5D741487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54D-B7FA-4EF8-BF50-5F934213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A60-2733-424E-80E7-F1C17DEF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05D-E934-4F43-9DF0-EF1FE2F2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787-D426-452D-BA59-0EEE514F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EB3-F6DC-4064-A01C-0882499C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B69-BD1B-41B2-940E-C64C9D60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126-AB13-44E9-8431-B3D481C0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D7B-6399-41B4-A8E0-54DD953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256-1225-48D2-BE41-EDCA3BF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689-516E-41AA-8F17-D36CDD6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</a:t>
            </a:r>
            <a:fld id="{184A9808-86E9-4192-8994-DFFEFDAC6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828800" y="4114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Ti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69343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384200"/>
            <a:ext cx="61722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n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to Obj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380880"/>
            <a:ext cx="3047760" cy="9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Maria Lit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490a8"/>
                </a:solidFill>
                <a:latin typeface="Times New Roman"/>
              </a:rPr>
              <a:t>Gary Lit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640080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1-2003 by Maria Litvin, Gary Litvin, and Skylight Publishing.  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04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914400"/>
            <a:ext cx="19814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50960" y="4514760"/>
            <a:ext cx="611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Expressions and if-else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7920" y="430200"/>
            <a:ext cx="39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&amp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5840" y="14000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17920" y="2228760"/>
            <a:ext cx="394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06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4320" y="3516480"/>
            <a:ext cx="5240520" cy="98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(chapter ==</a:t>
            </a:r>
            <a:r>
              <a:rPr b="0" i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1000" y="343080"/>
            <a:ext cx="151416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73F-2929-45AA-A5D3-CC77525953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perator with strings and other objects when you want to know whether or not this is exactly the same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so 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compar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9960" y="3711600"/>
            <a:ext cx="5257800" cy="90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text = file.readLine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tex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ll ) 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932-9F54-4781-A2AD-7F559EE6F2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gical Operat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83760" y="1900080"/>
            <a:ext cx="6248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&amp;,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30320" y="2898720"/>
            <a:ext cx="1079640" cy="45972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06560" y="3622680"/>
            <a:ext cx="939960" cy="45972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27480" y="4321080"/>
            <a:ext cx="939600" cy="45972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B6D-9EB5-41C9-86D0-AEE000885A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gic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20240" y="1550880"/>
            <a:ext cx="73263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&amp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rue if and only if bo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e tr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rue if and only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 both) are tr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rue if and only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fa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5E5-05A4-478E-BD31-D5B6545F4B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gic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ey the laws of formal logic calle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De Morgan’s Law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! ( x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 &amp;&amp;  x &lt;= 10 )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x &l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 ||  x &gt; 10 ) ..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22520" y="2678040"/>
            <a:ext cx="579096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!p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!q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!p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!q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27440" y="5495760"/>
            <a:ext cx="236232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62560" y="5038560"/>
            <a:ext cx="457200" cy="457200"/>
            <a:chOff x="5362560" y="5038560"/>
            <a:chExt cx="457200" cy="457200"/>
          </a:xfrm>
        </p:grpSpPr>
        <p:sp>
          <p:nvSpPr>
            <p:cNvPr id="148" name=""/>
            <p:cNvSpPr/>
            <p:nvPr/>
          </p:nvSpPr>
          <p:spPr>
            <a:xfrm flipH="1">
              <a:off x="5362560" y="5038560"/>
              <a:ext cx="457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19760" y="5038560"/>
              <a:ext cx="0" cy="45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7D9-E86A-4A66-BD2B-7F03B70F9D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anks of Operat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1600200"/>
            <a:ext cx="4495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++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 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    &lt;=     &gt;     &gt;=     ==    !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205740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66688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20040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37339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426708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5257800"/>
            <a:ext cx="678204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( ( year % 4 ) == 0 ) &amp;&amp; ( month == 2 ) 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year % 4 == 0 &amp;&amp; month == 2 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4638600"/>
            <a:ext cx="236232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857640" y="6086520"/>
            <a:ext cx="1066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924680" y="509580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25760" y="189540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35000" y="1459080"/>
            <a:ext cx="11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gh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35000" y="4675320"/>
            <a:ext cx="11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D86-6229-4589-AD09-3D6925527B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ort-Circuit Evalu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27200" y="1454040"/>
            <a:ext cx="6469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evalu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result is false anywa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 evalu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result is true anywa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4699080"/>
            <a:ext cx="57913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x &gt;= 0  &amp;&amp;  Math.sqrt (x) &lt; 15.0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35640" y="5160600"/>
            <a:ext cx="0" cy="369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13000" y="2978280"/>
            <a:ext cx="6270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11400" y="5500800"/>
            <a:ext cx="316728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OK: won’t get to sqrt if x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FC7-17FD-4951-BA6F-93CC28E1DF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e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36800" y="1638360"/>
            <a:ext cx="4038480" cy="4362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"forward".equals(cmd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lide &gt;= num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ep.pla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lide &lt;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ep.pla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33880" y="224784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33880" y="361944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91280" y="224784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33880" y="438156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33880" y="575316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91280" y="438156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48080" y="156204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48080" y="605808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96200" y="1562040"/>
            <a:ext cx="0" cy="4496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B8D-81BA-46E4-927F-7E6E856A1D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-if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09760" y="1771560"/>
            <a:ext cx="472428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drinkSize.equals(”Large"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+= 1.3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 if (drinkSize.equals("Medium"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+= 1.1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  // if "Small" drink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+= 0.9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623960" y="3371760"/>
            <a:ext cx="129528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23960" y="443880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623600" y="2000160"/>
            <a:ext cx="685800" cy="12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23960" y="32194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711-AD9B-4F0C-B249-80D6B427B1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m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Err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03720" y="4114800"/>
            <a:ext cx="2548080" cy="230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..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..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1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2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014800" y="4572000"/>
            <a:ext cx="380880" cy="696600"/>
            <a:chOff x="5014800" y="4572000"/>
            <a:chExt cx="380880" cy="696600"/>
          </a:xfrm>
        </p:grpSpPr>
        <p:sp>
          <p:nvSpPr>
            <p:cNvPr id="190" name=""/>
            <p:cNvSpPr/>
            <p:nvPr/>
          </p:nvSpPr>
          <p:spPr>
            <a:xfrm flipH="1">
              <a:off x="5014800" y="457200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800" y="5267520"/>
              <a:ext cx="380880" cy="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14800" y="4572000"/>
              <a:ext cx="0" cy="695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013120" y="4702320"/>
            <a:ext cx="201744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afer to always use brace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-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3720" y="2363760"/>
            <a:ext cx="2373480" cy="1479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57400" y="2363760"/>
            <a:ext cx="2395440" cy="1905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...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19040" y="1635120"/>
            <a:ext cx="207180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semicol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5960" y="2363760"/>
            <a:ext cx="380880" cy="53352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14800" y="2795760"/>
            <a:ext cx="380880" cy="723240"/>
            <a:chOff x="5014800" y="2795760"/>
            <a:chExt cx="380880" cy="723240"/>
          </a:xfrm>
        </p:grpSpPr>
        <p:sp>
          <p:nvSpPr>
            <p:cNvPr id="199" name=""/>
            <p:cNvSpPr/>
            <p:nvPr/>
          </p:nvSpPr>
          <p:spPr>
            <a:xfrm flipH="1">
              <a:off x="5014800" y="279576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014800" y="3517920"/>
              <a:ext cx="380880" cy="1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4800" y="2795760"/>
              <a:ext cx="0" cy="722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146560" y="1635120"/>
            <a:ext cx="228600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bra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5480" y="2066760"/>
            <a:ext cx="0" cy="25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043520" y="3286080"/>
            <a:ext cx="887400" cy="169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54320" y="4903920"/>
            <a:ext cx="849600" cy="171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816-463B-4EAE-A55E-9617DCC8BA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609120"/>
            <a:ext cx="355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witch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tem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19720" y="1074600"/>
            <a:ext cx="307008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ue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45320" y="3219480"/>
            <a:ext cx="124956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org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5272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37306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527040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6760" y="2527200"/>
            <a:ext cx="0" cy="3375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33680" y="2408400"/>
            <a:ext cx="1404720" cy="1557000"/>
          </a:xfrm>
          <a:prstGeom prst="rect">
            <a:avLst/>
          </a:prstGeom>
          <a:solidFill>
            <a:srgbClr val="e1e1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31920" y="4511520"/>
            <a:ext cx="22082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335320" y="3965040"/>
            <a:ext cx="0" cy="52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D32-851A-4FF8-886D-609DE19148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ta ty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he syntax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relational and logical operators, De Morgan’s laws, short-circuit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when to use nes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-else-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equences,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ta 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9BB-3086-4585-9E54-57A7CEFD6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Statemen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ame case can have two or more labels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63560" y="2835360"/>
            <a:ext cx="6131160" cy="285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 (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 ("Buckle your sho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0CA-D0B7-405A-8B02-00A4BD1E6D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31760" y="3618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Data Typ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20600" y="142884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when an object’s attribute or state can have only one of a small set of values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riabl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present numbers, characters, or str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3122640"/>
            <a:ext cx="645336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ed { LOW, MEDIUM, HIGH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kColor { BLACK, RED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yOfWeek { sunday, monda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, wednesday, thursday, friday, saturday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CFA-5F9B-4901-ACB4-9CE6E4F89E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31760" y="3618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Data Typ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20600" y="1305000"/>
            <a:ext cx="77724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comp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in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30360" y="1978200"/>
            <a:ext cx="645300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enum Speed { LOW, MEDIUM, HIGH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currentSpeed = Speed.L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currentSpe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ed.LOW)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30360" y="4349880"/>
            <a:ext cx="645300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(current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MED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F22-5FC7-47DB-B349-7F7471688E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05080" y="1971720"/>
            <a:ext cx="4699080" cy="352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B35-4790-4CD8-868B-5194971DDC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847800" y="1647720"/>
          <a:ext cx="643572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647720"/>
                    <a:ext cx="64357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143840" y="3809880"/>
            <a:ext cx="628560" cy="4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5840" y="3400560"/>
            <a:ext cx="152388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BB1-5543-44D4-B38B-D1DF44FA50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1600200"/>
            <a:ext cx="6324840" cy="1267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separately using the 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Test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67120" y="3029040"/>
            <a:ext cx="4287960" cy="3430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24160" y="4019400"/>
            <a:ext cx="0" cy="714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90680" y="3733920"/>
            <a:ext cx="187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psTe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09760" y="4753080"/>
            <a:ext cx="187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573-93B5-4DEC-B27F-ABAE1887D6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543040" y="3772080"/>
            <a:ext cx="828720" cy="54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8160" y="1557360"/>
            <a:ext cx="7399440" cy="1267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es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St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429080" y="4086360"/>
            <a:ext cx="4278240" cy="1425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048040" y="3629160"/>
            <a:ext cx="0" cy="71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3440" y="3343320"/>
            <a:ext cx="187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ps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33640" y="4362480"/>
            <a:ext cx="187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28840" y="4362480"/>
            <a:ext cx="838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4FB-3FEF-4C39-B7B6-98911FBC73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rap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jec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41360" y="1433520"/>
            <a:ext cx="7209000" cy="16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lingD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(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D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).  Integ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psG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lingD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4880" y="3594240"/>
            <a:ext cx="3043080" cy="228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C44-EC14-4504-923F-D57AF6ADDF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possible values of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ria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operators are used to compare values of number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you test whether tw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have the same values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binary operators have higher rank (are executed first), relational or logic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C71-3E92-44E7-9BE6-E5085E7CFC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you have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without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De Morgan’s Law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short-circuit evalu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long can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-else-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equence b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C21-71CD-4342-B870-2348284194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057400"/>
            <a:ext cx="35049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ther stat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057400"/>
            <a:ext cx="350532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2400" y="4129200"/>
            <a:ext cx="179064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242" y="-16016"/>
                </a:moveTo>
                <a:lnTo>
                  <a:pt x="-919" y="2968"/>
                </a:lnTo>
              </a:path>
              <a:path w="21600" h="21600">
                <a:moveTo>
                  <a:pt x="-919" y="0"/>
                </a:moveTo>
                <a:lnTo>
                  <a:pt x="-919" y="21600"/>
                </a:lnTo>
              </a:path>
            </a:pathLst>
          </a:custGeom>
          <a:solidFill>
            <a:srgbClr val="e1e1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use is 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733400"/>
            <a:ext cx="0" cy="378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B88-020D-4FAA-9F0B-FC3F856AB3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used for in a switch?  What happens if you forget 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the same case in a switch have tw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s of expressions can be used in a switch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ny operators ha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perand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7CF-8699-4256-A858-7672F9AB69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Data Typ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0240" y="1550520"/>
            <a:ext cx="5388120" cy="30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rge Boole (1815 - 186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riables may have only two value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def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ield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cal variables the same way as other varia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18240" y="3627360"/>
            <a:ext cx="1405080" cy="1191240"/>
          </a:xfrm>
          <a:prstGeom prst="rect">
            <a:avLst/>
          </a:prstGeom>
          <a:solidFill>
            <a:srgbClr val="e1e1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16480" y="5386320"/>
            <a:ext cx="22082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50040" y="1093680"/>
            <a:ext cx="1449360" cy="176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7319880" y="4839840"/>
            <a:ext cx="0" cy="52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97160" y="4659480"/>
            <a:ext cx="44971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Middle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Rolling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10F-57D6-49A2-A0F8-ADB023548A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oolean Express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&lt;condition&gt; 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a Boolean expres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oolean expression evaluates to either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olean expressions are written u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riables and relational and logical operat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A31-206C-4F51-AC19-382A3796EA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77840" y="1833480"/>
            <a:ext cx="4800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,   &gt;,  &lt;=,  &gt;=,   ==,   !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41720" y="3019320"/>
            <a:ext cx="1892160" cy="45972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7520" y="3689280"/>
            <a:ext cx="1892160" cy="825480"/>
          </a:xfrm>
          <a:solidFill>
            <a:srgbClr val="e1e1b7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35A-02F4-486B-A322-ABF5055A64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20240" y="1550880"/>
            <a:ext cx="51483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to number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count1 &lt;= count2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sum != 0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( letter == 'Y'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not 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because they may have rounding err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4560" y="3200400"/>
            <a:ext cx="2332080" cy="155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x = 7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y = 3.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/ y ==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840" y="5257800"/>
            <a:ext cx="160020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fal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419960" y="441972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EEB-0A9F-4343-93B0-3543A87D62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careful u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objects (for exampl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): they compare references (addresses) rather than values (the content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cmd = console.readLine(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cmd == "Help" ) 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14480" y="4346640"/>
            <a:ext cx="213372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ways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981160" y="3828960"/>
            <a:ext cx="0" cy="44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2D9-3844-422C-8AB9-E57B8D011B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lational Operat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69120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IgnoreCa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to comp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1200" y="4576680"/>
            <a:ext cx="6172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 "Help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equ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md) ) 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9400" y="2746440"/>
            <a:ext cx="6172200" cy="90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cmd = console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 cm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equ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"Help") ) 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8493-06AD-4006-ABF9-65D746469B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06-08-28T23:01:44Z</dcterms:modified>
  <cp:revision>99</cp:revision>
  <dc:subject>Chapter 7</dc:subject>
  <dc:title>Java Methods A &amp; AB</dc:title>
</cp:coreProperties>
</file>