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3DB4-9151-4675-A1C8-84349A4D1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and the following chapter we start looking at the implementation details of data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 would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void (add Object 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ail.setNext(new ListNode(x, null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 w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Object remov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bject temp = head.getValu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ead = head.getNex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te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 a few other details related to handling an empty lis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doubly-linked list, bot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moveFir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moveLa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s work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lists are not used very of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let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ab in this chapter provides an opportunity to practice with such a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does an object of the ListNode class re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de of a singly-linked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ch fields and methods have to be added to ListNode to make it suitable for doubly-linked l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el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evio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method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tPrevio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Previo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is a circular l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st where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ference in the last node is not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ut refers back to the first n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n empty circular list with a header node, what are the values o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eviou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ad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refer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ead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 CS course description indicates that students must be familiar with the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util.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erface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ses, as well as with manipulating “do-it-yourself” linked lists based on the College Board’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e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variable that holds a reference to the first node of the linked list.  Its type i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ould be reasonable to provide the second constructor to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stNode(Object 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 value = v; next = null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de is terse.  Basically it is the same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ListNode append(ListNode head, Object 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stNode newNode = new ListNode(x, null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wNode.setNext(head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ead = newNod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hea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last node in a singly-linked list, you need to traverse the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diom with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oop is a convenient way to traverse a singly-linked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in the AP subset, of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inglyLinkedListItera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hould be an inner class in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inglyLinkedLi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256-38A6-4853-A07C-BE52A3EF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1F4-60C0-463C-8A75-2E5E04CD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630-6EB0-426E-9F83-F1BB7950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5FD-FA95-40FA-BE79-1C1A7553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EA1-034C-4723-80E0-64CB9510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E14E-B5B8-483A-893B-6D164039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4577-C60A-443F-9567-79018777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0C7-2AF3-4E7F-8866-ED593FA2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EC6-FDEA-4FF5-86C4-9A9A92DE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AA2-10F4-4EA5-824E-5C217C40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189B-607E-4093-84AB-A3247A1D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F59-1CA9-465A-A23A-614B11B0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-</a:t>
            </a:r>
            <a:fld id="{3B94B66F-2CEF-49BD-9865-A281BDC49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9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17920" y="430200"/>
            <a:ext cx="394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 &amp;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25840" y="14000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17920" y="2228760"/>
            <a:ext cx="394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06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50960" y="461952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and It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38360" y="3438360"/>
          <a:ext cx="434340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3438360"/>
                    <a:ext cx="43434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1000" y="343080"/>
            <a:ext cx="1514160" cy="19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F03-DB62-4260-B725-671B2B1755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ngly-Linked List with a Tai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eps a reference to the last 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itable for implementing a que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20800" y="4210200"/>
            <a:ext cx="119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86280" y="4210200"/>
            <a:ext cx="1198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53200" y="4210200"/>
            <a:ext cx="1198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67400" y="4797360"/>
            <a:ext cx="1274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37280" y="4797360"/>
            <a:ext cx="1384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22680" y="4211640"/>
            <a:ext cx="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479916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62600" y="4211640"/>
            <a:ext cx="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4211640"/>
            <a:ext cx="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92880" y="479916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292880" y="4799160"/>
            <a:ext cx="22860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45440" y="4946760"/>
            <a:ext cx="10944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70200" y="4276800"/>
            <a:ext cx="23976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0160" y="441324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70600" y="441324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32360" y="500076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1960" y="4416480"/>
            <a:ext cx="2438280" cy="598320"/>
          </a:xfrm>
          <a:custGeom>
            <a:avLst/>
            <a:gdLst/>
            <a:ahLst/>
            <a:rect l="l" t="t" r="r" b="b"/>
            <a:pathLst>
              <a:path w="1536" h="377">
                <a:moveTo>
                  <a:pt x="1323" y="0"/>
                </a:moveTo>
                <a:lnTo>
                  <a:pt x="1536" y="0"/>
                </a:lnTo>
                <a:lnTo>
                  <a:pt x="1536" y="171"/>
                </a:lnTo>
                <a:lnTo>
                  <a:pt x="0" y="171"/>
                </a:lnTo>
                <a:lnTo>
                  <a:pt x="0" y="377"/>
                </a:lnTo>
                <a:lnTo>
                  <a:pt x="199" y="37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96920" y="4416480"/>
            <a:ext cx="621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98720" y="3784680"/>
            <a:ext cx="0" cy="446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58880" y="349416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61040" y="3772080"/>
            <a:ext cx="0" cy="979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21560" y="3494160"/>
            <a:ext cx="76176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D7C-6F1D-4189-ABB5-D6231FEC23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ubly-Linked Li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node has references to the next and previous 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last nod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 in the first nod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traversed backw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7760" y="539748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08480" y="5383080"/>
            <a:ext cx="5331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97400" y="538308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07080" y="5383080"/>
            <a:ext cx="6858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74960" y="5535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54600" y="5535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950920" y="5611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930560" y="5611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73920" y="5535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149880" y="5611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4080" y="5321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98640" y="53942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89360" y="5383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60760" y="5383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78280" y="5383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49680" y="5383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40600" y="5383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59720" y="5383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62440" y="55436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938400" y="5619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66800" y="5388120"/>
            <a:ext cx="23976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82720" y="5538960"/>
            <a:ext cx="620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92440" y="4896000"/>
            <a:ext cx="0" cy="446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11200" y="461628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8880" y="53942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148520" y="5385960"/>
            <a:ext cx="1522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57880" y="5533920"/>
            <a:ext cx="1098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413080" y="5397120"/>
            <a:ext cx="1522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22440" y="5545080"/>
            <a:ext cx="1098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918560" y="4962600"/>
            <a:ext cx="0" cy="446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37320" y="466092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16680" y="5465880"/>
            <a:ext cx="23976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321680" y="5616720"/>
            <a:ext cx="620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6812-2B79-4092-8A55-1FC4224B70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ubly-Linked Circular Li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last node points to the first 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first node points to the last 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84440" y="431640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75160" y="4302000"/>
            <a:ext cx="5331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64080" y="430200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73760" y="4302000"/>
            <a:ext cx="6858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1640" y="44546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1280" y="44546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117600" y="4530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097240" y="4530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44546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316560" y="453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0760" y="424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65320" y="43131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6040" y="430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27440" y="430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44960" y="430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16360" y="430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07280" y="430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26400" y="43020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29120" y="446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105080" y="4538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27360" y="3773520"/>
            <a:ext cx="23976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47960" y="3906720"/>
            <a:ext cx="0" cy="392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57560" y="3886200"/>
            <a:ext cx="446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63560" y="368784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25560" y="43131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14640" y="4417920"/>
            <a:ext cx="5649840" cy="565200"/>
          </a:xfrm>
          <a:custGeom>
            <a:avLst/>
            <a:gdLst/>
            <a:ahLst/>
            <a:rect l="l" t="t" r="r" b="b"/>
            <a:pathLst>
              <a:path w="3559" h="356">
                <a:moveTo>
                  <a:pt x="3306" y="0"/>
                </a:moveTo>
                <a:lnTo>
                  <a:pt x="3559" y="0"/>
                </a:lnTo>
                <a:lnTo>
                  <a:pt x="3559" y="356"/>
                </a:lnTo>
                <a:lnTo>
                  <a:pt x="0" y="356"/>
                </a:lnTo>
                <a:lnTo>
                  <a:pt x="0" y="13"/>
                </a:lnTo>
                <a:lnTo>
                  <a:pt x="295" y="1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66920" y="4537080"/>
            <a:ext cx="5378400" cy="293760"/>
          </a:xfrm>
          <a:custGeom>
            <a:avLst/>
            <a:gdLst/>
            <a:ahLst/>
            <a:rect l="l" t="t" r="r" b="b"/>
            <a:pathLst>
              <a:path w="3388" h="185">
                <a:moveTo>
                  <a:pt x="240" y="0"/>
                </a:moveTo>
                <a:lnTo>
                  <a:pt x="0" y="0"/>
                </a:lnTo>
                <a:lnTo>
                  <a:pt x="0" y="185"/>
                </a:lnTo>
                <a:lnTo>
                  <a:pt x="3388" y="185"/>
                </a:lnTo>
                <a:lnTo>
                  <a:pt x="3388" y="14"/>
                </a:lnTo>
                <a:lnTo>
                  <a:pt x="3264" y="1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34D-8227-410E-902E-B64AB6DEFA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oubly-Linked Circular List with a Header No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640" y="230040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t’s h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.util.LinkedLi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implemen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920" y="5037120"/>
            <a:ext cx="5331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0280" y="502272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89560" y="5022720"/>
            <a:ext cx="5331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99240" y="5022720"/>
            <a:ext cx="6858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67120" y="5175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46760" y="5175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043080" y="5251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022720" y="5251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65720" y="5175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42040" y="5251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56240" y="4960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0800" y="502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2200" y="502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1520" y="502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2920" y="502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0440" y="502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1840" y="502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32760" y="502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1520" y="5022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54600" y="5183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030560" y="5259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128680" y="4386240"/>
            <a:ext cx="1121040" cy="376200"/>
            <a:chOff x="2128680" y="4386240"/>
            <a:chExt cx="1121040" cy="376200"/>
          </a:xfrm>
        </p:grpSpPr>
        <p:sp>
          <p:nvSpPr>
            <p:cNvPr id="266" name=""/>
            <p:cNvSpPr/>
            <p:nvPr/>
          </p:nvSpPr>
          <p:spPr>
            <a:xfrm>
              <a:off x="2128680" y="4386240"/>
              <a:ext cx="1121040" cy="37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92480" y="438624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65400" y="438624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995480" y="4637160"/>
            <a:ext cx="512640" cy="533160"/>
          </a:xfrm>
          <a:custGeom>
            <a:avLst/>
            <a:gdLst/>
            <a:ahLst/>
            <a:rect l="l" t="t" r="r" b="b"/>
            <a:pathLst>
              <a:path w="323" h="336">
                <a:moveTo>
                  <a:pt x="131" y="0"/>
                </a:moveTo>
                <a:lnTo>
                  <a:pt x="0" y="0"/>
                </a:lnTo>
                <a:lnTo>
                  <a:pt x="0" y="336"/>
                </a:lnTo>
                <a:lnTo>
                  <a:pt x="323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87480" y="4540320"/>
            <a:ext cx="696960" cy="750960"/>
          </a:xfrm>
          <a:custGeom>
            <a:avLst/>
            <a:gdLst/>
            <a:ahLst/>
            <a:rect l="l" t="t" r="r" b="b"/>
            <a:pathLst>
              <a:path w="439" h="473">
                <a:moveTo>
                  <a:pt x="439" y="473"/>
                </a:moveTo>
                <a:lnTo>
                  <a:pt x="0" y="473"/>
                </a:lnTo>
                <a:lnTo>
                  <a:pt x="0" y="0"/>
                </a:lnTo>
                <a:lnTo>
                  <a:pt x="1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47920" y="4616280"/>
            <a:ext cx="4354560" cy="544680"/>
          </a:xfrm>
          <a:custGeom>
            <a:avLst/>
            <a:gdLst/>
            <a:ahLst/>
            <a:rect l="l" t="t" r="r" b="b"/>
            <a:pathLst>
              <a:path w="2743" h="364">
                <a:moveTo>
                  <a:pt x="2558" y="364"/>
                </a:moveTo>
                <a:lnTo>
                  <a:pt x="2743" y="364"/>
                </a:lnTo>
                <a:lnTo>
                  <a:pt x="2743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49640" y="4495680"/>
            <a:ext cx="4560840" cy="750960"/>
          </a:xfrm>
          <a:custGeom>
            <a:avLst/>
            <a:gdLst/>
            <a:ahLst/>
            <a:rect l="l" t="t" r="r" b="b"/>
            <a:pathLst>
              <a:path w="2873" h="473">
                <a:moveTo>
                  <a:pt x="0" y="0"/>
                </a:moveTo>
                <a:lnTo>
                  <a:pt x="2873" y="0"/>
                </a:lnTo>
                <a:lnTo>
                  <a:pt x="2873" y="473"/>
                </a:lnTo>
                <a:lnTo>
                  <a:pt x="2668" y="47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24040" y="3776760"/>
            <a:ext cx="0" cy="566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66840" y="3200400"/>
            <a:ext cx="4550040" cy="8625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ListNode2 head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eld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yLinked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2A4-CAF0-4DEF-AC1B-27F4F83498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an object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No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 represe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fields and methods have to be adde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No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make it suitable for doubly-linked list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a circular lis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n empty circular list with a header node, what are the value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A477-B7B8-4FF3-B105-8774FE9B4C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to work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Nod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s and             do-it-yourself linked li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singly-linked list, linked list with a tail, circular list, and doubly-linked 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to implement itera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FB7-C773-4CAF-B335-7291B7EC92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ngly-Linked Li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node holds a reference to the next 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last nod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inked list is defined by a reference to its first node (often nam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6040" y="4587840"/>
            <a:ext cx="1198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51160" y="4587840"/>
            <a:ext cx="119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18080" y="4587840"/>
            <a:ext cx="119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32280" y="5584680"/>
            <a:ext cx="1274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02520" y="5584680"/>
            <a:ext cx="1384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7920" y="458964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89600" y="558648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27480" y="458964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9720" y="458964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58120" y="558648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458120" y="5586480"/>
            <a:ext cx="22860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10320" y="5734080"/>
            <a:ext cx="1098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35080" y="4654440"/>
            <a:ext cx="239760" cy="27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75040" y="479124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35480" y="479124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97600" y="57880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06840" y="4794120"/>
            <a:ext cx="2438640" cy="989280"/>
          </a:xfrm>
          <a:custGeom>
            <a:avLst/>
            <a:gdLst/>
            <a:ahLst/>
            <a:rect l="l" t="t" r="r" b="b"/>
            <a:pathLst>
              <a:path w="1536" h="377">
                <a:moveTo>
                  <a:pt x="1323" y="0"/>
                </a:moveTo>
                <a:lnTo>
                  <a:pt x="1536" y="0"/>
                </a:lnTo>
                <a:lnTo>
                  <a:pt x="1536" y="171"/>
                </a:lnTo>
                <a:lnTo>
                  <a:pt x="0" y="171"/>
                </a:lnTo>
                <a:lnTo>
                  <a:pt x="0" y="377"/>
                </a:lnTo>
                <a:lnTo>
                  <a:pt x="199" y="37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62160" y="4794120"/>
            <a:ext cx="620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63600" y="4162320"/>
            <a:ext cx="0" cy="446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4120" y="3871800"/>
            <a:ext cx="76176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7A3-35D5-4471-B3DE-4D0C05113B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ingly-Linked List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1825560"/>
            <a:ext cx="6095880" cy="4057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class List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Object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Node 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ListNode (Object v, ListNode n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value = v; next = nx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)   { return value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ListNo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)   { return next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bject v)   { value = v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istNode nx)   { next = nx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2511360"/>
            <a:ext cx="190476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ference to the nex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952520" y="2968560"/>
            <a:ext cx="12193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21200" y="1492200"/>
            <a:ext cx="249228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 node of a singly-link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244-C364-4425-9D8D-59212AA1D7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ingly-Linked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List — Example 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0600" y="145044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e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the head of a linked list and return the head of the new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12880" y="2697120"/>
            <a:ext cx="605304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ListNode append (ListNode head, Object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new ListNode (value, hea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92480" y="5130720"/>
            <a:ext cx="1198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57600" y="5130720"/>
            <a:ext cx="119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130720"/>
            <a:ext cx="1198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38720" y="5718240"/>
            <a:ext cx="1274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8600" y="5718240"/>
            <a:ext cx="1384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4000" y="513252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6040" y="5719680"/>
            <a:ext cx="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33920" y="513252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96160" y="5132520"/>
            <a:ext cx="0" cy="40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64560" y="5719680"/>
            <a:ext cx="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864560" y="5719680"/>
            <a:ext cx="22860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16760" y="5867280"/>
            <a:ext cx="1098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387600" y="4454640"/>
            <a:ext cx="1198440" cy="401400"/>
            <a:chOff x="3387600" y="4454640"/>
            <a:chExt cx="1198440" cy="401400"/>
          </a:xfrm>
        </p:grpSpPr>
        <p:sp>
          <p:nvSpPr>
            <p:cNvPr id="104" name=""/>
            <p:cNvSpPr/>
            <p:nvPr/>
          </p:nvSpPr>
          <p:spPr>
            <a:xfrm>
              <a:off x="3387600" y="4454640"/>
              <a:ext cx="11984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89120" y="4454640"/>
              <a:ext cx="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463840" y="5197320"/>
            <a:ext cx="239760" cy="27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81480" y="533412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41920" y="533412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4040" y="59212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13280" y="5337000"/>
            <a:ext cx="2438280" cy="598680"/>
          </a:xfrm>
          <a:custGeom>
            <a:avLst/>
            <a:gdLst/>
            <a:ahLst/>
            <a:rect l="l" t="t" r="r" b="b"/>
            <a:pathLst>
              <a:path w="1536" h="377">
                <a:moveTo>
                  <a:pt x="1323" y="0"/>
                </a:moveTo>
                <a:lnTo>
                  <a:pt x="1536" y="0"/>
                </a:lnTo>
                <a:lnTo>
                  <a:pt x="1536" y="171"/>
                </a:lnTo>
                <a:lnTo>
                  <a:pt x="0" y="171"/>
                </a:lnTo>
                <a:lnTo>
                  <a:pt x="0" y="377"/>
                </a:lnTo>
                <a:lnTo>
                  <a:pt x="199" y="37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63880" y="4662360"/>
            <a:ext cx="1808280" cy="674640"/>
          </a:xfrm>
          <a:custGeom>
            <a:avLst/>
            <a:gdLst/>
            <a:ahLst/>
            <a:rect l="l" t="t" r="r" b="b"/>
            <a:pathLst>
              <a:path w="1139" h="425">
                <a:moveTo>
                  <a:pt x="953" y="0"/>
                </a:moveTo>
                <a:lnTo>
                  <a:pt x="1139" y="0"/>
                </a:lnTo>
                <a:lnTo>
                  <a:pt x="1139" y="199"/>
                </a:lnTo>
                <a:lnTo>
                  <a:pt x="0" y="199"/>
                </a:lnTo>
                <a:lnTo>
                  <a:pt x="0" y="425"/>
                </a:lnTo>
                <a:lnTo>
                  <a:pt x="137" y="425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83000" y="4662360"/>
            <a:ext cx="795240" cy="674640"/>
          </a:xfrm>
          <a:custGeom>
            <a:avLst/>
            <a:gdLst/>
            <a:ahLst/>
            <a:rect l="l" t="t" r="r" b="b"/>
            <a:pathLst>
              <a:path w="501" h="425">
                <a:moveTo>
                  <a:pt x="0" y="425"/>
                </a:moveTo>
                <a:lnTo>
                  <a:pt x="158" y="425"/>
                </a:lnTo>
                <a:lnTo>
                  <a:pt x="158" y="0"/>
                </a:lnTo>
                <a:lnTo>
                  <a:pt x="50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65600" y="5075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17800" y="5075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46240" y="5334120"/>
            <a:ext cx="349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90680" y="515448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3FE-5864-4B7B-B058-C3473FF3A8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ingly-Linked List — Example 2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20600" y="138384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uming the list has at least two nodes, remove the last no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1360" y="2550960"/>
            <a:ext cx="6095880" cy="222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removeLast (ListNode h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Node node = he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Next (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Next () !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 = 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Next 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Next (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55944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55944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55944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55944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574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5746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5743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62006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5956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55483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74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574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574668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60640" y="5578560"/>
            <a:ext cx="3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27320" y="5578560"/>
            <a:ext cx="3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94360" y="5578560"/>
            <a:ext cx="31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61040" y="5578560"/>
            <a:ext cx="3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35600" y="56167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99320" y="56167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28840" y="5450040"/>
            <a:ext cx="239760" cy="24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49440" y="5580000"/>
            <a:ext cx="358920" cy="195480"/>
          </a:xfrm>
          <a:custGeom>
            <a:avLst/>
            <a:gdLst/>
            <a:ahLst/>
            <a:rect l="l" t="t" r="r" b="b"/>
            <a:pathLst>
              <a:path w="226" h="123">
                <a:moveTo>
                  <a:pt x="0" y="0"/>
                </a:moveTo>
                <a:lnTo>
                  <a:pt x="0" y="123"/>
                </a:lnTo>
                <a:lnTo>
                  <a:pt x="226" y="12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13520" y="5089680"/>
            <a:ext cx="239400" cy="24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5203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5181480"/>
            <a:ext cx="358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492300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62280" y="5583240"/>
            <a:ext cx="412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51000" y="5367240"/>
            <a:ext cx="76212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312-7759-4B59-9131-B476972369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ingly-Linked List — Traversal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79680" y="1766880"/>
            <a:ext cx="6346800" cy="1923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rintList (ListNode h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(ListNode node = head;  node !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= node.getNext 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.out.println (node.getValue 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678-77CC-4B8F-8B39-6B5756541E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o-it-Yourself Iterator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51000" y="1822320"/>
            <a:ext cx="70326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SinglyLinkedLi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s Iterable&lt;Objec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ListNode hea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Iterator&lt;Object&gt; iterator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SinglyLinkedListIterator (hea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9E2-D0BD-4066-80AC-BD0602CC2F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0120" y="824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o-it-Yourself Iterator (cont’d)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49320" y="1063800"/>
            <a:ext cx="7613640" cy="5186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yLinkedListIterator implements Iterator&lt;Objec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ListNode next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SinglyLinkedListIterator (ListNode head)  {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Node = h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boolean hasNext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return nextNode != null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Object next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nextNode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w new NoSuchElementException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obj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Node.getValue 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Node = nextNode.getNext 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ob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5200" y="5740560"/>
            <a:ext cx="5670720" cy="6426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void remove 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  throw new UnsupportedOperationException();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DE0-16FB-4FEB-8A91-E3C9CBC244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06-08-28T23:04:16Z</dcterms:modified>
  <cp:revision>196</cp:revision>
  <dc:subject>Chapter 20</dc:subject>
  <dc:title>Java Methods A &amp; AB</dc:title>
</cp:coreProperties>
</file>