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E3FE-E1B1-4928-83D1-8813B5519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contains a case study on asynchronous computing architectures 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c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rackets match, the stack must be empty at the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e traversal is much easier with recursion (Chapter 2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s can be also used in sor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ersonal computer, a small ring buffer is used for queuing characters typed on the key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an object in a queue in itself does not protect it from further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 the Java Collections Framework does not have a special class for queues: it use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Remember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class bu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lines of text read from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cessed in the same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wo main operations for a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applications of st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all files in nested directories; evaluation of nested expressions; traversing a t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our methods of the java.util.Stack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two main operations for a que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a few applications of que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events; system tasks, such as queuing print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our methods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ava.util.Queu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e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plain why a stack of objects can be equally efficiently implemented using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and removing a value at the end of the list is equally efficient: tak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y is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not as efficient for implementing a queue (unless you use a ring-buffer implementation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(or adding) a value at the beginning of an array tak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two data structures are in cont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eue operations are sometimes calle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but Java us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recursion is a more straightforward way of handling such tasks.  Recursive method calls use the system stack behind the sc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implementation, the stack pointer points to the next available slot.  In another implementation it might point to the top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imple and efficient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simple and as efficient a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 an object on stack in itself does not protect it from further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St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ten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Ve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67B-AA09-4E1C-8D6C-1AF10086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429-A176-4612-A017-8BD33A5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678-EE53-4371-9972-4D14F4FB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DB0-D45C-4D0E-9636-5D79E335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0A0-F862-4026-87F4-7E273F81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196-0AD7-4C7F-BA58-3C222A1A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3E8-0CB2-406B-A1B2-28BA8FC0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CBF-1EE6-4432-961F-F43CD5CB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553B-443E-4418-A936-52DDF0F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3A8-0B47-4F1E-A7EF-F64F745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772-ADF5-4AD6-8FFB-0A823E3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88E-7A47-4E17-A483-7ED1B33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-</a:t>
            </a:r>
            <a:fld id="{8F61FAB4-14C3-4F79-B216-2E89F6EA4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0960" y="5210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s and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82880" y="2819520"/>
          <a:ext cx="36561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2880" y="2819520"/>
                    <a:ext cx="36561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FAB-9CD5-4521-881E-4049BBA848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310680"/>
            <a:ext cx="73958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ack Example: Matching Bracket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263600"/>
            <a:ext cx="6024600" cy="5277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bracketsMatch (String s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&lt;Integer&gt; stk = new Stack&lt;Integer&gt;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int pos = 0;  pos &lt; str.length();  pos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t (pos) == ' [ ' 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ush (po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s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t (pos) == ' ] '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os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op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ln (pos0 + "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 + po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376880" y="3314880"/>
            <a:ext cx="2373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712760" y="4811760"/>
            <a:ext cx="1916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880" y="4610160"/>
            <a:ext cx="18986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un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83440" y="3103560"/>
            <a:ext cx="2147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bo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ave pos of ' [ ‘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0280" y="1189080"/>
            <a:ext cx="27464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Stac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1C6-D071-4F92-AD88-605C3FB61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3440" y="310680"/>
            <a:ext cx="359568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tack Example: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raversing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 Tre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21280" y="604800"/>
            <a:ext cx="4838400" cy="5582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 st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tack&lt;TreeNode&gt;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eNode node = roo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od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ln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Value ()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Left (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ush (node.getRight (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Left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) !=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Right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stk.isEmpty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k.pop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48000" y="3095640"/>
            <a:ext cx="1904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for futur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32479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58520" y="1968480"/>
            <a:ext cx="25884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40040" y="1979640"/>
            <a:ext cx="31896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30000" y="2325600"/>
            <a:ext cx="9684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7440" y="2314440"/>
            <a:ext cx="10620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444680" y="2558880"/>
            <a:ext cx="856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0360" y="2558880"/>
            <a:ext cx="619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8640" y="195912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3440" y="2263680"/>
            <a:ext cx="74520" cy="7488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16120" y="251136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8960" y="2549520"/>
            <a:ext cx="7488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6528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300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20400" y="2325600"/>
            <a:ext cx="96840" cy="2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47840" y="2314440"/>
            <a:ext cx="106560" cy="23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24160" y="2570040"/>
            <a:ext cx="302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35080" y="2558880"/>
            <a:ext cx="856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3840" y="2263680"/>
            <a:ext cx="74520" cy="7488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7400" y="250200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79720" y="254952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03400" y="275904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8600" y="2768760"/>
            <a:ext cx="7488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6680" y="2797200"/>
            <a:ext cx="619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1600" y="2997360"/>
            <a:ext cx="74520" cy="74520"/>
          </a:xfrm>
          <a:prstGeom prst="ellipse">
            <a:avLst/>
          </a:prstGeom>
          <a:solidFill>
            <a:srgbClr val="33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86000" y="1959120"/>
            <a:ext cx="931680" cy="1153800"/>
          </a:xfrm>
          <a:custGeom>
            <a:avLst/>
            <a:gdLst/>
            <a:ahLst/>
            <a:rect l="l" t="t" r="r" b="b"/>
            <a:pathLst>
              <a:path w="587" h="727">
                <a:moveTo>
                  <a:pt x="325" y="0"/>
                </a:moveTo>
                <a:lnTo>
                  <a:pt x="127" y="191"/>
                </a:lnTo>
                <a:lnTo>
                  <a:pt x="47" y="365"/>
                </a:lnTo>
                <a:lnTo>
                  <a:pt x="0" y="561"/>
                </a:lnTo>
                <a:lnTo>
                  <a:pt x="121" y="561"/>
                </a:lnTo>
                <a:lnTo>
                  <a:pt x="147" y="727"/>
                </a:lnTo>
                <a:lnTo>
                  <a:pt x="226" y="710"/>
                </a:lnTo>
                <a:lnTo>
                  <a:pt x="255" y="408"/>
                </a:lnTo>
                <a:lnTo>
                  <a:pt x="498" y="230"/>
                </a:lnTo>
                <a:lnTo>
                  <a:pt x="434" y="389"/>
                </a:lnTo>
                <a:lnTo>
                  <a:pt x="366" y="525"/>
                </a:lnTo>
                <a:lnTo>
                  <a:pt x="408" y="587"/>
                </a:lnTo>
                <a:lnTo>
                  <a:pt x="587" y="395"/>
                </a:lnTo>
                <a:lnTo>
                  <a:pt x="574" y="536"/>
                </a:lnTo>
              </a:path>
            </a:pathLst>
          </a:custGeom>
          <a:noFill/>
          <a:ln w="1260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04920" y="4924440"/>
            <a:ext cx="190512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children, take the next node from the 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1480" y="507672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893-FD8E-4421-84D3-677917C10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s are used for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ng events or messages in order of their arriv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ueing print job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ing keystrok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ing mouse clic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659-8C82-4601-BCDC-4E60820462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659952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: Ring-Buffer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365120" y="1882800"/>
          <a:ext cx="693900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882800"/>
                    <a:ext cx="69390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2A-C9A9-4FF4-88AB-019ECD469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perties of Queu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fficient implement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run 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)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queue of objects hold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necessary, a queue can hold multiple references to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not careful, an object can change while stored in the queue (unless that object is immutab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677-5043-4008-9F3F-F1BB4C3A6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280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.util.Queue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nterfa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82800" y="3970440"/>
            <a:ext cx="77724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generic” interface, part of the Java Collections Framework (Chapter 1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Linked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5880" y="1712880"/>
            <a:ext cx="4564080" cy="18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B6B-1ED8-498C-8FA9-673DA6FB16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ue Exampl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11240" y="1214280"/>
            <a:ext cx="7350120" cy="3385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Queue&lt;String&gt;  findMatches (Scanner inp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targ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&lt;String&gt; q = new LinkedList&lt;String&gt;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input.hasNextLine (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line = input.nextLine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line.indexOf (target) &gt;=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.add (lin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80200" y="2627280"/>
            <a:ext cx="2249280" cy="9169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a queue of all the lines that conta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3440" y="3952800"/>
            <a:ext cx="4676760" cy="228852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process (Queue&lt;String&gt;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 q.isEmpty 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s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.remove 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// proc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1040" y="5181480"/>
            <a:ext cx="742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89040" y="4869000"/>
            <a:ext cx="175896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e contents of q (leaves the queue emp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7C9-0F77-4DA6-A7AD-B027F776C8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wo main operations for a stac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applications of stac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our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Stac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wo main operations for a queu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a few applications of que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54F-F97D-470B-9006-A5980D5B8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our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Que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y a stack of objects can be equally efficiently implemented using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i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ot as efficient for implementing a queue (unless you use a      ring-buffer implementation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729-9948-47F6-A614-F21832937C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uss different implementations of stacks and que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about applications of stacks and que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9DF0-615F-4942-A252-0E6696491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52480" y="335268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320040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05740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304812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895480"/>
            <a:ext cx="11430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33520" y="2590920"/>
            <a:ext cx="0" cy="380880"/>
          </a:xfrm>
          <a:prstGeom prst="line">
            <a:avLst/>
          </a:prstGeom>
          <a:ln w="38160">
            <a:solidFill>
              <a:srgbClr val="549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47840" y="216684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68600" y="2351160"/>
            <a:ext cx="357120" cy="363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828800" y="2361960"/>
            <a:ext cx="339840" cy="500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4382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82880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30480" y="457200"/>
            <a:ext cx="23428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457200"/>
            <a:ext cx="2342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3962520"/>
            <a:ext cx="2895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O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) acce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95360" y="298116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8324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3080" y="31240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1160" y="2438280"/>
            <a:ext cx="263520" cy="263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315200" y="27432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105520" y="2743200"/>
            <a:ext cx="3808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0120" y="2895480"/>
            <a:ext cx="129528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2209680"/>
            <a:ext cx="129564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962520"/>
            <a:ext cx="28954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O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st-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) acces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609480"/>
            <a:ext cx="0" cy="41911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3800" y="520056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s and queues are used for temporary storage, but in different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F84-CB50-4AF9-96A7-24A32ACD1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s are Used f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ing nested structur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ing directories within direct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ng expressions within expres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ling branching processe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versing a branching tree struc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ning a move in a chess ga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cking the sequence of method calls in a Java progr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0AC-D6C9-434E-95F0-1845802125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659952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ck: Array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752480"/>
          <a:ext cx="4648320" cy="28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4648320" cy="28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00640" y="1701720"/>
            <a:ext cx="3505320" cy="344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sh (Objec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ements [sp] = 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pop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myElements [s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5BC-2F18-4914-9900-D7B786DAC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469880"/>
            <a:ext cx="7162560" cy="49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Array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Array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List&lt;Object&gt;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rrayStack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items = new ArrayList&lt;Object&gt;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mpty 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x)   { 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(x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(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(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(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E3F1-4EF8-4B6C-9521-4AFFBA387D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edList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Implement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517760"/>
            <a:ext cx="7086600" cy="4857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util.Linked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List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edList&lt;Object&gt; 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Stack 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items = new LinkedList&lt;Object&gt; 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mpty 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x)   { 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First (x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First 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  {  return ite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rst ();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3B9-5713-4381-A9AC-842477FCAB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roperties of Stack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fficient implementatio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run in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1)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stack of objects hold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referenc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necessary, a stack can hold multiple references to the same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 are not careful, an object can change while stored on the stack (unless that object is immutab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DB0-222E-4C18-83A7-0310080CEE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.util.Stack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cla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0240" y="1550880"/>
            <a:ext cx="758844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Java Collections Framework (Chapter 19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“generic” class (works with objects of specified typ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the legac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, similar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mp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other methods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o not use them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534-9FD1-4A30-9A72-99E157367E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4:26Z</dcterms:modified>
  <cp:revision>201</cp:revision>
  <dc:subject>Chapter 21</dc:subject>
  <dc:title>Java Methods A &amp; AB</dc:title>
</cp:coreProperties>
</file>