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10E-DC22-4497-9CFA-3500C091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rief introduction to patterns.  Hundreds of design patterns have been described in books, at conferences, onli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hoolLog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singleton: we might need to display the same logo in constructors/methods of different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is from the College Board’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rine Biology Sim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se study (2004-20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rator implementation can be bug-prone — one must be very care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trWithRetRecei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th IS-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HAS-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structor can take other parameters,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trWithRetRecei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herits fields from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they are not used and remain uninitialized. You have to be careful when you pas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trWithRetRecei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ype of object to a method that expect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t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ype of parameter: make sure the method accesses parameter’s fields only through accessors, not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there be a programming language that has only this kind of dynamic inheritance? 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find multiple layers of wrappers very elegant; others find it confu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List&lt;Object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dd another list to it as an object.  Print and see what happens: nested lists in the print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-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lis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ss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hold both simp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s as well a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s. 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s applied polymorphically and returns a list of interspersed messages and lists of messages that can be nested to any dep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aware that OO design patterns exist helps you pay more attention to the design stage of your project before rushing to write 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use a common interface or abstract class as a common secondary data type for a simple object and a composite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displays simple strokes and drawings nested to any depth.  Recursion is hid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C is a very important design pattern.  Among other things, it helps to separate display and GUI from the processing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VC designs are more flexible because it is easy to add a new view by adding just one line of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despite its interface-like nam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Observ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Obser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xt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mplemen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Obser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purpose of design patter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ide guidelines for sound designs and avoid common design mista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briefly the Façade design pat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a simplified interface to a system of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do we use Single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need to access exactly the same object from different classes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e up with an example where the Strategy design pattern is call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om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gram (Chapter 12), different strategies may be used for different board sizes and levels of 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library package where Strategy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mponent layout is a strategy attached to a com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be briefly the Decorator design patt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orator class extends the decorated class.  At the same time, a decorator object has a decorated object as an instance variable.  The decorator constructor takes a “decoratee” as a parameter.  The decorator channels method calls to the “decoratee” but can add or modify some of the metho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library package where Decorator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purpose of the Composite design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present a structure with nested substructures conveni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e up with an example where the Composite design pattern should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nu in which a menu item can be a sub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main idea of the Model-View-Controller design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“views” (observers) are attached to the model; the model notifies the views when it changes and calls thei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Java library tools (classes, interfaces, methods) that support MV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Observ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Observ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gives ready access to the “pattern” community.  Just Google “design patterns.”  hillside.net is a good place to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 patterns are not specific to Java.  Code examples may or may not be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ystems and frameworks were designed with the user in mind, they would include façad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one statement replaces several calls to library methods.  We are only interested in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could mean any algorithm, not just in games.  For example, a sorting algorithm can be a strate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ate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ould be an interface (or an abstract class).  Different strategies implement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rate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face (or extend the abstract cl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suppose we want to write to the same log file from different places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0C7-4330-4F8B-8184-071C23AD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FF1-9FF9-43DF-ADC4-E255B97B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200-6CB0-4F4A-B013-D9B0D74E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311-07D6-46D5-A527-12E18282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126-C56F-4A0A-9981-14EDB4B2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6D2-E406-4EFF-A2E5-0E89DA3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7FB-4FA0-4C87-A035-2F2F8AB4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B10-5FC0-4B3A-A5B9-D8BA5CAE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A97-6ADF-42A2-8086-13ACFD62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F70-1E92-4D9A-8FFB-90391F66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99C-E5A8-443F-A7E7-B2CADE2A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F072-FED7-499D-8588-40682FB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-</a:t>
            </a:r>
            <a:fld id="{C9989D4A-5DA3-4331-8B18-0FD798E7B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509580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9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4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629080" y="2895480"/>
          <a:ext cx="365760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9080" y="2895480"/>
                    <a:ext cx="365760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DA2-951A-4606-8FBC-B8D138C5C7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903320"/>
            <a:ext cx="464832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Icon logo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Ico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logo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 = new ImageIcon ("eagles.jpg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log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eton — Example 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57320" y="3451320"/>
            <a:ext cx="770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1903320"/>
            <a:ext cx="289548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(String [ ] 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Icon logo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Logo.get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021-A882-4BE7-9D90-FFC9FFD3A9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96880" y="1468440"/>
            <a:ext cx="6019920" cy="283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RandNum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theRandNumGenerato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Rando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getInst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heRandNumGenerat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31400" y="484200"/>
            <a:ext cx="66754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eton — Example 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6840" y="4309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96880" y="4705200"/>
            <a:ext cx="6019920" cy="17398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gen =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RandNumGenerator.getInsta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5F5-D91B-46F5-AF11-4B597F0D5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26540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lves two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lps add the same functionality to classes on diverging inheritance pat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743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200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200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LtrWithRet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LtrWithRet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62160" y="3124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124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581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320" y="35812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96252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495680"/>
            <a:ext cx="4191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lps add or modify functionality of an object at ru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419720"/>
            <a:ext cx="3657600" cy="201420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cir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ircle (x0, y0, radi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.draw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.move (x, 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dLineCircle cirDL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new DottedLineCircle (ci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DL.draw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5791320"/>
            <a:ext cx="533520" cy="53316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5943600"/>
            <a:ext cx="533520" cy="533520"/>
          </a:xfrm>
          <a:prstGeom prst="ellipse">
            <a:avLst/>
          </a:prstGeom>
          <a:noFill/>
          <a:ln w="1260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351-833B-4B5A-8423-E9580F59E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65040"/>
            <a:ext cx="4343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corator class (a.k.a.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)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te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decorated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Decorator (wrapper) object also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mbe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decorated (wrapped)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52840"/>
            <a:ext cx="129564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43880" y="3173400"/>
            <a:ext cx="0" cy="9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67560" y="306540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391160" y="28702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28702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077320" y="42418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4165560"/>
            <a:ext cx="304920" cy="152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013280"/>
            <a:ext cx="2361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trWithRetRece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CB9-ABA1-4E8C-95DA-3905191CC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orator class’s constructor takes a wrapped object as a parame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68600" y="3016080"/>
            <a:ext cx="5948280" cy="283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LtrWithRetReceipt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etter myLet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ublic LtrWithRetReceipt (Letter lt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Letter = l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2C7-3039-4853-AB22-95BFEDA8E4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9790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corator object passes method calls to the “decoratee”; can modify some of the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65200" y="3112920"/>
            <a:ext cx="670572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LtrWithRetReceipt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etter myLet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static final double retReceiptFee = 1.7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ublic double getWeight (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 return myLetter.getWeight () 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ublic double getCos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turn myLetter.getCost () + retReceiptFee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3E2-B034-44EA-8DB1-0E29F6C60C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orator design is a kind of do-it-yourself run-time inherita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2805120"/>
            <a:ext cx="563868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PostageCalc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 (String [ ] 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ltr1 =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new 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, destZi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ltr2 =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new LtrWithRetReceipt (ltr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ut.println ( " Cost: " + ltr1.getCost ()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With return receipt: " + ltr2.getCost 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FC2-D955-48B0-8993-291F412E01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cora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i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ckage relies extensively on  the Decorator design patter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941560"/>
            <a:ext cx="7151760" cy="146556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InputFil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ufferedReader (new FileReader (fileName), bufferSiz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ADB-13A3-4072-B074-937143F9C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osite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used to represent recursive (nested)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s when a list or a set of objects of a certain type is also an object of that ty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composite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s;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 is als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 2: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List&lt;Object&gt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 composite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 becaus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Li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13C-1F54-482E-BC05-A674671DF5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391520" y="2311560"/>
            <a:ext cx="304560" cy="152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osite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265040"/>
            <a:ext cx="3962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mposite clas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te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“simple”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osite object also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mbe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list or a set of “simple” or composit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89760" y="773280"/>
            <a:ext cx="12952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1200" y="2133720"/>
            <a:ext cx="12952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65760" y="3046320"/>
            <a:ext cx="397332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Text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ist&lt;Message&gt; messag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// Holds Message or Text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add (Message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messages.add(m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toString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turn messages.toString (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8840" y="132732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62880" y="1219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391160" y="990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1880" y="99072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7620120" y="23115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2235240"/>
            <a:ext cx="304560" cy="152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158920"/>
            <a:ext cx="304560" cy="152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43800" y="58672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6324480"/>
            <a:ext cx="388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5551560"/>
            <a:ext cx="0" cy="77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029200"/>
            <a:ext cx="182880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s on polymorphi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71F-FE7D-4189-A534-B518CF82D8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the concept o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design patte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familiar with six introductory design patter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ç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gle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ora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s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VC (Model-View-Controlle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8FE-2C51-4C68-AB11-26EEA05EB6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5880" y="5105520"/>
            <a:ext cx="304920" cy="152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osite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other version: both “simple” and “composite” classes implement the same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3479760"/>
            <a:ext cx="1524240" cy="7038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Interface» Draw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7600" y="4927680"/>
            <a:ext cx="125712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4120" y="39369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3936960"/>
            <a:ext cx="0" cy="11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324120" y="5105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029200"/>
            <a:ext cx="304920" cy="152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4952880"/>
            <a:ext cx="304920" cy="152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4927680"/>
            <a:ext cx="182880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000680" y="4220280"/>
            <a:ext cx="1143000" cy="707400"/>
            <a:chOff x="4000680" y="4220280"/>
            <a:chExt cx="1143000" cy="707400"/>
          </a:xfrm>
        </p:grpSpPr>
        <p:grpSp>
          <p:nvGrpSpPr>
            <p:cNvPr id="177" name=""/>
            <p:cNvGrpSpPr/>
            <p:nvPr/>
          </p:nvGrpSpPr>
          <p:grpSpPr>
            <a:xfrm>
              <a:off x="4741200" y="4220280"/>
              <a:ext cx="402480" cy="707400"/>
              <a:chOff x="4741200" y="4220280"/>
              <a:chExt cx="402480" cy="707400"/>
            </a:xfrm>
          </p:grpSpPr>
          <p:sp>
            <p:nvSpPr>
              <p:cNvPr id="178" name=""/>
              <p:cNvSpPr/>
              <p:nvPr/>
            </p:nvSpPr>
            <p:spPr>
              <a:xfrm>
                <a:off x="4838760" y="4317840"/>
                <a:ext cx="3049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403600">
                <a:off x="4762440" y="4241880"/>
                <a:ext cx="15264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00680" y="4220640"/>
              <a:ext cx="402480" cy="707040"/>
              <a:chOff x="4000680" y="4220640"/>
              <a:chExt cx="402480" cy="7070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4000680" y="4317840"/>
                <a:ext cx="3045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1196400">
                <a:off x="4229280" y="4241880"/>
                <a:ext cx="152280" cy="151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E99-B733-414A-A088-FDF33D8259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179680" y="511200"/>
            <a:ext cx="3322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osite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562720"/>
            <a:ext cx="22096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ro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784080"/>
            <a:ext cx="2971800" cy="119124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ra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raw (Graphics 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67280" y="533412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617220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552760" y="2001960"/>
            <a:ext cx="152280" cy="914400"/>
            <a:chOff x="2552760" y="2001960"/>
            <a:chExt cx="152280" cy="914400"/>
          </a:xfrm>
        </p:grpSpPr>
        <p:sp>
          <p:nvSpPr>
            <p:cNvPr id="189" name=""/>
            <p:cNvSpPr/>
            <p:nvPr/>
          </p:nvSpPr>
          <p:spPr>
            <a:xfrm>
              <a:off x="2629080" y="2109960"/>
              <a:ext cx="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52760" y="20019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838080" y="2725560"/>
            <a:ext cx="3581640" cy="256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impleStr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mplements Dra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draw (Graphics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drawLine (x1, y1, x2, y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29680" y="1954800"/>
            <a:ext cx="2026440" cy="1089720"/>
            <a:chOff x="3829680" y="1954800"/>
            <a:chExt cx="2026440" cy="1089720"/>
          </a:xfrm>
        </p:grpSpPr>
        <p:sp>
          <p:nvSpPr>
            <p:cNvPr id="193" name=""/>
            <p:cNvSpPr/>
            <p:nvPr/>
          </p:nvSpPr>
          <p:spPr>
            <a:xfrm flipH="1" flipV="1">
              <a:off x="3961080" y="2070360"/>
              <a:ext cx="1895040" cy="974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7810400">
              <a:off x="3855600" y="1980720"/>
              <a:ext cx="152640" cy="15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724280" y="2725560"/>
            <a:ext cx="411480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mplements Draw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rawable [ ]  pic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draw (Graphics 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Drawable pic : pi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.draw (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6D9-E993-4693-B319-6BFCEF77E2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del-View-Controller (MVC)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20600" y="1855440"/>
            <a:ext cx="7772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used to support different concurrent or optional views of a changing “model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del is an object that represents a system, a situation, a mathematical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views are automatically updated when the model chan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easy to attach different views to the same mod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249-2FB9-4011-A519-51F2D0A4E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VC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0600" y="1550520"/>
            <a:ext cx="38102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talitarian”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82760" y="1550880"/>
            <a:ext cx="38098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VC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14400" y="2355840"/>
          <a:ext cx="403848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55840"/>
                    <a:ext cx="403848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2289240"/>
          <a:ext cx="3886200" cy="24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89240"/>
                    <a:ext cx="388620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V="1">
            <a:off x="6858000" y="464184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563256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5122800"/>
            <a:ext cx="39625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model’s state changes, the model updates all the views attached to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3DC-65EA-4B01-BCAA-F951AE678A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VC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785988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del clas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ten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Observ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which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Observ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Chang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Observer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85960" y="3263760"/>
            <a:ext cx="594360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pher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extends java.util.Obser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setRadius (doubl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Radius =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etChan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notifyObser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433-DE99-4693-A12E-4335A50471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VC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iew class imple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Observ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y providing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678040"/>
            <a:ext cx="5943600" cy="256284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TextView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mplements java.util.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bservable model, Object a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 s = (Sphere) 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11400" y="3332160"/>
            <a:ext cx="6019920" cy="283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GraphicsView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mplements java.util.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bservable model, Object a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 s = (Sphere) 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r = s.getRadius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3CE-D372-4F76-BE92-E640082508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VC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 another constructor or method) can attach one or more views to the mode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743200"/>
            <a:ext cx="5943600" cy="311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MVCSphere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tatic void main (String [ ] 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 sphere = new Sphere (10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.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addOb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w TextView 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e.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addOb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w GraphicsView 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30C-784F-4660-8E42-E58AD06B35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purpose of design patter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briefly the Façade design patte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do we use Singlet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e up with an example where the Strategy design pattern is calle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library package where Strategy is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D80F-A47D-4686-A814-92272FE23F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briefly the Decorator design patte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library package where Decorator is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purpose of the Composite design patte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e up with an example where the Composite design pattern should be us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248-8C5D-4B87-9F87-D5AD5C77DD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main idea of the Model-View-Controller design patte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Java library tools (classes, interfaces, methods) that support MV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C0A-4EFA-4370-A711-A1990EFFE6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 patterns aim to provide ideas and recipes for sound OO software desig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rigin of the idea can be traced to some influential books on architecture by Christopher Alexander (for example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he Timeless Way of Buil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1979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ndreds of OO design patterns have been published since 1995 in books, web sit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619-022D-42F2-BE70-4DF274683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sign Pattern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ypical description of a design pattern includ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ief statement of purp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ypes of classes and objects invol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uctural dia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(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E62-65ED-4847-8DE4-7932AD579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3541680"/>
            <a:ext cx="5294520" cy="3033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1760" y="2620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çade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0600" y="1117440"/>
            <a:ext cx="7772400" cy="24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es to facilitate the use of a complicated subsystem or package of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laces multiple complex interfaces to several classes with one simplified interface to the whole sub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84680" y="4056120"/>
            <a:ext cx="1936800" cy="398880"/>
          </a:xfrm>
          <a:prstGeom prst="rect">
            <a:avLst/>
          </a:prstGeom>
          <a:solidFill>
            <a:srgbClr val="e1e1b7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068200" y="4037040"/>
            <a:ext cx="525780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064960" y="4478400"/>
            <a:ext cx="5257800" cy="14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887-413C-4C73-9F5D-FC164CC339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çade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to encapsulate a process that involves several steps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1560" y="2743200"/>
            <a:ext cx="716256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Rectangle ocrArea = new Rectangle(20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20, 120, 3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mageEditor imageEditor = new ImageEdi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mage = imageEditor.cut(image, ocrArea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TextLocator locator = new TextLoca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ocrArea = locator.findTextField(ima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tring charSet = "0123456789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OCRReader reader = new OCRReader(charSe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tring result = reader.ocr(image, ocrAre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34720" y="3306600"/>
            <a:ext cx="717372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4720" y="3306600"/>
            <a:ext cx="6096240" cy="368280"/>
          </a:xfrm>
          <a:prstGeom prst="rect">
            <a:avLst/>
          </a:prstGeom>
          <a:solidFill>
            <a:srgbClr val="e1e1b7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String resul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R.read(image, ocrAre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136520" y="3692520"/>
            <a:ext cx="717408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E98-8E0F-4D91-90C1-E3A37A47B3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rategy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an object (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) may use different strategies to accomplish a task, make the strategy module plugg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ss a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objec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’s constructor or method as a paramet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 “knows” how to accomplish the task in a particular w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ject may also “know” how to adjust the strategy if necessary or pass a strategy object of a different type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8BD-725B-4BEB-8EC4-362148426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378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rategy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878120"/>
            <a:ext cx="2971800" cy="119124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oSomething (.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087800"/>
            <a:ext cx="3352680" cy="17398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trategy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omething(...) {...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349880"/>
            <a:ext cx="3352680" cy="17398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yTw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implements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doSomething (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88080" y="422280"/>
            <a:ext cx="3886200" cy="5854680"/>
          </a:xfrm>
          <a:prstGeom prst="rect">
            <a:avLst/>
          </a:prstGeom>
          <a:solidFill>
            <a:srgbClr val="ccec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yStrateg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Player (... ,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ategy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trategy =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ategy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ategy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myStrategy = s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erformTas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myStrategy.doSomet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.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0970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249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097080"/>
            <a:ext cx="15264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249720"/>
            <a:ext cx="0" cy="109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121280" y="250344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9CF-5E0D-4ECA-A2A1-7B8BD1EDF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eton Design Patter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used when the same object must be accessible in severa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eparate class holds a static variable that refers to the singlet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atic accessor method is provided for the singlet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ingleton is initialized only on the first call to the access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E2D-FEA1-4D31-B30D-8897F97016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31T14:53:59Z</dcterms:modified>
  <cp:revision>225</cp:revision>
  <dc:subject>Chapter 26</dc:subject>
  <dc:title>Java Methods A &amp; AB</dc:title>
</cp:coreProperties>
</file>