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DC63-A09B-4768-B34B-30AE4E007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introduces basic general computer graphics concepts as well as a few specifics for Ja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convenient for drawing, but other components can be used, for examp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pa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laces a “repaint” request into the application’s events queue.  If a repaint request is issued from a method that handles some other event, repainting does not occur until that method fin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ifts the origin to a specified location.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s ethods for rotating the coordinates by a certain angle and for applying more general transfor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cal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Wid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He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you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uniform way to specify the positions of  different shapes.  The same approach was used in the first GUI prototyping and development tool Skylights/GX developed by Gary Litvin in 198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circles look a little rugged, even on high-resolution scre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so has a metho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ible combinations of RGB values defin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over 16 million) col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as method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or nightSky = Color.BLUE.darker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Color col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void pickColo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or pickedColor = JColorChooser.showDialog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is, "Pick a color", colo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pickedColor != nu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or = pickedCol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earR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lls the rectangle with the component’s current backgrou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RoundR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rz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t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the horizontal and vertical diameters of the oval used to round the cor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the coordinates of the left end of the base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detailed graphics information refer to Java API, Sun’s tutorials and more technical boo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fs are the small horizontal strokes in letters.  The main characteristics of fonts are serif vs. sans serif and fixed-pitch vs. proportional.  In a fixed-pitch (monospace) font, the width of all letters is the same.  A program editor uses a fixed-pitch font (for example, Cour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has a way to get a list of all the fonts available in a system and choose one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in the difference between vector and raster grap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vector graphics the device directly draws strokes on the surface.  A raster device keeps an array of pixels.   To draw a stroke you need to set certain pixels to a particular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what units are the coordinates measured in Graphic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isplay pix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re is the origin of the coordinate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fault, it is in the upper-left co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is the position and size of a rectangle or an oval defin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escribing the bounding rectangle with the coordinates of its upper-left corner, its width, and its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do you set a drawing col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all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.setColor(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few drawing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R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lR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Ov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lOv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vector device is a plotter.  Some models actually include a moving “hand” that grabs pens of different colors from a pen h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computer screen may have a resolution of 1024 by 768 (pixel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graphics co-processors may assist in generating graph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mportantly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pports polymorphic treatment of shapes and lets you define your own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lows you to repaint individual components for better animation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comes from the very early versions of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get hold of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ject, then?  Actuall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bject in disguise.  All you have to do is cas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2D g2d = (Graphics2D)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3C8-3939-4457-A316-D6F1ACE8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E8F-ED1F-4A7C-811D-C1B09827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924-F39C-4DF0-BB11-E7F417CF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74F-D790-4758-B2E7-E0510493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362-9B8D-460D-88E8-74C7E2B0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11E-19FD-4723-8389-16ED006C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298C-4BC4-40EB-81C8-6E296E9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48E-D9BF-490C-9A0A-6E03CC0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CD3-A55A-40AB-9CCF-736F4959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CBC-73DC-461F-B2D1-6601F13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ABF-A64E-44B8-B82D-2DAF54F9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C61-B51A-42E1-9A43-C3ACF94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-</a:t>
            </a:r>
            <a:fld id="{465039C6-8EFB-42DA-AC55-6438AACC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50960" y="467676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24240" y="3362400"/>
          <a:ext cx="4572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4240" y="3362400"/>
                    <a:ext cx="457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E3C-1137-4294-9771-9CF6C7E321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ame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57360" y="2440080"/>
            <a:ext cx="539892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MyCanvas exte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ntComponent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paintComponent(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324480" y="2910960"/>
            <a:ext cx="990720" cy="686160"/>
            <a:chOff x="6324480" y="2910960"/>
            <a:chExt cx="990720" cy="686160"/>
          </a:xfrm>
        </p:grpSpPr>
        <p:sp>
          <p:nvSpPr>
            <p:cNvPr id="94" name=""/>
            <p:cNvSpPr/>
            <p:nvPr/>
          </p:nvSpPr>
          <p:spPr>
            <a:xfrm flipH="1">
              <a:off x="6324480" y="3597120"/>
              <a:ext cx="99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315200" y="2910960"/>
              <a:ext cx="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245280" y="2362320"/>
            <a:ext cx="221292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nother Swing GUI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DDB-C80C-4E66-BBBF-BAC0D1FD52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grammer never cal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irectly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called instead whenever you need to refresh the picture (after adding, moving, or changing some elements, etc.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191120"/>
            <a:ext cx="480060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MyCanvas extends J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on.move(dx, d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a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433680" y="5645160"/>
            <a:ext cx="3386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3886200"/>
            <a:ext cx="2212920" cy="22284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a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kes no parameters: the graphics context is restored and sent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54E-52F3-487C-9D79-C3A4EDDA6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97320" y="1835280"/>
            <a:ext cx="2852640" cy="27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ordinat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97320" y="18352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97320" y="18352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00840" y="156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75240" y="4307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06600" y="4883040"/>
            <a:ext cx="289584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xis poin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 in many other graphics pac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49800" y="2673360"/>
            <a:ext cx="182880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14640" y="1447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676680" y="1933200"/>
            <a:ext cx="514440" cy="514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2200320"/>
            <a:ext cx="3003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: the upper-left corner of the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8E9-8077-40B8-B16D-8847F81B4A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ordinat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52184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UI component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Wid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Heigh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that return its respective dimen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can be used to produce scalable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Wid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Heigh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nly work after the component has been placed (do not call them from a component’s constructor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14C-ED88-428B-BC2D-08D4672034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ordinat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osition of a rectangle, oval, and even an arc is defined by using its “bounding rectangle,” describ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21160" y="3965400"/>
            <a:ext cx="2727360" cy="20289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4052880"/>
            <a:ext cx="2978280" cy="1967040"/>
          </a:xfrm>
          <a:custGeom>
            <a:avLst/>
            <a:gdLst/>
            <a:ahLst/>
            <a:rect l="l" t="t" r="r" b="b"/>
            <a:pathLst>
              <a:path w="1876" h="1239">
                <a:moveTo>
                  <a:pt x="0" y="0"/>
                </a:moveTo>
                <a:lnTo>
                  <a:pt x="0" y="1239"/>
                </a:lnTo>
                <a:lnTo>
                  <a:pt x="1876" y="123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98840" y="4016520"/>
            <a:ext cx="2978280" cy="1966680"/>
          </a:xfrm>
          <a:custGeom>
            <a:avLst/>
            <a:gdLst/>
            <a:ahLst/>
            <a:rect l="l" t="t" r="r" b="b"/>
            <a:pathLst>
              <a:path w="1876" h="1239">
                <a:moveTo>
                  <a:pt x="1876" y="0"/>
                </a:moveTo>
                <a:lnTo>
                  <a:pt x="1876" y="1239"/>
                </a:lnTo>
                <a:lnTo>
                  <a:pt x="0" y="1239"/>
                </a:lnTo>
                <a:lnTo>
                  <a:pt x="18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21160" y="3965400"/>
            <a:ext cx="2727360" cy="2028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21160" y="3965400"/>
            <a:ext cx="2724120" cy="2025720"/>
          </a:xfrm>
          <a:custGeom>
            <a:avLst/>
            <a:gdLst/>
            <a:ahLst/>
            <a:rect l="l" t="t" r="r" b="b"/>
            <a:pathLst>
              <a:path w="1716" h="1276">
                <a:moveTo>
                  <a:pt x="389" y="0"/>
                </a:moveTo>
                <a:lnTo>
                  <a:pt x="349" y="2"/>
                </a:lnTo>
                <a:lnTo>
                  <a:pt x="311" y="8"/>
                </a:lnTo>
                <a:lnTo>
                  <a:pt x="273" y="18"/>
                </a:lnTo>
                <a:lnTo>
                  <a:pt x="238" y="31"/>
                </a:lnTo>
                <a:lnTo>
                  <a:pt x="204" y="47"/>
                </a:lnTo>
                <a:lnTo>
                  <a:pt x="172" y="66"/>
                </a:lnTo>
                <a:lnTo>
                  <a:pt x="142" y="90"/>
                </a:lnTo>
                <a:lnTo>
                  <a:pt x="114" y="115"/>
                </a:lnTo>
                <a:lnTo>
                  <a:pt x="89" y="143"/>
                </a:lnTo>
                <a:lnTo>
                  <a:pt x="66" y="172"/>
                </a:lnTo>
                <a:lnTo>
                  <a:pt x="47" y="204"/>
                </a:lnTo>
                <a:lnTo>
                  <a:pt x="31" y="238"/>
                </a:lnTo>
                <a:lnTo>
                  <a:pt x="18" y="273"/>
                </a:lnTo>
                <a:lnTo>
                  <a:pt x="7" y="311"/>
                </a:lnTo>
                <a:lnTo>
                  <a:pt x="1" y="349"/>
                </a:lnTo>
                <a:lnTo>
                  <a:pt x="0" y="389"/>
                </a:lnTo>
                <a:lnTo>
                  <a:pt x="0" y="888"/>
                </a:lnTo>
                <a:lnTo>
                  <a:pt x="1" y="927"/>
                </a:lnTo>
                <a:lnTo>
                  <a:pt x="7" y="965"/>
                </a:lnTo>
                <a:lnTo>
                  <a:pt x="18" y="1004"/>
                </a:lnTo>
                <a:lnTo>
                  <a:pt x="31" y="1039"/>
                </a:lnTo>
                <a:lnTo>
                  <a:pt x="47" y="1072"/>
                </a:lnTo>
                <a:lnTo>
                  <a:pt x="66" y="1105"/>
                </a:lnTo>
                <a:lnTo>
                  <a:pt x="89" y="1134"/>
                </a:lnTo>
                <a:lnTo>
                  <a:pt x="114" y="1162"/>
                </a:lnTo>
                <a:lnTo>
                  <a:pt x="142" y="1187"/>
                </a:lnTo>
                <a:lnTo>
                  <a:pt x="172" y="1210"/>
                </a:lnTo>
                <a:lnTo>
                  <a:pt x="204" y="1229"/>
                </a:lnTo>
                <a:lnTo>
                  <a:pt x="238" y="1246"/>
                </a:lnTo>
                <a:lnTo>
                  <a:pt x="273" y="1259"/>
                </a:lnTo>
                <a:lnTo>
                  <a:pt x="311" y="1269"/>
                </a:lnTo>
                <a:lnTo>
                  <a:pt x="349" y="1275"/>
                </a:lnTo>
                <a:lnTo>
                  <a:pt x="389" y="1276"/>
                </a:lnTo>
                <a:lnTo>
                  <a:pt x="1328" y="1276"/>
                </a:lnTo>
                <a:lnTo>
                  <a:pt x="1367" y="1275"/>
                </a:lnTo>
                <a:lnTo>
                  <a:pt x="1405" y="1269"/>
                </a:lnTo>
                <a:lnTo>
                  <a:pt x="1443" y="1259"/>
                </a:lnTo>
                <a:lnTo>
                  <a:pt x="1479" y="1246"/>
                </a:lnTo>
                <a:lnTo>
                  <a:pt x="1512" y="1229"/>
                </a:lnTo>
                <a:lnTo>
                  <a:pt x="1545" y="1210"/>
                </a:lnTo>
                <a:lnTo>
                  <a:pt x="1574" y="1187"/>
                </a:lnTo>
                <a:lnTo>
                  <a:pt x="1602" y="1162"/>
                </a:lnTo>
                <a:lnTo>
                  <a:pt x="1627" y="1134"/>
                </a:lnTo>
                <a:lnTo>
                  <a:pt x="1650" y="1105"/>
                </a:lnTo>
                <a:lnTo>
                  <a:pt x="1669" y="1072"/>
                </a:lnTo>
                <a:lnTo>
                  <a:pt x="1685" y="1039"/>
                </a:lnTo>
                <a:lnTo>
                  <a:pt x="1699" y="1004"/>
                </a:lnTo>
                <a:lnTo>
                  <a:pt x="1709" y="965"/>
                </a:lnTo>
                <a:lnTo>
                  <a:pt x="1715" y="927"/>
                </a:lnTo>
                <a:lnTo>
                  <a:pt x="1716" y="888"/>
                </a:lnTo>
                <a:lnTo>
                  <a:pt x="1716" y="389"/>
                </a:lnTo>
                <a:lnTo>
                  <a:pt x="1715" y="349"/>
                </a:lnTo>
                <a:lnTo>
                  <a:pt x="1709" y="311"/>
                </a:lnTo>
                <a:lnTo>
                  <a:pt x="1699" y="273"/>
                </a:lnTo>
                <a:lnTo>
                  <a:pt x="1685" y="238"/>
                </a:lnTo>
                <a:lnTo>
                  <a:pt x="1669" y="204"/>
                </a:lnTo>
                <a:lnTo>
                  <a:pt x="1650" y="172"/>
                </a:lnTo>
                <a:lnTo>
                  <a:pt x="1627" y="143"/>
                </a:lnTo>
                <a:lnTo>
                  <a:pt x="1602" y="115"/>
                </a:lnTo>
                <a:lnTo>
                  <a:pt x="1574" y="90"/>
                </a:lnTo>
                <a:lnTo>
                  <a:pt x="1545" y="66"/>
                </a:lnTo>
                <a:lnTo>
                  <a:pt x="1512" y="47"/>
                </a:lnTo>
                <a:lnTo>
                  <a:pt x="1479" y="31"/>
                </a:lnTo>
                <a:lnTo>
                  <a:pt x="1443" y="18"/>
                </a:lnTo>
                <a:lnTo>
                  <a:pt x="1405" y="8"/>
                </a:lnTo>
                <a:lnTo>
                  <a:pt x="1367" y="2"/>
                </a:lnTo>
                <a:lnTo>
                  <a:pt x="1328" y="0"/>
                </a:lnTo>
                <a:lnTo>
                  <a:pt x="389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09960" y="3666960"/>
            <a:ext cx="434880" cy="262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10000" y="3954600"/>
            <a:ext cx="2759040" cy="2050920"/>
          </a:xfrm>
          <a:prstGeom prst="rect">
            <a:avLst/>
          </a:prstGeom>
          <a:noFill/>
          <a:ln w="1440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8120" y="3276720"/>
            <a:ext cx="91440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552-3024-4F08-AFE2-2EEC3FDA0E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ordinat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02080" y="3852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13200" y="3036960"/>
            <a:ext cx="1882800" cy="180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32280" y="39196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6480" y="1633680"/>
            <a:ext cx="50403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drawOval(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, 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,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, 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54600" y="3298680"/>
            <a:ext cx="642960" cy="64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3308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98800" y="3036960"/>
            <a:ext cx="1905120" cy="181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52800" y="261144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301608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97360" y="5202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02360" y="3040200"/>
            <a:ext cx="0" cy="180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38600" y="4984920"/>
            <a:ext cx="4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89600" y="3743280"/>
            <a:ext cx="42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3E48-55C6-4634-9F83-724F34D8A0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lo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lor attribute is set by call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setCol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stays in effect until chang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form a color with specified red, green, and blue (RGB) valu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666880"/>
            <a:ext cx="480060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draw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setColor(Color.LIGHT_GR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5473800"/>
            <a:ext cx="556236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rVal = 5, gVal = 255, bVal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yourEyes = new Color (rVal, gVal, bVa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1AC-4283-4A75-BE68-3590846134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lor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20600" y="123984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x.swing.JColorChoos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ets you choose a color in a GUI appli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681280" y="2279520"/>
            <a:ext cx="41623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9DA-6D27-4D12-931E-97144541A6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rawing Basic Shap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74640" y="1828800"/>
            <a:ext cx="731232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1, y1, x2, y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Round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, horzD, vert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Round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, horzD, vert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A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, y, w, h, fromDegr, measureDegr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251000" y="1981080"/>
            <a:ext cx="457200" cy="152640"/>
          </a:xfrm>
          <a:prstGeom prst="line">
            <a:avLst/>
          </a:prstGeom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84120" y="2822400"/>
            <a:ext cx="392400" cy="254160"/>
          </a:xfrm>
          <a:prstGeom prst="rect">
            <a:avLst/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84120" y="3286080"/>
            <a:ext cx="392400" cy="254160"/>
          </a:xfrm>
          <a:prstGeom prst="rect">
            <a:avLst/>
          </a:prstGeom>
          <a:solidFill>
            <a:srgbClr val="0099cc"/>
          </a:solidFill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89160" y="3735360"/>
            <a:ext cx="380880" cy="2221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89160" y="4176720"/>
            <a:ext cx="380880" cy="2221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3320" y="4613400"/>
            <a:ext cx="412560" cy="222120"/>
          </a:xfrm>
          <a:prstGeom prst="ellipse">
            <a:avLst/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3320" y="5043600"/>
            <a:ext cx="412560" cy="2221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41280" y="5532480"/>
            <a:ext cx="412920" cy="222120"/>
          </a:xfrm>
          <a:prstGeom prst="ellipse">
            <a:avLst/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52640" y="5499000"/>
            <a:ext cx="333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2520" y="5641920"/>
            <a:ext cx="385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82680" y="2414520"/>
            <a:ext cx="392040" cy="254160"/>
          </a:xfrm>
          <a:prstGeom prst="rect">
            <a:avLst/>
          </a:prstGeom>
          <a:solidFill>
            <a:srgbClr val="e1e1b7"/>
          </a:solidFill>
          <a:ln w="28440">
            <a:solidFill>
              <a:srgbClr val="e1e1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CDC-F694-49F2-A4C3-52058AA539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sic Shap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74640" y="1828800"/>
            <a:ext cx="70106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Polyg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Coords, yCoords, nPoi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Polyg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Coords, yCoords, nPoi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Poly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Coords, yCoords, nPoint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r, x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mg, x, y, 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2880" y="1927080"/>
            <a:ext cx="339840" cy="308160"/>
          </a:xfrm>
          <a:prstGeom prst="hexagon">
            <a:avLst>
              <a:gd name="adj" fmla="val 27570"/>
              <a:gd name="vf" fmla="val 115470"/>
            </a:avLst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2880" y="2357280"/>
            <a:ext cx="339840" cy="308160"/>
          </a:xfrm>
          <a:prstGeom prst="hexagon">
            <a:avLst>
              <a:gd name="adj" fmla="val 27570"/>
              <a:gd name="vf" fmla="val 115470"/>
            </a:avLst>
          </a:prstGeom>
          <a:solidFill>
            <a:srgbClr val="0099cc"/>
          </a:solidFill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2880" y="2835360"/>
            <a:ext cx="339840" cy="307800"/>
          </a:xfrm>
          <a:prstGeom prst="hexagon">
            <a:avLst>
              <a:gd name="adj" fmla="val 27602"/>
              <a:gd name="vf" fmla="val 115470"/>
            </a:avLst>
          </a:prstGeom>
          <a:noFill/>
          <a:ln w="2844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36680" y="3005280"/>
            <a:ext cx="264960" cy="14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0600" y="356868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173240" y="3939840"/>
            <a:ext cx="201600" cy="30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0160" y="4483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90a8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518080" y="4952880"/>
            <a:ext cx="707760" cy="533520"/>
            <a:chOff x="5518080" y="4952880"/>
            <a:chExt cx="707760" cy="533520"/>
          </a:xfrm>
        </p:grpSpPr>
        <p:sp>
          <p:nvSpPr>
            <p:cNvPr id="169" name=""/>
            <p:cNvSpPr/>
            <p:nvPr/>
          </p:nvSpPr>
          <p:spPr>
            <a:xfrm flipV="1">
              <a:off x="5518080" y="49528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18080" y="5486400"/>
              <a:ext cx="707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019920" y="5105520"/>
            <a:ext cx="2438280" cy="825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Observer, oft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4560" y="3890880"/>
            <a:ext cx="68112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D40-AF99-4417-871A-8C5179A96E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computer graphics bas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coordinates and col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shape drawing metho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o use fonts and draw graphics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215-D727-4D90-9B9B-233D11B731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o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74640" y="1828800"/>
            <a:ext cx="7010640" cy="3112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nt = new Font (name, style,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setFont (fo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310360" y="2265120"/>
            <a:ext cx="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324480" y="2265480"/>
            <a:ext cx="0" cy="153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008840" y="2265480"/>
            <a:ext cx="0" cy="566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55840" y="2535120"/>
            <a:ext cx="253548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Serif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SansSerif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Monospace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3713040"/>
            <a:ext cx="167652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.PL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.B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t.ITA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9400" y="2590920"/>
            <a:ext cx="14479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(pix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221-03FA-42FF-BDF0-AC3E2440DA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e difference between vector and raster graph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what units are the coordinates measured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re is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igi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is the position and size of a rectangle or an oval is defin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set a drawing col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few drawing meth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2F1-97F2-450B-BC8B-08379CC36F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mputer Graphics Basic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58341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types of graphics devices: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ras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vector device has some kind of pen that can move and draw lines directly on the su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raster device creates a picture by setting colors to individual pixels (picture elements) on a rectangular “raster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51760" y="4432320"/>
            <a:ext cx="1447560" cy="148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370640" y="2889360"/>
            <a:ext cx="782640" cy="750600"/>
          </a:xfrm>
          <a:prstGeom prst="ellipse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4800" y="3090960"/>
            <a:ext cx="74520" cy="745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99400" y="3087720"/>
            <a:ext cx="74520" cy="745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61240" y="3195720"/>
            <a:ext cx="18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7593480" y="3125880"/>
            <a:ext cx="3578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77" y="818"/>
                </a:moveTo>
                <a:arcTo wR="10800" hR="10800" stAng="-6746438" swAng="6746438"/>
                <a:lnTo>
                  <a:pt x="10800" y="10800"/>
                </a:lnTo>
                <a:close/>
              </a:path>
              <a:path fill="none" w="21600" h="21600">
                <a:moveTo>
                  <a:pt x="6677" y="818"/>
                </a:moveTo>
                <a:arcTo wR="10800" hR="10800" stAng="-6746438" swAng="674643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80240" y="2928960"/>
            <a:ext cx="78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Wingdings"/>
                <a:ea typeface="Wingdings"/>
              </a:rPr>
              <a:t>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987320" y="3188520"/>
            <a:ext cx="148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54800" y="3319560"/>
            <a:ext cx="66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99080" y="5137200"/>
            <a:ext cx="66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839-864F-4579-810C-A17E5AAC8B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sic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raphics adapter in your computer is a raster dev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M (video RAM) contains the information about the colors of all pix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creen displays the contents of VR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draw a shape, you need to set the exactly right set of pixels to the required col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umber of pixels in the raster vertically and horizontally is called the devic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D93-A08B-4A13-87A0-A3D4A2D2B0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Basic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graphics software package provides functions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ing drawing attributes: color, line width and style, fill texture and pattern, fo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ing lines, circles, rectangles, polygons, and other basic shap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other words, a graphics package turns a raster device into a “logical” vector dev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676-EDC8-4403-907B-7DED4E7941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raphics in Jav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library offer a graphics cl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a graphics packa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2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rovides only most basic capabil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2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related class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aw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ort better graphics with color gradients, line styl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 we only deal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5D5-A8E1-4EEB-A275-A38C8CC74F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raphics in Window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windowing environment, a picture must be repainted every time we move, reopen or reshape the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ogram must have one “central” place or method where all the drawing happe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perating system sends a “message” to the program to repaint its window when necessa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3C6-67AE-4A4A-987E-90DD8CA0AA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Compone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x.swing.JFra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(which represents application windows) has one method, cal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where all the drawing takes pl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each of the GUI components in the windo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programmer creates a picture by overriding the defa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(o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8B8-4888-480C-A8EC-4246E2B80F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1400" y="484200"/>
            <a:ext cx="79232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intComponent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65160" y="1418760"/>
            <a:ext cx="71769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takes one argument of the ty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7360" y="2651040"/>
            <a:ext cx="505440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MyWindow exte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nt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.paint(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070600" y="4905000"/>
            <a:ext cx="1154160" cy="284400"/>
            <a:chOff x="5070600" y="4905000"/>
            <a:chExt cx="1154160" cy="284400"/>
          </a:xfrm>
        </p:grpSpPr>
        <p:sp>
          <p:nvSpPr>
            <p:cNvPr id="87" name=""/>
            <p:cNvSpPr/>
            <p:nvPr/>
          </p:nvSpPr>
          <p:spPr>
            <a:xfrm flipV="1">
              <a:off x="5070600" y="4905000"/>
              <a:ext cx="0" cy="28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70600" y="5189400"/>
              <a:ext cx="1154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45320" y="4808520"/>
            <a:ext cx="2974680" cy="1008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the graphics “context” (location, size, coordinat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4D4-6529-4EF1-8B9D-CA187D7E3A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6-08-28T23:03:08Z</dcterms:modified>
  <cp:revision>194</cp:revision>
  <dc:subject>Chapter 15</dc:subject>
  <dc:title>Java Methods A &amp; AB</dc:title>
</cp:coreProperties>
</file>