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764A-FB91-4E5D-B18B-8520ED212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essentially a “learning by doing” chapter.  Not much theory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eyRelea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n ignore all character ke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with bit masks requires bit-wise logical operators, explained in Section 17.3 of the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audio in applications (not applets) can get more involved.  We have provided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asyS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lass for that (see Appendix 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ample, the fil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ells.wav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located in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un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directory of the directory that contains the applet’s HTML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this works only in applets.  Us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mageIc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appl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mageIc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w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lass, added in Java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lace an icon on a component, use component’s constructor that takes a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mageIc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s a parame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gram is to be written from scratch.  It can be a team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ditor can be extended to handle different shapes, using a hierarchy of shapes (for example, a round and elongated balloons and a square “balloon”) and polymorph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olds a list of balloons and keeps track of the active balloon (last added or picked with the mou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pter also introduces bit-wise logical operators in the context of identifying the status of keyboard modifier keys (Alt, Shift, Ctr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me the five methods of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usePres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useRelea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useClick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useEnte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useExi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n a class impleme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but no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, but it would be a little unus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are the units and the origin for the coordinates returned by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’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X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Y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metho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rdinates are in pixels, relative to the upper-left corner of the component to which the listener is attac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many methods does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nterface specif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: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eyRelea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eyTyp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i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method is used to capture an action key ev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eyRelea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i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eyEven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method returns the actual character typ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eyTyp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ic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eyEven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methods return the status of modifier key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AltD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ShiftD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ControlDow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etc., or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tModifi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en do we need 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questFocus(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c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component needs to listen to keyboard events, but doesn’t get the keyboard focus automa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at does an applet’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DocumentBase(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method retu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turns the path part of the absolute URL that contains the applet’s HTML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ich class was written earlier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ag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mageIc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m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mageIc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w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which was added in Java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can we display an icon in a panel (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object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all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awIcon(this, g, 0, 0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rom the panel’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 can we display an icon on a button (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object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dd the icon as a parameter for the button’s constructor (or call the button’s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tIc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use listener can be implemented as an inner class or even a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li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lass,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class MyPanel extends JPa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ublic MyPanel() //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ddMouseListener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useAdapter()  // inline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void mouseClicked(MouseEvent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 // process click at e.getX(), e.getY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useClick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hecks that the button was pressed and released in the same place, which may result in missed cli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ordinates are relative to the upper-left corner of the component to which the mouse listener is attac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rag an object smoothly, save the initial position of the object and the position of the initial mouse click, then move the object in such a way that the offsets from the object to the mouse position remain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ing focus is tricky.  Java’s event manager keeps shifting the keyboard focus to the last button or menu item clic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yping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hi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causes five events: Shift pressed, ‘A’ pressed, ‘A’ released, Shift released, ‘A’ typ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eyTyp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thod thus ignores all “action” ke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6C14-25B1-4036-BDB6-7EE3BABE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C2E1-C907-4EB8-9C8E-09B64C5E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4DAB-D184-4036-9010-330A9A64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860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6240" y="155088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0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860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6240" y="4059720"/>
            <a:ext cx="25023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C789-2B86-4702-A802-9A2A4F69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27FA-AD8D-4FA4-9631-EC9B2D52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09AE-351B-4A89-B13F-F85CCD19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6FF7-5222-4BEA-A00F-B2D5802D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092D-A3FA-47A2-A9E7-A62354E5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31760" y="484200"/>
            <a:ext cx="77724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437B-C758-4C3D-B4C7-D6B0D25F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FEC4-0285-4160-9A6A-68CBBE96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3280" y="405972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890-AD22-4DDE-81BD-6020553B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3280" y="1550880"/>
            <a:ext cx="3792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0600" y="4059720"/>
            <a:ext cx="77724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A76E-CF1D-499F-A59C-76CA6FDD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897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-</a:t>
            </a:r>
            <a:fld id="{63268879-9A92-4E27-887D-1EB09EF8C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9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17920" y="430200"/>
            <a:ext cx="394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Java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 &amp;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25840" y="1400040"/>
            <a:ext cx="39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 Narrow"/>
              </a:rPr>
              <a:t>Object-Oriented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 Narrow"/>
              </a:rPr>
              <a:t>and Data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17920" y="2228760"/>
            <a:ext cx="3941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ria Litvin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●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Gary Litv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11520" y="6400800"/>
            <a:ext cx="62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pyright © 2006 by Maria Litvin, Gary Litvin, and Skylight Publishing.  All rights reserv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51120" y="4667400"/>
            <a:ext cx="577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se, Keyboard, Sounds, and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309840" y="3247920"/>
          <a:ext cx="2857680" cy="13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9840" y="3247920"/>
                    <a:ext cx="2857680" cy="13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51000" y="343080"/>
            <a:ext cx="1514160" cy="191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AD06-5301-4141-8F7F-CBDF29D735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Keyboard Event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20600" y="1417320"/>
            <a:ext cx="77724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Press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Releas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handle “action” keys, such as cursor keys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Enter&gt;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function keys, and so 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etKeyCode(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returns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the key’s “virtual code.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Ev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ass defines constants for numerous virtual keys.  For 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15960" y="4981680"/>
            <a:ext cx="525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K_LEFT, VK_RIGHT, VK_UP, VK_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K_HOME, VK_END, VK_PAGE_UP, ...et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97800" y="4981680"/>
            <a:ext cx="167616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sor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15960" y="4905360"/>
            <a:ext cx="6934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15960" y="551484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21480" y="49053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97800" y="5591160"/>
            <a:ext cx="1676160" cy="3988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C477-8580-4014-8207-711C6ABFBD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Keyboard Event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isShiftDown(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isControlDown(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isAltDown()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turn the status of the respective modifier key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etModifiers(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returns a bit pattern that represents the status of all modifier key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Ev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efines “mask” consta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RL_MAS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_MAS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_MAS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nd so 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E705-4018-47C4-A1BF-355FAFF53D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laying Audio Clip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ppl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ass has a metho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AudioClip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at returns 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oClip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bje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44480" y="2765520"/>
            <a:ext cx="5562720" cy="265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 java.applet.AudioCli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dioCl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une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AudioCl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LPath,  relativePathNa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e.play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75360" y="4641840"/>
            <a:ext cx="3124080" cy="161856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may be a slight delay.  The audio clip is actually loaded only when you call i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 for the first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955680" y="4870440"/>
            <a:ext cx="12193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554C-E357-44F6-81F6-A99E4EE38C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laying Audio Clip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LPa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he path part of the URL where the audio clip file is located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DocumentBase(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often used for this parame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DocumentBase(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returns the path part of the absolute URL of this applet’s HTML fi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4648320"/>
            <a:ext cx="4497120" cy="1313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oClip bells = getAudioClip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DocumentBase(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ls.wav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1D79-13D4-4A40-A93B-8C92CCE232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mag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ppl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lass has a metho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Imag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at returns 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bje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2577960"/>
            <a:ext cx="6902280" cy="375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java.awt.Imag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Image pictu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Im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etDocumentBase(),  "flower.gif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paintComponent(Graphics 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icture !=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Im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cture, x, y, thi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911920" y="5353200"/>
            <a:ext cx="1283760" cy="304560"/>
            <a:chOff x="5911920" y="5353200"/>
            <a:chExt cx="1283760" cy="304560"/>
          </a:xfrm>
        </p:grpSpPr>
        <p:sp>
          <p:nvSpPr>
            <p:cNvPr id="111" name=""/>
            <p:cNvSpPr/>
            <p:nvPr/>
          </p:nvSpPr>
          <p:spPr>
            <a:xfrm>
              <a:off x="5911920" y="53532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11920" y="5353200"/>
              <a:ext cx="1283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858000" y="5005440"/>
            <a:ext cx="2057400" cy="70380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Obser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ft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0E11-2528-4DF6-A4D4-13F783DD13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mage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pplications, it may be easier to work with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w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’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Ic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bject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2666880"/>
            <a:ext cx="5952960" cy="375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javax.swing.ImageIc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Ic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ictu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cture = new ImageIcon ("flower.gif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paintComponent (Graphics 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icture !=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Ic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his, g, x, 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900680" y="5408640"/>
            <a:ext cx="2057400" cy="304920"/>
            <a:chOff x="4900680" y="5408640"/>
            <a:chExt cx="2057400" cy="304920"/>
          </a:xfrm>
        </p:grpSpPr>
        <p:sp>
          <p:nvSpPr>
            <p:cNvPr id="118" name=""/>
            <p:cNvSpPr/>
            <p:nvPr/>
          </p:nvSpPr>
          <p:spPr>
            <a:xfrm>
              <a:off x="4900680" y="54086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00680" y="540864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683400" y="4867200"/>
            <a:ext cx="2057400" cy="131364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onent on which this icon is displayed (usuall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AAD6-FD55-49FF-9A81-6025F20BA2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mage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55496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cons can be placed 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tt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Labe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MenuIte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, etc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con’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Imag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 returns its image (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bjec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2673360"/>
            <a:ext cx="6967440" cy="1313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javax.swing.ImageIc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Icon arrow = new ImageIcon ("rightarrow.gif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Button next = new JButton(“Next”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8A98-19E1-4521-8778-665ACCC344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i="1" lang="en-US" sz="4400" spc="-1" strike="noStrike">
                <a:solidFill>
                  <a:srgbClr val="003366"/>
                </a:solidFill>
                <a:latin typeface="Arial"/>
              </a:rPr>
              <a:t>Drawing Editor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Program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666880" y="191448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C8A1-8612-419A-B1A1-D8CDC757BA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66"/>
                </a:solidFill>
                <a:latin typeface="Arial"/>
              </a:rPr>
              <a:t>Drawing Editor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ows to move and shape objects on “canvas” using the mouse and the cursor key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re the shapes are circles (“balloons”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ColorChoos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pick a col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23F5-7377-499C-9E90-A6CA92EE2C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rawing Editor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87480" y="4513320"/>
            <a:ext cx="694512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1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You write the whole program; there is a detailed step-by-step plan in the book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781600" y="3240000"/>
            <a:ext cx="120600" cy="696960"/>
            <a:chOff x="5781600" y="3240000"/>
            <a:chExt cx="120600" cy="696960"/>
          </a:xfrm>
        </p:grpSpPr>
        <p:sp>
          <p:nvSpPr>
            <p:cNvPr id="132" name=""/>
            <p:cNvSpPr/>
            <p:nvPr/>
          </p:nvSpPr>
          <p:spPr>
            <a:xfrm flipV="1">
              <a:off x="5841720" y="3349440"/>
              <a:ext cx="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81600" y="3240000"/>
              <a:ext cx="120600" cy="207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 flipH="1">
            <a:off x="5837400" y="2035080"/>
            <a:ext cx="1080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81600" y="3319560"/>
            <a:ext cx="120600" cy="2077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08520" y="1797120"/>
            <a:ext cx="2068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0000" y="2824200"/>
            <a:ext cx="17856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P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72120" y="3851280"/>
            <a:ext cx="1339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lo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97320" y="2168640"/>
            <a:ext cx="1523880" cy="860400"/>
          </a:xfrm>
          <a:custGeom>
            <a:avLst/>
            <a:gdLst/>
            <a:ahLst/>
            <a:rect l="l" t="t" r="r" b="b"/>
            <a:pathLst>
              <a:path w="1097" h="542">
                <a:moveTo>
                  <a:pt x="0" y="0"/>
                </a:moveTo>
                <a:lnTo>
                  <a:pt x="0" y="542"/>
                </a:lnTo>
                <a:lnTo>
                  <a:pt x="1097" y="54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25600" y="1797120"/>
            <a:ext cx="2068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loonDr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73CC-D755-409E-8DFC-4701E8FB63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bjectives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3692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how to handle mouse and keyboard events in Ja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lement a simple drawing editor applic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the basics of playing sounds and displaying images in applets and applica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B6F6-ED3E-420A-935E-D1F3D96C86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me the five methods of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Listen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terfa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a class implem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MotionListen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ut 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Listen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units and the origin for the coordinates returned by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Ev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’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many methods does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Listen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terface specif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173D-C566-478D-B43B-B30D7923C7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 (cont’d)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Listen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’s method is used to capture an action key even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Ev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’s method returns the actual character typ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Ev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’s methods return the status of modifier key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do we need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Focus(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l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F91F-0B7B-4F41-9EB7-BB8932FF49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view (cont’d)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an applet’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DocumentBase(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 retur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class was written earlier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Ic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can we display an icon on a panel (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Pane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bject)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can we display an icon on a button (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tt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bject)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8C90-392B-4B0B-9371-4A62EAD66A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31760" y="3510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ouse Eve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20240" y="1284120"/>
            <a:ext cx="7543800" cy="33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use events are captured by an object which is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Listen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possibly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MotionListen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mouse listener is often attached to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Pane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mpon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is not uncommon for a panel to serve as its own mouse listen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36800" y="4802040"/>
            <a:ext cx="5856120" cy="1618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MyPanel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MouseListener(thi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MouseMotionListener(this); // op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9A53-DE23-4B60-A0F1-96CAE6A578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ouse Event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Listen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terface defines five method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ousePressed (MouseEvent 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ouseReleased (MouseEvent 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ouseClicked (MouseEvent 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ouseEntered (MouseEvent 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ouseExited (MouseEvent 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 click and release causes several calls.  Using on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Releas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usually a safe b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189840" y="3832200"/>
            <a:ext cx="457200" cy="848880"/>
            <a:chOff x="6189840" y="3832200"/>
            <a:chExt cx="457200" cy="848880"/>
          </a:xfrm>
        </p:grpSpPr>
        <p:sp>
          <p:nvSpPr>
            <p:cNvPr id="69" name=""/>
            <p:cNvSpPr/>
            <p:nvPr/>
          </p:nvSpPr>
          <p:spPr>
            <a:xfrm>
              <a:off x="6189840" y="383220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89840" y="468108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47040" y="3832200"/>
              <a:ext cx="0" cy="848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635880" y="4265640"/>
            <a:ext cx="641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86600" y="2651040"/>
            <a:ext cx="1676520" cy="192348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when the mouse cursor enters/exits   component’s visible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B325-9D83-4832-99BC-FED16343AE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ouse Event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use listener methods receive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Ev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bject as a parame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mouse event can provide the coordinates of the event and other informati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63640" y="3787920"/>
            <a:ext cx="5791320" cy="1923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mousePressed (MouseEvent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x = 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y = 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b = 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But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ECFE-773E-4D6D-99E2-2128C3D252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ouse Event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MotionListen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terface adds two method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ouseMoved (MouseEvent 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ouseDragged (MouseEvent 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methods are often used together wi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Listen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s (the same class implements both interfaces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629400" y="3191040"/>
            <a:ext cx="728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10280" y="2170080"/>
            <a:ext cx="1676520" cy="161856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when the mouse has moved with a button held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25EB-DAE8-4EE5-B050-148CA45887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Keyboard Eve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yboard events are captured by an object which is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Listen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object to which a key listener is attached must first obtain keyboard “focus.”   This is done by calling the component’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Foc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th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omponent (for example,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Pane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 can serve as its own key listen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5421240"/>
            <a:ext cx="624852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KeyListener(thi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1DDF-67C5-43F7-AC4C-76FD784CBA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Keyboard Event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Listen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terface defines three method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keyPressed (KeyEvent 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keyReleased (KeyEvent 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keyTyped (KeyEvent 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 key pressed and released causes several ev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B698-6B6F-42EE-899D-850385D688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31760" y="484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Keyboard Events (cont’d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20600" y="1550880"/>
            <a:ext cx="7772400" cy="48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Typ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capture character keys (that is, keys that correspond to printable characters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etKeyChar(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returns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the typed charact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66840" y="4005360"/>
            <a:ext cx="5139000" cy="1923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keyTyped (KeyEvent 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 ch = e.getKeyCha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ch == ‘A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36C0-A820-47EE-B434-AC580925C7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a Litvin and Gary Litvin</dc:creator>
  <dc:description/>
  <dc:language>en-US</dc:language>
  <cp:lastModifiedBy>Gary Litvin</cp:lastModifiedBy>
  <dcterms:modified xsi:type="dcterms:W3CDTF">2006-08-28T23:03:33Z</dcterms:modified>
  <cp:revision>206</cp:revision>
  <dc:subject>Chapter 17</dc:subject>
  <dc:title>Java Methods A &amp; AB</dc:title>
</cp:coreProperties>
</file>