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3F09-55E3-4A5E-A76B-3C73BCC31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pter is only a brief overview of Java’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ackage and event handling cl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classes contradict the main OOP philoso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ttach the same listener to several components, then sort out in its method which component has caused the event. 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class FileAction implements ActionListe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void actionPerformed(ActionEvent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MenuItem m = (JMenuItem)e.getSour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m == openI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adTex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 if (m == saveI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Tex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 if (m == exitI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cast the object returned b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o the type that caused the event.  Fo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Button btn = (JButton).getSourc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ndix D also has an index of examples for each component, listing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Java Methods A&amp;A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se studies, labs, and exercises where that component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hows text or an image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o not have to capture events from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you can just test whether it is selected when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als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P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outs follow the Strategy design pattern mentioned in Chapter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more complicate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studying this chapter, the reader should be able to get enough background to research on his or her own the remaining classes and methods from Java’s API do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way to left-justify or right-justify components with respect to the component area by passing an additional parameter to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structor. 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setLayout (new FlowLayout(FlowLayout.RIGHT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not very precise: it’s hard to control beyond one 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very precise, but each component is stretched or squeezed to fill a grid c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convenient way to skip a cell: you have to put a dummy component (for example, an empty panel) into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zes of the regions are adjusted to accommodate components placed in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ctually the default for content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bination of nested horizontal and vertical boxes is often a flexible way to achieve a desired lay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particular reason why boxes are handled differently from othe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vertical strut” in a vertical box (or a “horizontal strut” in a horizontal box) adds extra space between componen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 pane is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urned b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tContentPa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UIManag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s has a metho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tInstalledLookAndFee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lists all available PLA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code for menus manually is rather tedious.  GUI authoring tools help automate thi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are the three ways to set a PLA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ng.properties file, command-line switch, code in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a container contain another contain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, containers can be nested to any dep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several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GUI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 an action listener a class, an interface, an object, or a meth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bject.  (The question means an entity attached to a component that listens to its events.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awt.event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n interfa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deal with the sizes of com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each component assumes its natural (preferred) size.  I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ach component occupies the whole grid c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the default layout manager for the content pa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type of objects can you add to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Men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Men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MenuIte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MenuRadioBut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MenuCheckBox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ault PLAF is “Metal.”  A setting in the program overrides the settings in command line (if any) and in the properties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 don’t just “hang there”: each component is linked to its parent component; the top-level component is the application window’s content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stener is an ob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re used more frequently than other types of listeners.  A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n be attached to a button, a text fields, a menu i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ecifies one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actionPerformed(ActionEvent 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classes are not in the AP subs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C03-C4DE-4CD7-A707-A677CFB2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A8A-AED1-4015-A5E8-20790E00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C69-4A6E-4E0C-A579-A0E370AB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3E5-BE8B-4487-AD08-39FE24E4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32F-74E0-44ED-90F5-3645304C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9FE0-AF03-47A0-B1C0-198CF82E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DBB-40DD-4A41-A7FF-83476875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27F-4081-4DD6-A94F-1717F138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784-1989-4962-8C24-63310AB0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EDA-6796-4E74-8FDF-0384DC01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74A-8409-4AE2-A17D-C72D732A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7D2-0FA8-480F-AE75-D05DF765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-</a:t>
            </a:r>
            <a:fld id="{F8DBF157-04FF-46C1-A350-2BA32513D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9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17920" y="430200"/>
            <a:ext cx="394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 &amp;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25840" y="14000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17920" y="2228760"/>
            <a:ext cx="394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06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50960" y="467676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Components and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52960" y="3219480"/>
          <a:ext cx="291456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3219480"/>
                    <a:ext cx="29145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1000" y="343080"/>
            <a:ext cx="1514160" cy="19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33E-A57B-49BB-8AFF-7DEFF95617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stene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1371600"/>
            <a:ext cx="6999120" cy="49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MyPanel extends J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JButton g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= new JButton (“Go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.addActionListener (new GoHandler 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class GoHandler implements Action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actionPerformed (ActionEvent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.setText(“Stop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49280" y="3559320"/>
            <a:ext cx="6205680" cy="2471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755520" y="2200320"/>
            <a:ext cx="28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858000" y="2481120"/>
            <a:ext cx="40320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1360" y="1274760"/>
            <a:ext cx="2112840" cy="13136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ccessible in constructors and methods of the inn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881-6554-4046-9CDC-6203B01640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stene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don’t have to capture all ev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don’t want to deal with events from a component, just don’t attach a listener to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do want to capture events but forget to add a listener, no events will be captured (a common omission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92A-5290-4C91-BDB6-BCF01D6C7D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stene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Perform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or another listener method takes a corresponding type of event as a para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nt objects have useful methods.  For exampl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our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turns the object that produced this ev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Ev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s metho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4E3-A401-4933-97A7-89D4644436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UI Components Review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51536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Java Methods A&amp;AB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ppendix D contains brief summaries of several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mponents, their constructors, methods, and ev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 complete specification refer to the Java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PI do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73A-D195-4C16-A370-D721F6171E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27432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JLabe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1371600"/>
            <a:ext cx="7086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ructor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Label (String tex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Label (ImageIcon ic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Label (String text, ImageIcon icon, SwingConstants.LEF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or CENTER, RIGHT, LEADING, TRAIL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setText (String tex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setIcon (ImageIcon ic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en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62A-654F-4636-848E-68503FAEDF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8640" y="29340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JButt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80880"/>
            <a:ext cx="51814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structor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Button (String tex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Button (ImageIcon pictur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Button (String text, ImageIcon pictur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addActionListener (ActionListener ob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setText (String tex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setActionCommand (String cm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setIcon (ImageIcon ic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requestFocu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... implements Action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actionPerformed(ActionEvent 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Button b = (JButton)e.getSour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ing s = e.getActionComma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7E9-898E-43CA-8F0B-5D3A32B022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80160" y="128160"/>
            <a:ext cx="3047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JCheckBox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"/>
            <a:ext cx="54100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structor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CheckBox (String text, boolean check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CheckBox (ImageIcon icon, boolean check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CheckBox (String text, ImageIcon ic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ean checke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addActionListener (ActionListener ob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ean isSelected 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setSelected (boolean check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setText (String tex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setIcon (ImageIcon ico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v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... implements Action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actionPerformed(ActionEvent 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CheckBox b = (JCheckBox)e.getSour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b == checkBox1 &amp;&amp; b.isSelected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341-7223-4806-8EFA-294457F676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4720" y="5871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tc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752480"/>
            <a:ext cx="556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e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Java Methods A&amp;AB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ppendix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916-1FF8-47B3-95DD-6BCD8EAD80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ayou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ayout manager is a strategy for placing components on the content pane or another component (usually a panel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Java, the content pane and any GUI component i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ayout is chosen by calling the container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Lay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423-3AE6-4F0F-A379-775C89D6E6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ayout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youts are used to achieve some degree of platform independence and scalabili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wt/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ort several layout managers. Here we consider fou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x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classes implement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awt.LayoutManag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f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83C-ADD2-42E4-8209-1626828521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t a more systematic introduction to basic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mponents, their methods, and events they genera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onents discuss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Lab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ut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ToggleBut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CheckBo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ComboBo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19400" y="3473280"/>
            <a:ext cx="32767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l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Text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assword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Text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3CB1-A8A8-42D4-9CA8-A351AAA770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Layou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ces components in a line as long as they fit, then starts the next li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“best judgement” in spacing components.  Centers by defaul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s each component assume its natural (preferred) siz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ten used for placing buttons on pan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D16-D96C-4FCA-813E-4B1BF8C260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Layout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1679400"/>
            <a:ext cx="5791320" cy="222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r c = getContentPa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setLayout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lowLayou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Back to Start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Previous Slid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Next Slid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Last Slid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Exit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19320" y="4172040"/>
            <a:ext cx="28576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4AA-B8EB-4E7E-8DA6-20068A8539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dLayou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lits the panel into a grid with given numbers of rows and colum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ces components into the grid cel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ces the size of each component to occupy the whole ce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ws additional spacing between cel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C5A-ACEA-488F-9F5B-80564295C3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dLayout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05000" y="1587600"/>
            <a:ext cx="5838840" cy="222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r c = getContentPa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setLayout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GridLayout(3, 2,  10, 20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Back to Start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Previous Slid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Next Slid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Last Slid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Exit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756400" y="2117520"/>
            <a:ext cx="752400" cy="152640"/>
            <a:chOff x="5756400" y="2117520"/>
            <a:chExt cx="752400" cy="152640"/>
          </a:xfrm>
        </p:grpSpPr>
        <p:sp>
          <p:nvSpPr>
            <p:cNvPr id="126" name=""/>
            <p:cNvSpPr/>
            <p:nvPr/>
          </p:nvSpPr>
          <p:spPr>
            <a:xfrm flipV="1">
              <a:off x="5756400" y="2117520"/>
              <a:ext cx="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508800" y="2117520"/>
              <a:ext cx="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56400" y="2270160"/>
              <a:ext cx="752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153120" y="2270160"/>
            <a:ext cx="598680" cy="728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80200" y="2946240"/>
            <a:ext cx="188280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space between the cells (in pix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33640" y="426708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C94A-48DE-4D17-A2B3-2FD104541E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derLayou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vides the area into five regions and adds a component to the specified reg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ces the size of each component to occupy the whole reg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09680" y="2622600"/>
            <a:ext cx="4800600" cy="2057400"/>
            <a:chOff x="2209680" y="2622600"/>
            <a:chExt cx="4800600" cy="2057400"/>
          </a:xfrm>
        </p:grpSpPr>
        <p:sp>
          <p:nvSpPr>
            <p:cNvPr id="135" name=""/>
            <p:cNvSpPr/>
            <p:nvPr/>
          </p:nvSpPr>
          <p:spPr>
            <a:xfrm>
              <a:off x="2286000" y="2698560"/>
              <a:ext cx="464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0" y="4146480"/>
              <a:ext cx="464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U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1280" y="343512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90960" y="34351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A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0" y="34351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09680" y="2622600"/>
              <a:ext cx="4800600" cy="2057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3232080"/>
              <a:ext cx="480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09680" y="4070160"/>
              <a:ext cx="4800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504960" y="323208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715000" y="323208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D2B3-670F-4833-8AA3-2F1DBF66F2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derLayout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4080" y="1589040"/>
            <a:ext cx="7848720" cy="222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r c = getContentPa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setLayout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BorderLayou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 // optional: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Next Slide"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derLayout.EA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Previous Slide"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derLayout.W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Back to Start"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derLayout.NOR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Last Slide"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derLayout.SOU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new JButton ("Exit"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rderLayout.C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57480" y="4172040"/>
            <a:ext cx="28576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2CF-5EB2-4BFF-B9B8-BFE74D817F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xLayou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 horizontal box, components are placed horizontally, left to righ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 vertical box, components are placed vertically, top to bott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917800" y="2658960"/>
            <a:ext cx="2209680" cy="1143000"/>
            <a:chOff x="2917800" y="2658960"/>
            <a:chExt cx="2209680" cy="1143000"/>
          </a:xfrm>
        </p:grpSpPr>
        <p:sp>
          <p:nvSpPr>
            <p:cNvPr id="151" name=""/>
            <p:cNvSpPr/>
            <p:nvPr/>
          </p:nvSpPr>
          <p:spPr>
            <a:xfrm>
              <a:off x="2917800" y="2658960"/>
              <a:ext cx="561960" cy="1143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79760" y="2658960"/>
              <a:ext cx="876240" cy="1143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56000" y="2658960"/>
              <a:ext cx="77148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7800" y="2658960"/>
              <a:ext cx="2209680" cy="1143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55960" y="5033880"/>
            <a:ext cx="2133360" cy="1219320"/>
            <a:chOff x="2955960" y="5033880"/>
            <a:chExt cx="2133360" cy="1219320"/>
          </a:xfrm>
        </p:grpSpPr>
        <p:sp>
          <p:nvSpPr>
            <p:cNvPr id="156" name=""/>
            <p:cNvSpPr/>
            <p:nvPr/>
          </p:nvSpPr>
          <p:spPr>
            <a:xfrm rot="5400000">
              <a:off x="3867120" y="4122720"/>
              <a:ext cx="309600" cy="2131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3780000" y="4519080"/>
              <a:ext cx="483480" cy="213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3809520" y="4973400"/>
              <a:ext cx="424800" cy="2131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3414240" y="4578120"/>
              <a:ext cx="1218240" cy="213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 flipH="1">
            <a:off x="5154120" y="552456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632480"/>
            <a:ext cx="2286000" cy="16185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” or “vertical” has nothing to do with the shape of the box itsel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4E40-7D57-4E8E-B957-AF4DD0F25B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xLayout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Lay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default layout for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ntain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diom for working with boxes is slightly differ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3809880"/>
            <a:ext cx="5639040" cy="25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 box1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.createHorizontalBox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1. add 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add a spacer, 60 pix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1.add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.createHorizontalStrut (6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 box2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.createVerticalBox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5DE-B014-4564-86D7-39600E2E8E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xLayout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1577880"/>
            <a:ext cx="5638680" cy="25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r c = getContentPa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setLayout(new FlowLayout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 box = Box.createVerticalBox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.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w JButton ("Next Slid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.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w JButton ("Previous Slide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.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ox.createVerticalStrut (20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.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w JButton ("Exit"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dd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00240" y="444816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>
            <a:off x="6688080" y="3333600"/>
            <a:ext cx="876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2432160"/>
            <a:ext cx="1600200" cy="11912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s extra vertical space between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A1F-B4AC-44CF-9F11-639B915175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efault Layou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component has a default layout manager, which remains in effect until the component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Lay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is call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efault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 pane         BorderLay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Panel                    Flow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x                         BoxLayo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900600" y="37180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900600" y="415116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900600" y="45846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28D-1B18-4185-B6F8-64AB25173C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uggable Look and Fee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Look and fe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fers to the GUI aspect of a progr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’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orts PLAF (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uggabl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ok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d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l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provides several LAFs, includ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al”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latform independ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ndows”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ndows Classic”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ik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f”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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ni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6A8-4C9D-4ECB-9A13-18B57E7877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enu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dd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MenuBa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Fra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pl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d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Men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s to a 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Ba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add oth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Men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MenuItem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CheckBoxMenuItem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RadioButtonMenuItem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etc. to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Men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Section 16.5 for an examp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AA6-6087-4549-B39F-B99B37E1BA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three ways to set a PLAF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 container contain another contain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several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GUI compon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an action listener a class, an interface, an object, or a metho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Lay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Lay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eal with the sizes of componen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3D9-BEFC-43F4-A101-05F0EE70E0E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efault layout manager for the content pa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type of objects can you add to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Men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834-D3A6-4F0C-9B06-FA36BF9AEE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1760" y="3510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AF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20600" y="1206360"/>
            <a:ext cx="782640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ree ways to set look and fee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ng.propert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i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mand-line switch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e program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74880" y="2343240"/>
            <a:ext cx="6848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ng.defaultlaf=com.sun.java.swing.plaf.windows.WindowsLookAndF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74880" y="3768840"/>
            <a:ext cx="6845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&gt; java -Dswing.defaultlaf=javax.swing.plaf.metal. MetalLookAndFeel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4880" y="4822920"/>
            <a:ext cx="683568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Manager.setLookAndFeel(plaf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ch (Exception ex) { ..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69F-5CBC-4B0D-93DE-61A3BBFD98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UI Compon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onents are created using constructo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be usable, a component must be added to the application’s “content pane” or to another compon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09640" y="2251080"/>
            <a:ext cx="47167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Label guest = new JLabel ("Guest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09640" y="4487760"/>
            <a:ext cx="47167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Panel scorePanel = new JPane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ePanel.add (gue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FF4-4E60-4DD5-AFF8-611B97C2AE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UI Ev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onents (excep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Lab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can generate ev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nts are captured and processed by “listeners” — objects equipped to handle a particular type of ev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erent types of events are processed by different types of listen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7ED-083D-48C3-A58F-FD228484DA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sten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196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erent types of “listeners” are described as interfac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Liste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Liste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Liste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ame object can serve as different types of listeners (as long as its class implements all the corresponding interfaces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217-A48A-4A84-B5D2-CF9B96DE89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stene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1600200"/>
            <a:ext cx="5562720" cy="2838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Go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s ActionLi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Perfor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ctionEvent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4572000"/>
            <a:ext cx="575964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Button go = new JButton (“Go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ActionListen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GoHandler 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495320" y="182880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124080" y="5572080"/>
            <a:ext cx="1622520" cy="533520"/>
            <a:chOff x="3124080" y="5572080"/>
            <a:chExt cx="1622520" cy="533520"/>
          </a:xfrm>
        </p:grpSpPr>
        <p:sp>
          <p:nvSpPr>
            <p:cNvPr id="83" name=""/>
            <p:cNvSpPr/>
            <p:nvPr/>
          </p:nvSpPr>
          <p:spPr>
            <a:xfrm flipV="1">
              <a:off x="3124080" y="5572080"/>
              <a:ext cx="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24080" y="6105600"/>
              <a:ext cx="1622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 flipV="1">
            <a:off x="3809880" y="32004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3733920"/>
            <a:ext cx="2198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1127160"/>
            <a:ext cx="297504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of this class ar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Hand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but als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638680"/>
            <a:ext cx="370512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thod expects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Hand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 qualif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3429000"/>
            <a:ext cx="281952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thod is called automatically when the button is cli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AF3-FE56-4DCE-A9DC-6CA211FA23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Listene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implementing an event listener, programmers often use a priv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 that has access to all the fields of the surrounding public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inner class can have constructors and private fields, like any other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rivate inner class is accessible only in its outer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9DF-9BB9-4B1E-9A5C-8F5D5D0346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06-08-28T23:03:20Z</dcterms:modified>
  <cp:revision>199</cp:revision>
  <dc:subject>Chapter 16</dc:subject>
  <dc:title>Java Methods A &amp; AB</dc:title>
</cp:coreProperties>
</file>