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954C-6572-4DCA-A18F-62D99311D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pter also includes relational and logical operators, De Morgan’s Laws,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tatement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ata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ison to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orks for all types of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cal operators parallel those in formal log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inclusive or: either one or the other or bo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ormal logic there is a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uality princip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if you take a true statement made with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!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rue, and false, and replace all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vice-versa, and all true with false and vice-versa, you’ll get another true statement.  De Morgan’s Laws are d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 you can string several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ith no parentheses: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 &amp;&amp; b &amp;&amp; 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The rank of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lower tha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so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 &amp;&amp; b || c &amp;&amp; 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the same a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a &amp;&amp; b) || (c &amp;&amp; 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but such an expression is more readable with parenthe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has another set of operators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and)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or),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~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not),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^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xor).  These are bitwise logical operators that work on bit patterns.  Unfortunately, these can be also used with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ariables.  When applied to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o NOT follow the short-circuit evaluation rule.  So be very careful to make sure you hav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nest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-el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more than two levels, it may be hard to read.  Reconsider your design: perhaps you need helper methods that handle different c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-else-i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quence, the seco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-el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ctually nested within the preceding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lause, but this layout is conventional and more readable.  The sequence remains readable even if it is quite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extra semicolon, the code will be execute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(...) do n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 statements in braces (unconditional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of the two examples of missing braces is known as a “dangling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lause actually pairs with the inner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not the outer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s the programmer intended and as the indentation imp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legend in software folklore that a missing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a program caused the whole telephone grid of New York to go down, costing millions of dollars.  You have to be careful with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; they are among the many opportunities to make a stupid mistake not caught by the compiler.  Attention to detail is k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objective is to discuss team development and illustrate software reusability in the context of a simple but realistic case study, 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rap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simply a special case of a case without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Case 1 "falls through" to Case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alues are based on objects -- they even have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Boolean expressions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alues are used with the type name-dot prefix;  i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abels use only values, without a pref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this case study is both to practice with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-el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pressions and to discuss design topics: OO design, team development, and software reus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assignment is placed into the context of a larger team effort.  All you need to know is the public interfaces for your classe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rapsG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that is, their constructors and public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ould take a long time to test your class in the real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rap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gram, with random numbers of points coming up on the dice.  You want a more controlled test, in which you can specify the outcome of a “dice roll,” and you need to run through all relevant sequences of “roll” outc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how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rapsG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lass is used in 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rap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gram, and also in 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rapsSta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gram.  This is a simple example of reus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 is here to let you code a swit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are the possible values of a boolean vari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operators are used to compare values of numbers and ch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al operator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gt;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can you test whether two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 have the same valu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str1.equals(str2))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ich binary operators have the higher rank (are executed first), relational or logic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al.  First arithmetic (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and %, the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, then relational, and logical 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you have a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statement without a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optio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are De Morgan’s Law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!(a &amp;&amp; 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the same a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!a || !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!(a || 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the same a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!a &amp;&amp; !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in short-circuit eval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equence of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perators, once you encounter one condition that is false, the rest are not evaluated and the result is set to false.  Likewise, in a sequence of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perators, once you encounter a condition that is true, the rest are not evaluated and the result is set to tr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long can a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-else-i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sequence b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ng as you need, usually quite readable.  But if it is very long, you might consider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lause contains only one statement, the braces are optional, but it is safer to always keep them.  With braces it is also easier to add a statement to a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la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are breaks used for in a switch?  What happens if you forget 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structs the code to break out of the switch and go to the statement after the switch.  If a break is missing, the code “falls through” and continues with the statements in the next c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the same case in a switch have two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se may have several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, but all except the last one must be inside a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a lo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types of expressions can be used in a switch?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?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in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- yes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- yes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- no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- 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operators hav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opera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point, really, in using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ymbolic constants because you can just us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the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rge Boole was a British mathematician who studied properties of formal log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assign the result of an arithmetic expression to a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ariable.  Similarly, you can assign the result of a Boolean expression to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ariable.  For example, rather than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oolean exceedsLimi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speed &gt;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ceedsLimit = tru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ceedsLimit = fals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write simp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oolean exceedsLimit = speed &gt; limi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for assignment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for compari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gt;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re OK with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, because in this type of comparison the program usually doesn’t care about the situation when the numbers are exactly eq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Java you have to always be aware when two variables refer to the same object and when to two different objects, perhaps with equal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lity may be defined differently for different types of objects.  Two strings are equal if they consist of equal characters; for two “employees,” equals may mean the same social security number.  A programmer defines the meaning of “equals” for the objects of his or her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3A4B-C6EA-4418-A766-403831E9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42FF-FCC7-4B3F-B590-EE68DA3D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02F0-BEB7-4D22-BCD8-4002D885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8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624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0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8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624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8110-C085-40B3-9CA5-23E01162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31760" y="484200"/>
            <a:ext cx="77724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A95-3B38-4992-A1C5-52C67201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48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7624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20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48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7624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24BB-03C2-46A9-A952-CE3B6893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EE0F-8F4E-43F7-93B8-B356A2D1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B9E4-09F1-4E6A-9AD0-9B21F17D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31760" y="484200"/>
            <a:ext cx="77724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ED90-4F51-408A-829D-58D34C7C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0DE4-7A64-4CA0-8C05-726F9187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625-523E-4361-852A-7D23B3EF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1698-C6EC-4DD6-9D59-4A204626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89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5EBE6C7F-8E93-4E76-BFCF-F2E35EFCA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69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828800" y="41148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Tit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"/>
            <a:ext cx="693432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384200"/>
            <a:ext cx="617220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An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to Obj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380880"/>
            <a:ext cx="3047760" cy="9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90a8"/>
                </a:solidFill>
                <a:latin typeface="Times New Roman"/>
              </a:rPr>
              <a:t>Maria Litv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490a8"/>
                </a:solidFill>
                <a:latin typeface="Times New Roman"/>
              </a:rPr>
              <a:t>Gary Litv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640080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© 2001-2003 by Maria Litvin, Gary Litvin, and Skylight Publishing. 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3049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914400"/>
            <a:ext cx="198144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50960" y="4514760"/>
            <a:ext cx="611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Expressions and if-else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4320" y="3516480"/>
            <a:ext cx="5240520" cy="98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(chapter ==</a:t>
            </a:r>
            <a:r>
              <a:rPr b="0" i="1" lang="en-US" sz="3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11520" y="6400800"/>
            <a:ext cx="62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pyright © 2011 by Maria Litvin, Gary Litvin, and Skylight Publishing.  All rights reserv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4240" y="544680"/>
            <a:ext cx="1036800" cy="1342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732040" y="430200"/>
            <a:ext cx="39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Java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39960" y="1131840"/>
            <a:ext cx="39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cc0c1"/>
                </a:solidFill>
                <a:latin typeface="Arial Narrow"/>
              </a:rPr>
              <a:t>Object-Oriented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cc0c1"/>
                </a:solidFill>
                <a:latin typeface="Arial Narrow"/>
              </a:rPr>
              <a:t>and Data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32040" y="2462040"/>
            <a:ext cx="3941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ria Litvin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●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Gary Litv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39960" y="1900080"/>
            <a:ext cx="39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nd AP editio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with Grid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4562-7425-4B04-8D69-F170111BFF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lational Operator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21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=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perator with strings and other objects when you want to know whether or not this is exactly the same obje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so u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=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compare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39960" y="3711600"/>
            <a:ext cx="5257800" cy="901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text = file.readLine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 tex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ll ) 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6C6B-0E6F-4EA2-B104-E8898F49DA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ogical Operato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83760" y="1900080"/>
            <a:ext cx="6248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&amp;,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2898720"/>
            <a:ext cx="1079640" cy="459720"/>
          </a:xfrm>
          <a:solidFill>
            <a:srgbClr val="e1e1b7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06560" y="3622680"/>
            <a:ext cx="939960" cy="459720"/>
          </a:xfrm>
          <a:solidFill>
            <a:srgbClr val="e1e1b7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27480" y="4321080"/>
            <a:ext cx="939600" cy="459720"/>
          </a:xfrm>
          <a:solidFill>
            <a:srgbClr val="e1e1b7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25C4-5470-4AA1-A8DB-66BBE92D3E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ogical Operator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20240" y="1550880"/>
            <a:ext cx="732636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&amp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rue if bo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re tr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rue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or both) are tr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rue if and only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fal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C9F1-C7C4-4804-B3F7-083CB3E92D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ogical Operator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&amp;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bey the laws of formal logic called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De Morgan’s Law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( ! ( x =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 &amp;&amp;  x &lt;= 10 ) ) 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( x &l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 ||  x &gt; 10 ) ..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22520" y="2678040"/>
            <a:ext cx="5790960" cy="1015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q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!p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!q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q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!p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!q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27440" y="5495760"/>
            <a:ext cx="236232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362560" y="5038560"/>
            <a:ext cx="457200" cy="457200"/>
            <a:chOff x="5362560" y="5038560"/>
            <a:chExt cx="457200" cy="457200"/>
          </a:xfrm>
        </p:grpSpPr>
        <p:sp>
          <p:nvSpPr>
            <p:cNvPr id="149" name=""/>
            <p:cNvSpPr/>
            <p:nvPr/>
          </p:nvSpPr>
          <p:spPr>
            <a:xfrm flipH="1">
              <a:off x="5362560" y="5038560"/>
              <a:ext cx="4572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19760" y="5038560"/>
              <a:ext cx="0" cy="457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24DE-FD19-42A3-8786-75FA469E7A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anks of Operato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1600200"/>
            <a:ext cx="4495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 ++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s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 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    &lt;=     &gt;     &gt;=     ==    !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2057400"/>
            <a:ext cx="4343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2666880"/>
            <a:ext cx="4343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3200400"/>
            <a:ext cx="4343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3733920"/>
            <a:ext cx="4343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4267080"/>
            <a:ext cx="4343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5257800"/>
            <a:ext cx="6782040" cy="1015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( ( ( year % 4 ) == 0 ) &amp;&amp; ( month == 2 ) 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( year % 4 == 0 &amp;&amp; month == 2 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4638600"/>
            <a:ext cx="236232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857640" y="6086520"/>
            <a:ext cx="10666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7924680" y="5095800"/>
            <a:ext cx="0" cy="990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25760" y="189540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35000" y="1459080"/>
            <a:ext cx="11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igh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35000" y="4675320"/>
            <a:ext cx="11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47DA-59D4-430A-8683-F21ADC5A70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hort-Circuit Evalu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27200" y="1454040"/>
            <a:ext cx="6469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 evalu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e result is false anywa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, t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 evalu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e result is true anywa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39800" y="4699080"/>
            <a:ext cx="57913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 x &gt;= 0  &amp;&amp;  Math.sqrt (x) &lt; 15.0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35640" y="5160600"/>
            <a:ext cx="0" cy="369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13000" y="2978280"/>
            <a:ext cx="6270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11400" y="5500800"/>
            <a:ext cx="3167280" cy="8254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OK: won’t get to sqrt if x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8952-0691-42D0-AB30-B33C53939F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Nested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-els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36800" y="1638360"/>
            <a:ext cx="4038480" cy="4362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"forward".equals(cmd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slide &gt;= numSli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ep.play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slide &lt;=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ep.play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33880" y="224784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33880" y="361944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91280" y="2247840"/>
            <a:ext cx="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33880" y="438156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33880" y="575316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91280" y="4381560"/>
            <a:ext cx="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48080" y="1562040"/>
            <a:ext cx="3048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48080" y="6058080"/>
            <a:ext cx="3048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96200" y="1562040"/>
            <a:ext cx="0" cy="4496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4D19-89FC-4B9F-9C63-8F2E0EC30D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-else-if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09760" y="1771560"/>
            <a:ext cx="4724280" cy="375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drinkSize.equals(”Large"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+= 1.39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 if (drinkSize.equals("Medium"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+= 1.19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  // if "Small" drink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+= 0.99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623960" y="3371760"/>
            <a:ext cx="129528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23960" y="443880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623600" y="2000160"/>
            <a:ext cx="685800" cy="1219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23960" y="321948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3630-ED38-4A2C-8840-D80E549C37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mmon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-else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Erro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03720" y="4114800"/>
            <a:ext cx="2548080" cy="2301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(..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(..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1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2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014800" y="4572000"/>
            <a:ext cx="380880" cy="696600"/>
            <a:chOff x="5014800" y="4572000"/>
            <a:chExt cx="380880" cy="696600"/>
          </a:xfrm>
        </p:grpSpPr>
        <p:sp>
          <p:nvSpPr>
            <p:cNvPr id="191" name=""/>
            <p:cNvSpPr/>
            <p:nvPr/>
          </p:nvSpPr>
          <p:spPr>
            <a:xfrm flipH="1">
              <a:off x="5014800" y="4572000"/>
              <a:ext cx="3808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014800" y="5267520"/>
              <a:ext cx="380880" cy="10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14800" y="4572000"/>
              <a:ext cx="0" cy="6955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013120" y="4702320"/>
            <a:ext cx="2017440" cy="131364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safer to always use braces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-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03720" y="2363760"/>
            <a:ext cx="2373480" cy="1479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(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57400" y="2363760"/>
            <a:ext cx="2395440" cy="1905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(...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19040" y="1635120"/>
            <a:ext cx="207180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 semicol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5960" y="2363760"/>
            <a:ext cx="380880" cy="533520"/>
          </a:xfrm>
          <a:prstGeom prst="rect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014800" y="2795760"/>
            <a:ext cx="380880" cy="723240"/>
            <a:chOff x="5014800" y="2795760"/>
            <a:chExt cx="380880" cy="723240"/>
          </a:xfrm>
        </p:grpSpPr>
        <p:sp>
          <p:nvSpPr>
            <p:cNvPr id="200" name=""/>
            <p:cNvSpPr/>
            <p:nvPr/>
          </p:nvSpPr>
          <p:spPr>
            <a:xfrm flipH="1">
              <a:off x="5014800" y="2795760"/>
              <a:ext cx="3808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014800" y="3517920"/>
              <a:ext cx="380880" cy="10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14800" y="2795760"/>
              <a:ext cx="0" cy="7221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5146560" y="1635120"/>
            <a:ext cx="228600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 bra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65480" y="2066760"/>
            <a:ext cx="0" cy="252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043520" y="3286080"/>
            <a:ext cx="887400" cy="169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054320" y="4903920"/>
            <a:ext cx="849600" cy="171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B7B7-7B37-4993-9674-73EBFB8324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3240" y="609120"/>
            <a:ext cx="355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witch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tatemen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419720" y="1074600"/>
            <a:ext cx="3070080" cy="4724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lue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lue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45320" y="3219480"/>
            <a:ext cx="1249560" cy="119124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forge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7280" y="252720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7280" y="373068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7280" y="527040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16760" y="2527200"/>
            <a:ext cx="0" cy="3441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33680" y="2408400"/>
            <a:ext cx="1404720" cy="1557000"/>
          </a:xfrm>
          <a:prstGeom prst="rect">
            <a:avLst/>
          </a:prstGeom>
          <a:solidFill>
            <a:srgbClr val="e1e1b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31920" y="4511520"/>
            <a:ext cx="220824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rved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335320" y="3965040"/>
            <a:ext cx="0" cy="52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87800" y="5965920"/>
            <a:ext cx="0" cy="250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97520" y="5965920"/>
            <a:ext cx="2009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4C2A-F381-468E-B394-6BE614D9BE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bjectives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abou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ata ty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the syntax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-el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about relational and logical operators, De Morgan’s laws, short-circuit evalu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when to use nes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-el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,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-else-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equences,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abo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u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ata typ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742C-24A1-4224-B364-3CC5DD4862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Statement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ame case can have two or more labels.  For 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63560" y="2835360"/>
            <a:ext cx="6131160" cy="2855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 (n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.out.println ("Buckle your sho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3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2385-48CE-462B-A122-C4F746B168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31760" y="3618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um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Data Typ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20600" y="142884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d when an object’s attribute or state can have only one of a small set of values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u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riable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do no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represent numbers, characters, or string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122640"/>
            <a:ext cx="6453360" cy="1923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eed { LOW, MEDIUM, HIGH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kColor { BLACK, RED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yOfWeek { sunday, monda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esday, wednesday, thursday, friday, saturday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E5B-A0E5-4CEF-9608-28FA46AF17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31760" y="3618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um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Data Type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20600" y="1305000"/>
            <a:ext cx="77724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=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comp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u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l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used in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30360" y="1978200"/>
            <a:ext cx="6453000" cy="1618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enum Speed { LOW, MEDIUM, HIGH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 currentSpeed = Speed.LO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currentSpe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eed.LOW)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30360" y="4349880"/>
            <a:ext cx="6453000" cy="222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(currentSpe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LO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MEDI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76D2-3C79-4A47-B75D-B9B6AC66CF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3366"/>
                </a:solidFill>
                <a:latin typeface="Arial"/>
              </a:rPr>
              <a:t>Craps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Projec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305080" y="1971720"/>
            <a:ext cx="4699080" cy="352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C300-3780-476A-B453-FF29F085C1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847800" y="1647720"/>
          <a:ext cx="6435720" cy="42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1647720"/>
                    <a:ext cx="643572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3366"/>
                </a:solidFill>
                <a:latin typeface="Arial"/>
              </a:rPr>
              <a:t>Craps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Project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7143840" y="3809880"/>
            <a:ext cx="628560" cy="466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0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305840" y="3400560"/>
            <a:ext cx="152388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CA85-9087-4433-B5A7-026DD690AE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3366"/>
                </a:solidFill>
                <a:latin typeface="Arial"/>
              </a:rPr>
              <a:t>Craps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Project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23880" y="1600200"/>
            <a:ext cx="6324840" cy="1267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yo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apsG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separately using the clas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apsTest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to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867120" y="3029040"/>
            <a:ext cx="4287960" cy="34304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324160" y="4019400"/>
            <a:ext cx="0" cy="714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90680" y="3733920"/>
            <a:ext cx="1876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psTes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09760" y="4753080"/>
            <a:ext cx="1876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ps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B53B-2C31-4DB0-878F-F45A9129194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543040" y="3772080"/>
            <a:ext cx="828720" cy="54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3366"/>
                </a:solidFill>
                <a:latin typeface="Arial"/>
              </a:rPr>
              <a:t>Craps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Project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08160" y="1557360"/>
            <a:ext cx="7399440" cy="1267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yo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apsG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es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apsSta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48040" y="3629160"/>
            <a:ext cx="0" cy="714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33440" y="3343320"/>
            <a:ext cx="1876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ps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33640" y="4362480"/>
            <a:ext cx="1876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ps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28840" y="4362480"/>
            <a:ext cx="838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62640" y="4029120"/>
            <a:ext cx="3971880" cy="13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9870-890E-4EDC-A999-A1E41D6E342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3366"/>
                </a:solidFill>
                <a:latin typeface="Arial"/>
              </a:rPr>
              <a:t>Craps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Project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41360" y="1433520"/>
            <a:ext cx="7209000" cy="16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lingD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(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D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).  Integr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apsG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lingD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a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044880" y="3594240"/>
            <a:ext cx="3043080" cy="228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304A-CF2A-47C9-9739-AEA4E81295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possible values of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riabl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operators are used to compare values of numbers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can you test whether tw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 have the same values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binary operators have higher rank (are executed first), relational or logica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0278-E789-4142-AB89-DC20BDB842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 (cont’d)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you have 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 without 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De Morgan’s Law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short-circuit evalu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long can 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-else-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equence b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9DF2-B2E9-4A1F-B296-A42A2BD6F78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-else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Statemen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2057400"/>
            <a:ext cx="350496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 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ther stat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057400"/>
            <a:ext cx="3505320" cy="1557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 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02400" y="4129200"/>
            <a:ext cx="179064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242" y="-16016"/>
                </a:moveTo>
                <a:lnTo>
                  <a:pt x="-919" y="2968"/>
                </a:lnTo>
              </a:path>
              <a:path w="21600" h="21600">
                <a:moveTo>
                  <a:pt x="-919" y="0"/>
                </a:moveTo>
                <a:lnTo>
                  <a:pt x="-919" y="21600"/>
                </a:lnTo>
              </a:path>
            </a:pathLst>
          </a:custGeom>
          <a:solidFill>
            <a:srgbClr val="e1e1b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use is op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1733400"/>
            <a:ext cx="0" cy="378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2C65-7861-457D-A485-7F2D3C4822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 (cont’d)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 used for in a switch?  What happens if you forget o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the same case in a switch have tw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types of expressions can be used in a switch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u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operators can ha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u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perand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820A-58F1-434B-A741-65890614ED0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Data Typ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20240" y="1550520"/>
            <a:ext cx="5388120" cy="30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orge Boole (1815 - 1864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riables may have only two values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defi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ields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ocal variables the same way as other variab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18240" y="3627360"/>
            <a:ext cx="1405080" cy="1191240"/>
          </a:xfrm>
          <a:prstGeom prst="rect">
            <a:avLst/>
          </a:prstGeom>
          <a:solidFill>
            <a:srgbClr val="e1e1b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16480" y="5386320"/>
            <a:ext cx="220824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rved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50040" y="1093680"/>
            <a:ext cx="1449360" cy="1764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V="1">
            <a:off x="7319880" y="4839840"/>
            <a:ext cx="0" cy="52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97160" y="4659480"/>
            <a:ext cx="449712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MiddleNa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Rolling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439A-AF34-4E07-9879-A242677D17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Boolean Express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&lt;condition&gt; 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condition&gt;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a Boolean express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Boolean expression evaluates to either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olean expressions are written us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riables and relational and logical operato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55B8-1D12-40A2-A482-E77FCDFA87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lational Operato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77840" y="1833480"/>
            <a:ext cx="4800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,   &gt;,  &lt;=,  &gt;=,   ==,   !=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41720" y="3019320"/>
            <a:ext cx="1892160" cy="459720"/>
          </a:xfrm>
          <a:solidFill>
            <a:srgbClr val="e1e1b7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27520" y="3689280"/>
            <a:ext cx="1892160" cy="825480"/>
          </a:xfrm>
          <a:solidFill>
            <a:srgbClr val="e1e1b7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OT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EC9D-0022-4F72-A898-2BF4A09F66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lational Operator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20240" y="1550880"/>
            <a:ext cx="514836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y to numbers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( count1 &lt;= count2 ) 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( sum != 0 ) 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( letter == 'Y' ) 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not u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=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 because they may have rounding err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54560" y="3200400"/>
            <a:ext cx="2332080" cy="1557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x = 7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y = 3.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x / y == 2.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57840" y="5257800"/>
            <a:ext cx="1600200" cy="8254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fal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419960" y="4419720"/>
            <a:ext cx="0" cy="838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8AEB-8F3C-40B7-8FCF-772CF93238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lational Operator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careful us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=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ith objects (for example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): they compare references (addresses) rather than values (the content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cmd = console.readLine(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 cmd == "Help" ) 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14480" y="4346640"/>
            <a:ext cx="2133720" cy="8254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lways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981160" y="3828960"/>
            <a:ext cx="0" cy="441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048A-DDC4-4C43-AA52-0372E0C3A1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lational Operator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69120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sIgnoreCa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s to comp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81200" y="4576680"/>
            <a:ext cx="6172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  "Help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equal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md) ) 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9400" y="2746440"/>
            <a:ext cx="6172200" cy="901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cmd = console.readLin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 cm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equal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"Help") ) 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6FE4-4CCC-402B-AF93-7EAD45E4F2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a Litvin and Gary Litvin</dc:creator>
  <dc:description/>
  <dc:language>en-US</dc:language>
  <cp:lastModifiedBy>Gary Litvin</cp:lastModifiedBy>
  <dcterms:modified xsi:type="dcterms:W3CDTF">2014-04-18T14:54:31Z</dcterms:modified>
  <cp:revision>102</cp:revision>
  <dc:subject>Chapter 7</dc:subject>
  <dc:title>Java Methods 2nd AP edition</dc:title>
</cp:coreProperties>
</file>