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F4D2-8824-40C1-9E35-8E06D309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hierarchies is the heart of 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lass’s constructors are called using the keywor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s discussed shor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urns a string that holds object’s class name and hex address in memory -- not very useful for most classes.  For example, if we comment out for a moment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in Fraction and 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out.println(new Fraction(2, 3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see something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action@7d77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overrid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o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our class if we want to convert our objects to strings in a meaningful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TurnBu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-ar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structor call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u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s constructor that takes one para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rror message pops up unexpectedly and appears quite puzz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lass’s constructor is called to initialize superclass’s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lls superclass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same method that it overrides.  This is common, but, in general, a method can explicitly call any method of the super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classes of library classes also often call superclass’s constructors. 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class Hello extends JFr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ublic Hello(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uper("Hello, World"); // sets the title b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//   te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implements polymorphism through a technique known a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method bin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which method to call is defined at run time, not compile time.  Each object holds a table of entry points to its methods, so each object itself knows exactly what to do when one of its methods is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st contains specific types of actors.  Each actor is disguised as a more generic type, but “deep inside” it still “knows” what type of object i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mputer world, the term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fers to any mechanism that connects two devices or entities and defines the rules for their inter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lso work on the GridWorld Danc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face can also have public static const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sufficient to supply all the methods -- we must state “implements” in the class’s he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tract class can supply some of the interface’s methods, leaving others abs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advantage of interfaces over abstract classes is that a class can implement several interfaces but extend only one super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n interface cannot help to factor out common code from several classes (because an interface does not have any executable code); but an interface can help to eliminate duplicate code by letting us write more general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 in a hierarchy accumulates all the secondary data types of its ancestors, including all the interfaces that they imp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concrete class implements several interfaces, it must supply all of their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 is Java’s response to “multiple inheritan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tract class can implement an interface but leave some of its methods abs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cally positioned interface and abstract class in this application add flexibility.  For example, it is easy to add more dances and dan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cribe two ways for eliminating duplicate code using class hierarch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out common code and writing more general methods that take more generic para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an abstract cla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 that has one or several abstract methods and is declared abs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is it better to use an abstract method rather than an empty meth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iler makes sure that a concrete class overrides an abstract method, so you can’t accidentally forget to overrid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e concrete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 that is not abstract: all methods are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happens when a constructor of a subclass does not have a super statement?  Is superclass’s constructor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.  Superclass’s no-args constructor is called, and it must exist then (either defined explicitly or provided by default, when no constructors are explicitly defin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bclass inherits all the fields and methods of its superclass, but not the constru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n abstract class be instanti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meMethod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have a ca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per.someMethod2(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happens if, by mistake, a programmer puts in h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 a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intComponent(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ead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e recursion, which blows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the main difference between an abstract class and an inte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tract class can have fields, constructors, and regular methods; an interface does not have any executable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 class implement several interfa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that’s the whol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ppose you declare a variable of an interface type.  What type of value can be assigned to that vari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 of any class that implements the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the main advantage of interfaces over abstract cla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 can implement several interf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as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generic class that represents any kind of “actor” in Grid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classes share a lot of code, it makes sense to define a common superclass and factor out common code into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nheritance helps to eliminate duplicating code in two ways: (1) by factoring out common code and (2) by writing more general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tract class can have fields, constructors, and regular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 in GridWorld is actually not abs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ctor into an abstract class would clearly be the better design.  However, abstract classes are typically introduced at the end of the [AP Computer Science] A course...  The committee wanted to make it easy to use GridWorld throughout the A course.  We therefore decided to use the conceptually simpler concrete actor class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y S. Horstmann,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Design of the GridWorld Case Stud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rror checking: if a concrete (non-abstract) class extends an abstract class, it must override all of the abstract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arts the new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erarchy added in Java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AF9-44AC-40C6-A938-C2A3F454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175-9C4F-4211-83E4-D45C6DFF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E95-805C-48DE-B625-C99B1213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98A-3AB6-4EF5-A138-39B3F5A8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E64-02E2-4C07-8A60-2514B573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8EC-F27F-4DFD-BE31-51464AD2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34D-6E87-467C-BC10-DA8F0052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496-0AD0-4F45-90CD-CE44F823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32B-AA4F-4962-8F66-0BE0D4BA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999-A8FF-4BDE-8C97-D9814741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54E-FDD1-4E02-A1C5-0623AA86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8C9E-9851-4777-A3D0-397395A1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-</a:t>
            </a:r>
            <a:fld id="{FC57BE06-131C-4481-B64C-0469AD6DD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93720" y="54640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Hierarchies a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11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4240" y="544680"/>
            <a:ext cx="1036800" cy="1342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32040" y="430200"/>
            <a:ext cx="39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39960" y="11318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cc0c1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32040" y="2462040"/>
            <a:ext cx="39416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39960" y="190008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nd AP e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with Grid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40240" y="2421000"/>
          <a:ext cx="2419200" cy="30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0240" y="2421000"/>
                    <a:ext cx="24192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414-E793-4D17-A3B0-4365597DEA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bstract Class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does not allow us to instantiate (that is, create objects of) abstrac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ill, an abstract class can have constructors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y can be called from constructors of subclas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lass with no abstract methods is calle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oncr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BD2-CB7D-4548-815B-BAED069E03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Java every class by default extends a library cl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la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-267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04800" y="3262320"/>
            <a:ext cx="5321520" cy="2838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ring toString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equals (Object other) {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nt hashCode()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a few other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6280" y="3840120"/>
            <a:ext cx="88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86280" y="5884920"/>
            <a:ext cx="88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69000" y="3840120"/>
            <a:ext cx="0" cy="2044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660720" y="3909960"/>
            <a:ext cx="1160640" cy="968400"/>
            <a:chOff x="6660720" y="3909960"/>
            <a:chExt cx="1160640" cy="968400"/>
          </a:xfrm>
        </p:grpSpPr>
        <p:sp>
          <p:nvSpPr>
            <p:cNvPr id="120" name=""/>
            <p:cNvSpPr/>
            <p:nvPr/>
          </p:nvSpPr>
          <p:spPr>
            <a:xfrm flipH="1">
              <a:off x="6660720" y="4876920"/>
              <a:ext cx="1152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821360" y="3909960"/>
              <a:ext cx="0" cy="968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961320" y="2844720"/>
            <a:ext cx="1707840" cy="13136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redefined (overridden) a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852-FA67-4BBD-A2ED-C19AC98040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31760" y="483840"/>
            <a:ext cx="55072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nvoking Superclass’s Constructor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1400" y="2390760"/>
            <a:ext cx="7040520" cy="2838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urnBug extends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urnBu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(Color.YELLO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483320" y="1147680"/>
            <a:ext cx="152280" cy="639720"/>
            <a:chOff x="7483320" y="1147680"/>
            <a:chExt cx="152280" cy="639720"/>
          </a:xfrm>
        </p:grpSpPr>
        <p:sp>
          <p:nvSpPr>
            <p:cNvPr id="126" name=""/>
            <p:cNvSpPr/>
            <p:nvPr/>
          </p:nvSpPr>
          <p:spPr>
            <a:xfrm flipV="1">
              <a:off x="7559640" y="1243080"/>
              <a:ext cx="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83320" y="114768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716880" y="66024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18320" y="155412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urn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911840" y="4159080"/>
            <a:ext cx="1209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54840" y="3821040"/>
            <a:ext cx="203508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148280"/>
            <a:ext cx="1447560" cy="129528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912" y="816"/>
                </a:moveTo>
                <a:lnTo>
                  <a:pt x="0" y="816"/>
                </a:lnTo>
                <a:lnTo>
                  <a:pt x="0" y="0"/>
                </a:lnTo>
                <a:lnTo>
                  <a:pt x="41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8640" y="5375160"/>
            <a:ext cx="24274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resent, must be the firs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51320" y="4894200"/>
            <a:ext cx="523548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/ types of parameters pass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match parameters of one of the superclass’s constru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ABC-624B-46A8-B464-6D395ED8C1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31760" y="52812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nvoking Superclass’s Constructors (cont’d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8640" y="199404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of the superclass’s constructors is always called, but you don’t have to have an explic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re is no explicit call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then superclass’s no-args constructor is called by defaul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457440" y="4148280"/>
            <a:ext cx="3133800" cy="218880"/>
            <a:chOff x="3457440" y="4148280"/>
            <a:chExt cx="3133800" cy="218880"/>
          </a:xfrm>
        </p:grpSpPr>
        <p:sp>
          <p:nvSpPr>
            <p:cNvPr id="138" name=""/>
            <p:cNvSpPr/>
            <p:nvPr/>
          </p:nvSpPr>
          <p:spPr>
            <a:xfrm>
              <a:off x="3457440" y="4148280"/>
              <a:ext cx="0" cy="218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91240" y="4148280"/>
              <a:ext cx="0" cy="218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57440" y="4367160"/>
              <a:ext cx="3130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075280" y="4363920"/>
            <a:ext cx="0" cy="816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31840" y="4991040"/>
            <a:ext cx="60724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defined then.  If not define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ntax err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not find symbol : constructo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596-7E85-4FC6-A894-D87FA4D6C9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5251320" y="4176720"/>
            <a:ext cx="152280" cy="639720"/>
            <a:chOff x="5251320" y="4176720"/>
            <a:chExt cx="152280" cy="639720"/>
          </a:xfrm>
        </p:grpSpPr>
        <p:sp>
          <p:nvSpPr>
            <p:cNvPr id="144" name=""/>
            <p:cNvSpPr/>
            <p:nvPr/>
          </p:nvSpPr>
          <p:spPr>
            <a:xfrm flipV="1">
              <a:off x="5327640" y="4272120"/>
              <a:ext cx="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51320" y="417672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98640" y="199404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class’s constructor calls its superclass’s constructor, and so on, all the way up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construc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251320" y="5089680"/>
            <a:ext cx="152280" cy="639720"/>
            <a:chOff x="5251320" y="5089680"/>
            <a:chExt cx="152280" cy="639720"/>
          </a:xfrm>
        </p:grpSpPr>
        <p:sp>
          <p:nvSpPr>
            <p:cNvPr id="148" name=""/>
            <p:cNvSpPr/>
            <p:nvPr/>
          </p:nvSpPr>
          <p:spPr>
            <a:xfrm flipV="1">
              <a:off x="5327640" y="5185080"/>
              <a:ext cx="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1320" y="508968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484520" y="4592520"/>
            <a:ext cx="168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4520" y="5495760"/>
            <a:ext cx="168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83080" y="368928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03720" y="3957480"/>
            <a:ext cx="2166840" cy="89064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1115" y="521"/>
                </a:moveTo>
                <a:lnTo>
                  <a:pt x="1365" y="522"/>
                </a:lnTo>
                <a:lnTo>
                  <a:pt x="1365" y="311"/>
                </a:lnTo>
                <a:lnTo>
                  <a:pt x="0" y="311"/>
                </a:lnTo>
                <a:lnTo>
                  <a:pt x="0" y="0"/>
                </a:lnTo>
                <a:lnTo>
                  <a:pt x="3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80040" y="4040280"/>
            <a:ext cx="2166840" cy="877680"/>
          </a:xfrm>
          <a:custGeom>
            <a:avLst/>
            <a:gdLst/>
            <a:ahLst/>
            <a:rect l="l" t="t" r="r" b="b"/>
            <a:pathLst>
              <a:path w="1365" h="515">
                <a:moveTo>
                  <a:pt x="251" y="0"/>
                </a:moveTo>
                <a:lnTo>
                  <a:pt x="0" y="0"/>
                </a:lnTo>
                <a:lnTo>
                  <a:pt x="0" y="208"/>
                </a:lnTo>
                <a:lnTo>
                  <a:pt x="1365" y="208"/>
                </a:lnTo>
                <a:lnTo>
                  <a:pt x="1365" y="515"/>
                </a:lnTo>
                <a:lnTo>
                  <a:pt x="1050" y="51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00480" y="4854600"/>
            <a:ext cx="2166840" cy="90000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1115" y="521"/>
                </a:moveTo>
                <a:lnTo>
                  <a:pt x="1365" y="522"/>
                </a:lnTo>
                <a:lnTo>
                  <a:pt x="1365" y="311"/>
                </a:lnTo>
                <a:lnTo>
                  <a:pt x="0" y="311"/>
                </a:lnTo>
                <a:lnTo>
                  <a:pt x="0" y="0"/>
                </a:lnTo>
                <a:lnTo>
                  <a:pt x="3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76800" y="4937040"/>
            <a:ext cx="2166840" cy="887400"/>
          </a:xfrm>
          <a:custGeom>
            <a:avLst/>
            <a:gdLst/>
            <a:ahLst/>
            <a:rect l="l" t="t" r="r" b="b"/>
            <a:pathLst>
              <a:path w="1365" h="515">
                <a:moveTo>
                  <a:pt x="251" y="0"/>
                </a:moveTo>
                <a:lnTo>
                  <a:pt x="0" y="0"/>
                </a:lnTo>
                <a:lnTo>
                  <a:pt x="0" y="208"/>
                </a:lnTo>
                <a:lnTo>
                  <a:pt x="1365" y="208"/>
                </a:lnTo>
                <a:lnTo>
                  <a:pt x="1365" y="515"/>
                </a:lnTo>
                <a:lnTo>
                  <a:pt x="1050" y="51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995640"/>
            <a:ext cx="12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28960" y="4224240"/>
            <a:ext cx="370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28960" y="5105520"/>
            <a:ext cx="370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031760" y="52812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nvoking Superclass’s Constructors (cont’d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884840"/>
            <a:ext cx="12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EC4-ECB8-4E04-871C-65AF53C70F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31400" y="483840"/>
            <a:ext cx="5575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lling Superclass’s Metho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9000" y="1959120"/>
            <a:ext cx="4130640" cy="4667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 WiltingF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s F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ac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age &gt; lifeSp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elfFromGri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.ac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458120" y="1147680"/>
            <a:ext cx="152280" cy="639720"/>
            <a:chOff x="7458120" y="1147680"/>
            <a:chExt cx="152280" cy="639720"/>
          </a:xfrm>
        </p:grpSpPr>
        <p:sp>
          <p:nvSpPr>
            <p:cNvPr id="165" name=""/>
            <p:cNvSpPr/>
            <p:nvPr/>
          </p:nvSpPr>
          <p:spPr>
            <a:xfrm flipV="1">
              <a:off x="7534440" y="1243080"/>
              <a:ext cx="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58120" y="114768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691320" y="66024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81720" y="1554120"/>
            <a:ext cx="230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tingF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351240" y="5846760"/>
            <a:ext cx="1393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36960" y="5635800"/>
            <a:ext cx="232560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62640" y="2913120"/>
            <a:ext cx="3186000" cy="16185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nearest class, up the inheritance line, whe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ef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D46-829D-4051-959A-4448937046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0240" y="537840"/>
            <a:ext cx="72075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lling Superclass’s Method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9720" y="2079720"/>
            <a:ext cx="716292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dot calls are often used in subclasses of library class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85880" y="3409920"/>
            <a:ext cx="5689800" cy="2838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Canv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s J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intComponent 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.paintCompon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C45-DC87-4C84-955F-454676E497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lymorphis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sures that the correct method is called for an object of a specific type, even when that object is disguised as a reference to a more generic type, that is, the type of the object’s superclass or some ancestor higher up the inheritance 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you define a common superclass, polymorphism is just there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no need to do anything speci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DB2-AC03-49B0-AD41-0789574D91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lymorphism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36520" y="1846440"/>
            <a:ext cx="6134400" cy="344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te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Actor a : ac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only act if another actor hasn't removed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a.getGrid() == g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ac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053880" y="421164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89560" y="4024440"/>
            <a:ext cx="331920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r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is called automatically for any specific type of 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DF8-5498-4F48-8846-F98A0A9FD1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8080" y="235908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ing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8080" y="306072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ingCr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8080" y="376236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6840" y="2011320"/>
            <a:ext cx="2873520" cy="253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3000" y="234648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3000" y="304812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3000" y="374976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27600" y="1998720"/>
            <a:ext cx="2873520" cy="25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00480" y="3044880"/>
            <a:ext cx="1197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63880" y="327672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327672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811760" y="3506400"/>
            <a:ext cx="0" cy="1500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0520" y="4919760"/>
            <a:ext cx="14587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5D1-DE40-4F17-81FD-0FA0EF2658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90440" y="1635120"/>
            <a:ext cx="720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class hierarchies and polymorph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abstrac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he syntax for calling superclass’s constructors and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interfa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60F-DCF2-4361-864C-7E7AEF7E2E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fac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86312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interface in Java is like an abstract class, but it does not have any fields or constructors, and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ts methods are abstra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c abstract” is not written because all the methods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bstra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68480" y="3103560"/>
            <a:ext cx="345744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getName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getSteps (int 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[] getBeat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505-3FB0-43B1-A76A-015AE8F811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fac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0600" y="1436760"/>
            <a:ext cx="77724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must “officially” state that a cl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ncrete class that implements an interface must supply all the methods of that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00280" y="3584520"/>
            <a:ext cx="6518160" cy="25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Waltz implements 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String getName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  return "Waltz"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String getSteps(int 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int[] getBeat(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A10-2A67-4BB4-8724-FE78F534EC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fac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77240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lass can implement several interfa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ke an abstract class, an interface supplies a secondary data type to objects of a class that implements that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declare variables and parameters of an interface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ymorphism fully applies to objects disguised as interface typ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23960" y="4549680"/>
            <a:ext cx="35150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 d = new Waltz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0DE-6F0E-47D4-98E4-8772F669F4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31400" y="295200"/>
            <a:ext cx="53118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fac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47760" y="1247760"/>
            <a:ext cx="3747960" cy="1618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Ed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getFoodGrou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getCaloriesPerServing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38400" y="3084480"/>
            <a:ext cx="6286320" cy="344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Break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myTotalCalorie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eat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, int servin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TotalCalories +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CaloriesPerServ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ving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778280" y="4568760"/>
            <a:ext cx="2438640" cy="676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10400" y="3241800"/>
            <a:ext cx="2165400" cy="1923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: the correct method is called for any specific typ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ble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a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2035080"/>
            <a:ext cx="75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76840" y="1247760"/>
            <a:ext cx="3051360" cy="1618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s  Ed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4992480" y="1969560"/>
            <a:ext cx="141480" cy="131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4ED-1620-408B-A29A-7F2D869A3F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es            Interfac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20600" y="2143080"/>
            <a:ext cx="381024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uperclass provides a secondary data type to objects of its subclas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abstract class cannot be instantia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82760" y="2142720"/>
            <a:ext cx="38098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provides a secondary data type to objects of classes that implement that interfa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cannot be instantia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83040" y="1754280"/>
            <a:ext cx="0" cy="38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19040" y="411948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17600" y="199692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17880" y="1419120"/>
            <a:ext cx="193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FAC-349B-4A8C-BEB8-682138C58C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31760" y="2365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es            Interfac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20600" y="1923840"/>
            <a:ext cx="381024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oncrete subclass of an abstract class must define all the inherited abstract meth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lass can extend another class.  A subclass can add methods and override some of its superclass’s meth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82760" y="1924200"/>
            <a:ext cx="38098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oncrete class that implements an interface must define all the methods specified by the interfa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can extend another interface (called it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uperinterfac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by adding declarations of abstract meth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3040" y="1436760"/>
            <a:ext cx="0" cy="49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19040" y="390060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17600" y="177804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08520" y="1179360"/>
            <a:ext cx="19317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87D-FBCB-47B2-828D-8D0E1E9850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883040" y="1360440"/>
            <a:ext cx="0" cy="49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31760" y="264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es            Interfac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20600" y="1800000"/>
            <a:ext cx="38102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lass can extend only one clas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lass can have fiel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lass defines its own constructors (or gets a default constructor)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82760" y="1800000"/>
            <a:ext cx="38098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lass can implement any number of interface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cannot have fields (except, possibly, some public static final constant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has no constructo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19040" y="309888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17600" y="16542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7320" y="492912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08520" y="1122480"/>
            <a:ext cx="19317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9AE-01F0-4DD7-97D4-2A939F8E97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31760" y="4176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es            Interfac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20600" y="1914120"/>
            <a:ext cx="381024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oncrete class has all its methods defined.  An abstract class usually has one or more abstract meth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y class is a part of a hierarchy of classes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t the top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82760" y="1914120"/>
            <a:ext cx="38098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methods declared in an interface are abstract.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may belong to a small hierarchy of interfaces, but this is not very comm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83040" y="1625760"/>
            <a:ext cx="0" cy="442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19040" y="391320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17600" y="176832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8520" y="1227240"/>
            <a:ext cx="19317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7B9-4A50-4F53-B4A7-653D50BF99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997520" y="2976480"/>
            <a:ext cx="992160" cy="631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84920" y="2252520"/>
            <a:ext cx="992160" cy="631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2760" y="355680"/>
            <a:ext cx="2917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GridWorld</a:t>
            </a:r>
            <a:br>
              <a:rPr sz="4400"/>
            </a:b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Da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429000" y="177840"/>
          <a:ext cx="5118120" cy="61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7840"/>
                    <a:ext cx="5118120" cy="61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258-1C46-4BF6-A1FA-771AAAA5BC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wo ways for eliminating duplicate code using class hierarch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an abstract clas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is it better to use an abstract method rather than an empty metho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on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happens when a constructor of a subclass does not hav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?  Is superclass’s constructor call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26C-A204-4EEE-A84A-32E0F054C3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795760" y="2535120"/>
            <a:ext cx="152280" cy="1074600"/>
            <a:chOff x="2795760" y="2535120"/>
            <a:chExt cx="152280" cy="1074600"/>
          </a:xfrm>
        </p:grpSpPr>
        <p:sp>
          <p:nvSpPr>
            <p:cNvPr id="63" name=""/>
            <p:cNvSpPr/>
            <p:nvPr/>
          </p:nvSpPr>
          <p:spPr>
            <a:xfrm flipV="1">
              <a:off x="2871720" y="2630160"/>
              <a:ext cx="0" cy="9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95760" y="253512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herita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2880" y="4412880"/>
            <a:ext cx="75312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heritance represents the IS-A relationship between objects: an object of a subclass  IS-A(n) object of the super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9960" y="1700280"/>
            <a:ext cx="2066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ase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31880" y="3287880"/>
            <a:ext cx="2481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30840" y="2365200"/>
            <a:ext cx="246996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8A5-D54D-49F9-8DA2-622E1F9336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n abstract class be instantia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Method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a c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.someMethod2 ( 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happens if, by mistake, a programmer puts in h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a cal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(g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ead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.paintComponent(g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19F-D68C-4215-8FDC-AC992191D9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main difference between an abstract class and an interfac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 class implement several interfac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se you declare a variable of an interface type.  What type of value can be assigned to that variab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main advantage of interfaces over abstract class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E0D-5B70-4449-B36D-C341B30B88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 Hierarchies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inheritance, a programmer can define a hierarchy of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112840" y="2862360"/>
          <a:ext cx="483876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2840" y="2862360"/>
                    <a:ext cx="483876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87B-F6EF-4CEF-80CC-18A4BF792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4771800" y="3969720"/>
            <a:ext cx="1162800" cy="709200"/>
            <a:chOff x="4771800" y="3969720"/>
            <a:chExt cx="1162800" cy="709200"/>
          </a:xfrm>
        </p:grpSpPr>
        <p:sp>
          <p:nvSpPr>
            <p:cNvPr id="76" name=""/>
            <p:cNvSpPr/>
            <p:nvPr/>
          </p:nvSpPr>
          <p:spPr>
            <a:xfrm flipH="1">
              <a:off x="4771800" y="4082400"/>
              <a:ext cx="1041120" cy="5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3615600">
              <a:off x="5763240" y="400248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132680" y="4100400"/>
            <a:ext cx="152280" cy="639720"/>
            <a:chOff x="7132680" y="4100400"/>
            <a:chExt cx="152280" cy="639720"/>
          </a:xfrm>
        </p:grpSpPr>
        <p:sp>
          <p:nvSpPr>
            <p:cNvPr id="79" name=""/>
            <p:cNvSpPr/>
            <p:nvPr/>
          </p:nvSpPr>
          <p:spPr>
            <a:xfrm flipV="1">
              <a:off x="7209000" y="4195800"/>
              <a:ext cx="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32680" y="410040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 Hierarchi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43214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p reduce duplication of code by factoring out common code from similar classes into a common super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703840" y="1476360"/>
            <a:ext cx="3009240" cy="2614320"/>
            <a:chOff x="5703840" y="1476360"/>
            <a:chExt cx="3009240" cy="2614320"/>
          </a:xfrm>
        </p:grpSpPr>
        <p:sp>
          <p:nvSpPr>
            <p:cNvPr id="84" name=""/>
            <p:cNvSpPr/>
            <p:nvPr/>
          </p:nvSpPr>
          <p:spPr>
            <a:xfrm>
              <a:off x="5703840" y="1476360"/>
              <a:ext cx="2985120" cy="261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98880" y="1557360"/>
              <a:ext cx="29142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tr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cess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tSelfInGr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moveSelfFromGr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v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700360" y="4483080"/>
            <a:ext cx="2387520" cy="2017440"/>
            <a:chOff x="2700360" y="4483080"/>
            <a:chExt cx="2387520" cy="2017440"/>
          </a:xfrm>
        </p:grpSpPr>
        <p:sp>
          <p:nvSpPr>
            <p:cNvPr id="87" name=""/>
            <p:cNvSpPr/>
            <p:nvPr/>
          </p:nvSpPr>
          <p:spPr>
            <a:xfrm>
              <a:off x="2700360" y="4483080"/>
              <a:ext cx="2387520" cy="2017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26640" y="4521240"/>
              <a:ext cx="22950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Bu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tr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nMo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 (redefined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059520" y="4487760"/>
            <a:ext cx="2297160" cy="2012760"/>
            <a:chOff x="6059520" y="4487760"/>
            <a:chExt cx="2297160" cy="2012760"/>
          </a:xfrm>
        </p:grpSpPr>
        <p:sp>
          <p:nvSpPr>
            <p:cNvPr id="90" name=""/>
            <p:cNvSpPr/>
            <p:nvPr/>
          </p:nvSpPr>
          <p:spPr>
            <a:xfrm>
              <a:off x="6059520" y="4487760"/>
              <a:ext cx="2297160" cy="2012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8560" y="4530600"/>
              <a:ext cx="2208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Fl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tr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 (redefin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256-15AC-4BF9-A591-AFE95BC234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 Hierarchi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0600" y="1295280"/>
            <a:ext cx="777240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p reduce duplication of code by letting you write more general methods in client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457360"/>
            <a:ext cx="3922560" cy="31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tion loc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ccup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nt.putSelfInGrid(getGrid(), l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tion loc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ccup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nt.putSelfInGrid(getGrid(), l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60800" y="3789360"/>
            <a:ext cx="3868920" cy="15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tion loc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ccup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nt.putSelfInGrid(getGrid(), l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83560" y="3354480"/>
            <a:ext cx="0" cy="425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75320" y="2674800"/>
            <a:ext cx="26002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fo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48240" y="2554200"/>
            <a:ext cx="347760" cy="2870280"/>
          </a:xfrm>
          <a:custGeom>
            <a:avLst/>
            <a:gdLst>
              <a:gd name="textAreaLeft" fmla="*/ 0 w 347760"/>
              <a:gd name="textAreaRight" fmla="*/ 125640 w 347760"/>
              <a:gd name="textAreaTop" fmla="*/ 74520 h 2870280"/>
              <a:gd name="textAreaBottom" fmla="*/ 2795760 h 287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009-B581-4C88-92F2-C5D1111079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bstract Clas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0600" y="1383840"/>
            <a:ext cx="7772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of the methods in a class can be decla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left with only signatures defin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lass with one or more abstract methods must be decla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24040" y="4091040"/>
            <a:ext cx="393372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 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id ac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16480" y="5232240"/>
            <a:ext cx="1720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43560" y="4881600"/>
            <a:ext cx="119556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7DD-E3AD-4C88-B35F-4939788285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bstract Class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tract classes serve as common superclasses for more specific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bstract method provides an opportunity for the compiler to do additional error check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tract classes are closer to the root of the hierarchy; they describe more abstract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E01-E8C2-4D6E-BB36-D665F0A13F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bstract Class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370160" y="1714680"/>
          <a:ext cx="6777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714680"/>
                    <a:ext cx="6777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987560" y="5064120"/>
            <a:ext cx="539892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ragment of Java library GUI class hierarchy (abstract classes are box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2CA-0AFD-485C-B74F-E3FD8FA2BA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14-04-18T15:00:26Z</dcterms:modified>
  <cp:revision>162</cp:revision>
  <dc:subject>Chapter 11</dc:subject>
  <dc:title>Java Methods 2nd AP edition</dc:title>
</cp:coreProperties>
</file>