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2A8C-7D45-4C55-A3FC-B2064CF5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also has a “for each” loop for traversing lists and other structures.  It is explained later, in Chapters 12 and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easy to replace an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with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use the loop control variable after the loop, then declare it above the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dioms make your code instantly understandable to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al grows very rapidly, so you need to use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-while loops are less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can be used to get user input that meets certain criteri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.out.print("Enter a positive integer: "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n = kboard.nextInt(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 while n &lt;= 0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grammers avoi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believe a method should have only on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ement. Instead of using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ement inside the loop, they set a Boolean flag in the loop and test it in the condition; this makes their code cumbers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s the loop and continues with the next statement after the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s th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arn about perfec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be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nested within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Maria Litvin’s students called them “nasty loop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tential source of inefficiencies or bu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c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nds for “loop control variab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ab is described 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ava Metho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took Euler to prove the converse for even numbers -- see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ians still do not know whether any odd perfect numbers exist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prediction that the next mersenne prime will be discovered by the end of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ree iterative control statements in Ja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cks the condition before each iteration; if the condition is false at the outset,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is never entered.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cks the condition afterward, so it always goes through the body of the loop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ny code with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 be rewritten with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eas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short-circuit evaluation apply to conditions in loo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conditions are logical expressions and they are evaluated the same way everywhere in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operators can be used in the “change” part of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perators can be used, but that part of the loop usually has an assignment operator, a compound assignment, or an increment or decrement ope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 method calls allowed in a condition in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e: just like in any other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llowed in a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it immediately quits the loop and the whol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a nested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op within a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situation where nested loops ar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duplicates in a list; traversing a two-dimensional gr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you have nest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e, why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ions are what makes a program different from a cookbook rec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prefer to always use braces, as it is easier to add statements to the body of the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” can be increment, decrement, or any other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have something like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 // Or 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ring stars = ""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hile (stars.length() &lt; 5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ars += "*"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ranches of computer science aims at developing techniques for proving the correctness of programs mathematically (rather than testing them).  Iterations cause a bit of a problem in this effort, and loop invariants were introduced as a tool to overcome this difficul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ization” and “change” can include several statements, separated by com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FC7-B918-4153-A169-DC66696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51B-298B-4F38-96B2-7CA37CC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06E-6FA9-4AE8-B049-65ECBD78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8DE-6C0D-41C0-A62D-0072FDC3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BEE-A0B7-4580-805B-9F00210D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DA1-FBC5-485B-82A5-69E556C2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F81-368F-45D4-9308-3AF2A91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0B1-BCA3-4196-883E-EFF727DF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EC8-1BE3-4C95-ABBF-2F4118AD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C25-0CB6-4D00-94E4-5246159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5D2-C39F-4DE7-A049-F7000FF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618-A526-4D20-BECE-E9D67551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-</a:t>
            </a:r>
            <a:fld id="{561B1B03-69F5-4D08-A52D-CA3568D8B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50960" y="4514760"/>
            <a:ext cx="611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Statements: while, for, do-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6200" y="3192480"/>
            <a:ext cx="5840280" cy="11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(chapter &lt;</a:t>
            </a:r>
            <a:r>
              <a:rPr b="0" i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pter++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3B7-2426-4D26-8B58-16E28DA656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6280" y="2351160"/>
            <a:ext cx="3881520" cy="3575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the smalles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uch that 2^n &g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int intLog2 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,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p = 1;  p &lt; x; 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324972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86712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48956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3498480"/>
            <a:ext cx="1447920" cy="5446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71480" y="3956040"/>
            <a:ext cx="338040" cy="127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956040"/>
            <a:ext cx="1905120" cy="0"/>
          </a:xfrm>
          <a:prstGeom prst="line">
            <a:avLst/>
          </a:prstGeom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64184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49884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154040" y="4348080"/>
            <a:ext cx="189000" cy="293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FFB-7FF4-4038-B556-B7402959D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allows you to declare the loop control variable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itself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154320"/>
            <a:ext cx="430524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= 0;  k &lt; n ; 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22960" y="4854600"/>
            <a:ext cx="320040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ody of the loop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ndefined outside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92640" y="3233880"/>
            <a:ext cx="1131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2640" y="4670280"/>
            <a:ext cx="1131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23388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956280" y="3928680"/>
            <a:ext cx="0" cy="925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929040"/>
            <a:ext cx="63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3D6-CB96-45CB-8AE7-74D3D6C09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imes” idio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4880" y="2173320"/>
            <a:ext cx="471960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k = 0;  k &lt; n ; 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0840" y="4365720"/>
            <a:ext cx="649764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count = 1;  count &lt;= n ;  count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971-AC58-4D0A-9FFE-32E7077B6B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n! = 1 * 2 * ... * 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346480"/>
            <a:ext cx="6248160" cy="381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  Returns 1 * 2 * ... * n, if n &gt;= 1 (and 1 otherw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long factorial (int 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 f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k = 2;  k &lt;= n;  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531-1DBD-40F4-9D9F-BD46BB775D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600200"/>
            <a:ext cx="35053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 while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571760"/>
            <a:ext cx="297180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runs through the body of the loop at leas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756320"/>
            <a:ext cx="297180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use braces for readability (even if the body has only one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28800" y="43430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3581280"/>
            <a:ext cx="29718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alse, the next iteration is not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9000" y="175248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17524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05520" y="4114800"/>
            <a:ext cx="380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97E-B85D-40E0-A2E7-D641913281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convenient when the variables tested in the condition are calculated or read in the body of the loop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3295800"/>
            <a:ext cx="586728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 = file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 while (str  != 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4C5-2373-426A-9364-219C2FC964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be easily avoided: we can usually replace it 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initialized so that it goes through the first iter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352680"/>
            <a:ext cx="586728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 = "dummy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tr  != 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 = file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131-AD01-4959-AB45-89D0D4BEBD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a loop instructs the program to immediately quit the current iteration and go to the first statement following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a loop instructs the program to immediately quit the current method and return to the calling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ust be inside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otherwise the code after it in the body of the loop will be unreach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A3E-FCF5-4EEB-9F49-C40942BBE2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438280"/>
            <a:ext cx="5334120" cy="41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d = 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d  &gt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 % d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d &gt; 0 )   // if found a 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5ED-7EA0-46D3-991A-9BC6311511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quential Search metho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438280"/>
            <a:ext cx="7162920" cy="3751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 search(String[ ] list, String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k = 0;  k &lt; list.length; 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list[k].equals (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34C-8EED-4FCB-AE94-CE7487FCB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12008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semantics and learn the Java syntax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how to use nested lo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B67-3FEC-479C-817B-FCE116C1B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within a loop is called nes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6280" y="2300400"/>
            <a:ext cx="5569200" cy="3751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Draw a 5 by 3 gr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 x &lt; 50;  x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 y &lt; 30;  y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x, y, 8, 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8000" y="3736800"/>
            <a:ext cx="2895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48000" y="5337000"/>
            <a:ext cx="2895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43840" y="373680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2975040"/>
            <a:ext cx="3483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696080" y="2975040"/>
            <a:ext cx="0" cy="2666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45120" y="5641920"/>
            <a:ext cx="3450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596360" y="2308320"/>
            <a:ext cx="728640" cy="513000"/>
            <a:chOff x="7596360" y="2308320"/>
            <a:chExt cx="728640" cy="513000"/>
          </a:xfrm>
        </p:grpSpPr>
        <p:grpSp>
          <p:nvGrpSpPr>
            <p:cNvPr id="166" name=""/>
            <p:cNvGrpSpPr/>
            <p:nvPr/>
          </p:nvGrpSpPr>
          <p:grpSpPr>
            <a:xfrm>
              <a:off x="7596360" y="2308320"/>
              <a:ext cx="728640" cy="153000"/>
              <a:chOff x="7596360" y="2308320"/>
              <a:chExt cx="728640" cy="153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596360" y="2308320"/>
                <a:ext cx="11880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48640" y="2308320"/>
                <a:ext cx="11916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00920" y="2308320"/>
                <a:ext cx="11916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53560" y="2308320"/>
                <a:ext cx="11880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205840" y="2308320"/>
                <a:ext cx="11916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96360" y="2487960"/>
              <a:ext cx="728640" cy="153360"/>
              <a:chOff x="7596360" y="2487960"/>
              <a:chExt cx="728640" cy="153360"/>
            </a:xfrm>
          </p:grpSpPr>
          <p:sp>
            <p:nvSpPr>
              <p:cNvPr id="173" name=""/>
              <p:cNvSpPr/>
              <p:nvPr/>
            </p:nvSpPr>
            <p:spPr>
              <a:xfrm>
                <a:off x="7596360" y="248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48640" y="248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00920" y="248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53560" y="248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05840" y="248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596360" y="2667960"/>
              <a:ext cx="728640" cy="153360"/>
              <a:chOff x="7596360" y="2667960"/>
              <a:chExt cx="728640" cy="153360"/>
            </a:xfrm>
          </p:grpSpPr>
          <p:sp>
            <p:nvSpPr>
              <p:cNvPr id="179" name=""/>
              <p:cNvSpPr/>
              <p:nvPr/>
            </p:nvSpPr>
            <p:spPr>
              <a:xfrm>
                <a:off x="7596360" y="266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48640" y="266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00920" y="266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53560" y="266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205840" y="266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D3D-2186-4EAF-88B9-64AF5E9BFD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Loop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ces are optional when the body of the loop(s) is one stat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46320" y="2743200"/>
            <a:ext cx="523080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 x &lt; 50;  x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 y &lt; 30;  y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x, y, 8, 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2698920"/>
            <a:ext cx="1905120" cy="19227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only statement in the ou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4802040"/>
            <a:ext cx="77929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programmers prefer to always use braces in loops, especially in nested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3489480"/>
            <a:ext cx="3812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1082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87036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10824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E30-AE88-450B-B6E9-6960ED3D39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Loop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careful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2362320"/>
            <a:ext cx="560232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r = 0;  r &lt; m.length;  r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c = 0;  c &lt; m[0].length; 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m [ r ][ c ] == 'X'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4438800"/>
            <a:ext cx="28195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21360" y="2685960"/>
            <a:ext cx="1905120" cy="22885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out of the inner loop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out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79A-9A48-4BF9-8279-D1693A2BED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iangular” Nested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duplicates” idio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6280" y="2362320"/>
            <a:ext cx="708192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 i = 0;  i &lt; a.length; 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 = i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j &lt; a.length; 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 [ i ].equals(a [ j 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 ("Duplicate " + a [ j 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1752480"/>
            <a:ext cx="213372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lcv starts at the outer lcv’s n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00400" y="293508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2924280"/>
            <a:ext cx="3429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940-231F-47A2-8691-EDCD355A2A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fect number is a positive integer equal to the sum of all its divisors (including 1 but excluding the number itself)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86080" y="3811680"/>
            <a:ext cx="64213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to find the first four perfect number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p. 210-2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FDF-6FA9-4CE6-942A-79EDD3F9AE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746360"/>
            <a:ext cx="4975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clid showed that if 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is a prime, then 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) is a perfect number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7 is a prime  =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= 28 is a perfect nu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43800" y="1895400"/>
            <a:ext cx="1909800" cy="2266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75400" y="4354560"/>
            <a:ext cx="1990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c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300 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2DA-BAC1-4E7C-97D9-B5C50B4408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0240" y="1550520"/>
            <a:ext cx="4473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ime that has a form 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is called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ersenne pr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14480" y="2997360"/>
            <a:ext cx="1425600" cy="1728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36760" y="4714920"/>
            <a:ext cx="2295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n Mers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8-1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147840"/>
            <a:ext cx="22953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hard E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07-1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44520" y="5629320"/>
            <a:ext cx="704376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to find the first six Mersenne primes and the corresponding perfect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44880" y="3844800"/>
            <a:ext cx="40705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ler proved that an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fect number must have tha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208560" y="1422360"/>
            <a:ext cx="1444680" cy="16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42C-A404-4660-80C7-3DE0701821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4376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argest known Mersenne Prime is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43,112,60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1. It has 12,978,189 digits.  It was discovered by GIMPS (Great Internet Mersenne Prime Search) particiants at UCLA in 200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lso claimed the Electronic Frontier Foundation’s $100,000 prize for finding a prime number with more than 10 million dig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5700600"/>
            <a:ext cx="59497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ersenn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FFE-BB30-49D0-A78F-11424C03FB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20600" y="1406160"/>
            <a:ext cx="69883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ree iterative control statements in Ja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ny code 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be rewritten 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short-circuit evaluation apply to conditions in loop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operators can be used in the “change” part of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6FE-3869-4297-897D-1D2CD6D1E2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6737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method calls allowed in a condition i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ed in a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nested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situation where nested loops ar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you have nes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FD2-308F-4FA2-AE8C-645E98F637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er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essential that a program be able to execute the same set of instructions many times: otherwise a computer would do only as much work as a programme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ing the same code fragment several times is calle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tera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three control statements for iterations (a.k.a. loops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C77-3714-4903-A908-E9FFB002C0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905120"/>
            <a:ext cx="35053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200560"/>
            <a:ext cx="35053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666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1911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6668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5060880"/>
            <a:ext cx="29718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body has only one statement, the braces are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715000"/>
            <a:ext cx="380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1355760"/>
            <a:ext cx="27432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 logical expression, a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160020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1600200"/>
            <a:ext cx="0" cy="219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406680"/>
            <a:ext cx="27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971800"/>
            <a:ext cx="201132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57F-3714-456D-BCB8-764EEEECB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6280" y="2174760"/>
            <a:ext cx="3729240" cy="3880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the smalles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 such that 2^n &g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int intLog2 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,  p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 p &lt;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75120"/>
            <a:ext cx="201600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378468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447048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7960" y="3608280"/>
            <a:ext cx="13575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57680" y="3436920"/>
            <a:ext cx="803160" cy="341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19400" y="3995280"/>
            <a:ext cx="146556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4630680"/>
            <a:ext cx="25146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105520" y="3355560"/>
            <a:ext cx="380880" cy="252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4167360"/>
            <a:ext cx="265320" cy="1378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06680" y="3994200"/>
            <a:ext cx="625680" cy="307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17D-73B3-4562-8B38-46ADB82D3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variables tested in the condition must be initialized to some values.  If the condition is false at the outset, the loop is never ente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es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condition is tested before each iteration.  If false, the program continues with the first statement after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t least one of the variables tested in the condition must change within the body of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5EB-F313-4B24-8804-C3E265E79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change is implicit in the changed state of a vari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6280" y="2833560"/>
            <a:ext cx="601524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er input = new Scanner(input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input.hasNex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.next(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9000" y="4719600"/>
            <a:ext cx="251460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he stat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917960" y="41958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05A-6C71-46B3-9716-4D21EB39F6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op Invaria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invariant is an assertion that is true before the loop and at the end of each it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ariants help us reason about the c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14440" y="3733920"/>
            <a:ext cx="3784680" cy="266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,  p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p &lt;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6480" y="4386240"/>
            <a:ext cx="251460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invari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4200" y="4456080"/>
            <a:ext cx="10220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92400" y="6172200"/>
            <a:ext cx="1022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14800" y="4456080"/>
            <a:ext cx="1440" cy="1716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6240" y="4826160"/>
            <a:ext cx="12002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64F-799E-4AA0-8843-1EAB3A7AEE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shorthand that combines in one statement initialization, condition, and chan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990880"/>
            <a:ext cx="586728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;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ADA-4628-4CA7-8B6F-BD6F02E78E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4:55:32Z</dcterms:modified>
  <cp:revision>113</cp:revision>
  <dc:subject>Chapter 8</dc:subject>
  <dc:title>Java Methods 2nd AP edition</dc:title>
</cp:coreProperties>
</file>