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7CA0-6C30-4986-9C25-AAAAA9F51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is only a brief overview of Java’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ckage and event handling 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classes contradict the main OOP philoso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ttach the same listener to several components, then sort out in its method which component has caused the event. 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class FileAction implements ActionListe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void actionPerformed(ActionEvent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MenuItem m = (JMenuItem)e.getSour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m == openI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adTex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 if (m == saveI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Tex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 if (m == exitI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cast the object returned b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o the type that caused the event. 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Button btn = (JButton).getSour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ndix C also has an index of examples for each component used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ava Metho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 studies, labs, and exerc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hows text or an image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 not have to capture events from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you can just test whether it is selected when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als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outs follow the Strategy design pattern mentioned in Chapter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more complicate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studying this chapter, the reader should be able to get enough background to research on his or her own the remaining classes and methods from Java’s API do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way to left-justify or right-justify components with respect to the component area by passing an additional parameter to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structor. 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setLayout (new FlowLayout(FlowLayout.RIGHT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not very precise: it is hard to control beyond one 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very precise, but each component is stretched or squeezed to fill a grid c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convenient way to skip a cell: you have to put a dummy component (for example, an empty panel) into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zes of the regions are adjusted to accommodate components placed in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ctually the default for content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bination of nested horizontal and vertical boxes is often a flexible way to achieve a desired lay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particular reason why boxes are handled differently from othe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vertical strut” in a vertical box (or a “horizontal strut” in a horizontal box) adds extra space between componen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 pane is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urned b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ContentPa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UIManag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 has a metho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InstalledLookAndFee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lists all available PLA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code for menus manually is rather tedious.  GUI authoring tools help automate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the three ways to set a PLA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ng.properties file, command-line switch, code in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a container contain another contai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containers can be nested to any dep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several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GUI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 an action listener a class, an interface, an object, or a meth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.  (The question means an entity attached to a component that listens to its events.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awt.event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interfa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eal with the sizes of com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ach component assumes its natural (preferred) size.  I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ach component occupies the whole grid c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the default layout manager for the content pa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type of objects can you add to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Men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Men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MenuIte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MenuRadioBut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MenuCheckBox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ault LAF is cross-platform look and feel.  A setting in the program overrides the settings in command line (if any) and in the properties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 don’t just “hang there”: each component is linked to its parent component; the top-level component is the application window’s content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ener is an o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re used more frequently than other types of listeners. 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n be attached to a button, a text fields, a menu i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ecifies on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actionPerformed(ActionEvent 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classes are not in the AP sub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B1A-65D0-44B7-92BA-36AB7278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162-E369-40B2-9B82-54776345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403-819B-46AE-82BC-72A0EACB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47B-E4DE-47EF-B431-5C8AB1A7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5D5-605A-4F65-8D84-ECCD6742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9BC-216A-45DF-A13E-FAC2A0B6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49A-A3E8-4060-A4D9-CA737B94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831-1349-4F72-9479-517B26AC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144-BB3E-45E5-B729-058C062F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797-FDFB-4233-A93D-F9B85B93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778-0A35-44D3-89C3-E28B88A8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FD8-0826-4042-9641-93E3528D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-</a:t>
            </a:r>
            <a:fld id="{4400DE1C-7EC0-4F55-B0BC-7DFCC3F0F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467676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Components and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219480"/>
          <a:ext cx="2914560" cy="14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3219480"/>
                    <a:ext cx="29145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11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14240" y="544680"/>
            <a:ext cx="1036800" cy="1342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2040" y="430200"/>
            <a:ext cx="39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39960" y="11318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2040" y="2462040"/>
            <a:ext cx="3941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39960" y="1900080"/>
            <a:ext cx="39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nd AP e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with Grid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474-EE81-4113-981D-AF50B343F4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371600"/>
            <a:ext cx="6999120" cy="49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MyPanel extends J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JButton g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= new JButton (“Go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.addActionListener (new GoHandler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class GoHandler implements Action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actionPerformed (Action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.setText(“Stop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49280" y="3559320"/>
            <a:ext cx="6205680" cy="2471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755520" y="2200320"/>
            <a:ext cx="28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858000" y="2481120"/>
            <a:ext cx="40320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1360" y="1274760"/>
            <a:ext cx="2112840" cy="13136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ccessible in constructors and methods of the inn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2A9-1D42-4CDB-93EC-28B507C4F3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don’t have to capture all ev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don’t want to deal with events from a component, just don’t attach a listener to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do want to capture events but forget to add a listener, no events will be captured (a common omission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C63-8A98-47E9-B563-FA80B628F4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Perform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 another listener method) takes a corresponding type of event as a para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nt objects have useful methods.  For exampl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our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turns the object that produced this ev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s metho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942-CD6E-4E61-956A-2CC313E3E8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 Components Re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5153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Java Method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endix C contains brief summaries of several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mponents, their constructors, methods, and ev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 complete specification refer to the Jav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PI do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66C-B595-4EBF-A89C-2CF37CD09D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27432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JLabe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371600"/>
            <a:ext cx="7086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ructor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Label (String te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Label (ImageIcon ic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Label (String text, ImageIcon icon, SwingConstants.LEF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or CENTER, RIGHT, LEADING, TRAIL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setText (String te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setIcon (ImageIcon ic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126-3C31-44AD-962C-54C9E05C90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8640" y="29340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JButt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80880"/>
            <a:ext cx="51814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structor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Button (String tex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Button (ImageIcon pictur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Button (String text, ImageIcon pictur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addActionListener (ActionListener ob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Text (String tex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ActionCommand (String cm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Icon (ImageIcon ic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requestFocu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... implements Action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actionPerformed(ActionEvent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Button b = (JButton)e.getSour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s = e.getActionComma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1F5-58D3-493B-882B-DDA366DC6D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80160" y="128160"/>
            <a:ext cx="3047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JCheckBox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28600"/>
            <a:ext cx="5410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structor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CheckBox (String text, boolean check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CheckBox (ImageIcon icon, boolean check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CheckBox (String text, ImageIcon ic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ean check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addActionListener (ActionListener ob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ean isSelected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Selected (boolean check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Text (String tex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Icon (ImageIcon ic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... implements Action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actionPerformed(ActionEvent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CheckBox b = (JCheckBox)e.getSour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b == checkBox1 &amp;&amp; b.isSelected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0CA-4FC1-43D4-B805-869022EEC0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4720" y="5871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752480"/>
            <a:ext cx="556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e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Java Method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ppendix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728-2C78-41D0-8BA8-7BE8CD7407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you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ayout manager is a strategy for placing components on the content pane or another component (usually a panel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Java, the content pane and any GUI component 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ayout is chosen by calling the container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Lay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46F-7CE6-4246-AA9D-837770CE28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you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youts are used to achieve some degree of platform independence and scalabili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wt/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ort several layout managers. Here we consider fou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of these classes implemen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awt.LayoutManag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439-FB0D-4B07-AF7C-CBC7EFAD50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t a more systematic introduction to basic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mponents, their methods, and events they gener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onents discuss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Lab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ut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ToggleBut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CheckBo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ComboBo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19400" y="3473280"/>
            <a:ext cx="3276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l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Text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assword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Text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A2C-72F7-403D-BA35-12FF0D4409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Layou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ces components in a line as long as they fit, then starts the next l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“best judgement” in spacing components.  Centers by defaul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s each component assume its natural (preferred) siz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used for placing buttons on pan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A9A-EC70-494D-92CB-8B4F5DCCAC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Layou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1679400"/>
            <a:ext cx="579132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 c = getContentPa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setLayout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lowLayou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Back to Start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Previous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Next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Last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Exit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19320" y="4172040"/>
            <a:ext cx="28576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AC4-055C-4908-AE4B-6BB91B29A1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Layou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lits the panel into a grid with given numbers of rows and colum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ces components into the grid cel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ces the size of each component to occupy the whole c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s additional spacing between cel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ED8-CA57-42B7-AAA8-166560A877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Layou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05000" y="1587600"/>
            <a:ext cx="583884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 c = getContentPa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setLayout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GridLayout(3, 2,  10, 20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Back to Start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Previous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Next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Last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Exit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756400" y="2117520"/>
            <a:ext cx="752400" cy="152640"/>
            <a:chOff x="5756400" y="2117520"/>
            <a:chExt cx="752400" cy="152640"/>
          </a:xfrm>
        </p:grpSpPr>
        <p:sp>
          <p:nvSpPr>
            <p:cNvPr id="127" name=""/>
            <p:cNvSpPr/>
            <p:nvPr/>
          </p:nvSpPr>
          <p:spPr>
            <a:xfrm flipV="1">
              <a:off x="5756400" y="2117520"/>
              <a:ext cx="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508800" y="2117520"/>
              <a:ext cx="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56400" y="2270160"/>
              <a:ext cx="752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153120" y="2270160"/>
            <a:ext cx="598680" cy="72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80200" y="2946240"/>
            <a:ext cx="188280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space between the cells (in pix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33640" y="426708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E58-9CBB-4076-9BE6-E79AA73A36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derLayou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vides the area into five regions and adds a component to the specified reg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ces the size of each component to occupy the whole reg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2622600"/>
            <a:ext cx="4800600" cy="2057400"/>
            <a:chOff x="2209680" y="2622600"/>
            <a:chExt cx="4800600" cy="2057400"/>
          </a:xfrm>
        </p:grpSpPr>
        <p:sp>
          <p:nvSpPr>
            <p:cNvPr id="136" name=""/>
            <p:cNvSpPr/>
            <p:nvPr/>
          </p:nvSpPr>
          <p:spPr>
            <a:xfrm>
              <a:off x="2286000" y="2698560"/>
              <a:ext cx="464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4146480"/>
              <a:ext cx="464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1280" y="34351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0960" y="34351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0" y="34351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2622600"/>
              <a:ext cx="4800600" cy="2057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09680" y="3232080"/>
              <a:ext cx="480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4070160"/>
              <a:ext cx="480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504960" y="323208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715000" y="323208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B89-5ED0-423E-92F7-AB5BBF6BAB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derLayou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080" y="1589040"/>
            <a:ext cx="784872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 c = getContentPa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setLayout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BorderLayou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 // optional: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Next Slide"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derLayout.E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Previous Slide"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derLayout.W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Back to Start"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derLayout.NOR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Last Slide"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derLayout.SOU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Exit"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derLayout.C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57480" y="4172040"/>
            <a:ext cx="28576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A3A-A04A-4B38-97F4-05A0B08096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Layou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 horizontal box, components are placed horizontally, left to righ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 vertical box, components are placed vertically, top to bott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917800" y="2658960"/>
            <a:ext cx="2209680" cy="1143000"/>
            <a:chOff x="2917800" y="2658960"/>
            <a:chExt cx="2209680" cy="1143000"/>
          </a:xfrm>
        </p:grpSpPr>
        <p:sp>
          <p:nvSpPr>
            <p:cNvPr id="152" name=""/>
            <p:cNvSpPr/>
            <p:nvPr/>
          </p:nvSpPr>
          <p:spPr>
            <a:xfrm>
              <a:off x="2917800" y="2658960"/>
              <a:ext cx="56196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79760" y="2658960"/>
              <a:ext cx="876240" cy="11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6000" y="2658960"/>
              <a:ext cx="77148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17800" y="2658960"/>
              <a:ext cx="22096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955960" y="5033880"/>
            <a:ext cx="2133360" cy="1219320"/>
            <a:chOff x="2955960" y="5033880"/>
            <a:chExt cx="2133360" cy="1219320"/>
          </a:xfrm>
        </p:grpSpPr>
        <p:sp>
          <p:nvSpPr>
            <p:cNvPr id="157" name=""/>
            <p:cNvSpPr/>
            <p:nvPr/>
          </p:nvSpPr>
          <p:spPr>
            <a:xfrm rot="5400000">
              <a:off x="3867120" y="4122720"/>
              <a:ext cx="309600" cy="2131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3780000" y="4519080"/>
              <a:ext cx="483480" cy="213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3809520" y="4973400"/>
              <a:ext cx="424800" cy="2131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3414240" y="4578120"/>
              <a:ext cx="1218240" cy="213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5154120" y="552456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4632480"/>
            <a:ext cx="2286000" cy="16185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” or “vertical” has nothing to do with the shape of the box itsel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E9B-8B59-48CB-9BA3-8197FFD37A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Layou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Lay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default layout for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tain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diom for working with boxes is slightly differ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3809880"/>
            <a:ext cx="5639040" cy="25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 box1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createHorizontalBox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1.add 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add a spacer, 60 pix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1.add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createHorizontalStrut (6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 box2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createVerticalBox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C1D-F803-4E2B-B409-E2F4CEEEC3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Layou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577880"/>
            <a:ext cx="5638680" cy="25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 c = getContentPa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setLayout(new FlowLayou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 box = Box.createVerticalBox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w JButton ("Next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w JButton ("Previous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ox.createVerticalStrut (20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w JButton ("Exit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00240" y="444816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>
            <a:off x="6688080" y="3333600"/>
            <a:ext cx="876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2432160"/>
            <a:ext cx="160020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s extra vertical space between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92C-1176-4B6C-BC22-3406FC42DF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fault Layou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component has a default layout manager, which remains in effect until the component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Lay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is call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fault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pane         BorderLay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Panel                    Flow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x                         Box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900600" y="37180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900600" y="415116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900600" y="4584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1E3-C9FD-40AF-8E22-6D4BB897E4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uggable Look and Fee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Look and fe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LAF) refers to the GUI aspect of a progr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’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orts PLAF (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uggabl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ok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d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l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provides several LAFs, includ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al”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latform independ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imbus”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more polished, cross-platform LAF, added in Java 6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ndows”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ndows Classic”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ik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f”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ni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C8D-2B65-4732-9635-097A35B7F5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en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dd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Ba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Fra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pl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d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s to a 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Ba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dd ot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Item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CheckBoxMenuItem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RadioButtonMenuItem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etc. to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Section 17.5 for an examp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C7B-1908-486B-B780-E1F7482FC1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three ways to set a PLAF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 container contain another contain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several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UI compon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an action listener a class, an interface, an object, or a metho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Lay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Lay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al with the sizes of componen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DC4-41D2-40D0-822F-A143AC14B5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efault layout manager for the content pa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ype of objects can you add to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9A3-33DF-48F6-BD56-CD17040C2D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31760" y="3510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F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0600" y="1206360"/>
            <a:ext cx="782640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ree ways to set look and fee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ng.proper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i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and-line switch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progra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74880" y="2343240"/>
            <a:ext cx="6848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ng.defaultlaf=com.sun.java.swing.plaf.windows.WindowsLookAndF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4880" y="3768840"/>
            <a:ext cx="684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&gt; java -Dswing.defaultlaf=javax.swing.plaf.metal.MetalLookAndFeel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74880" y="4822920"/>
            <a:ext cx="683568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Manager.setLookAndFeel(plaf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ch (Exception ex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8A3-9B18-4E76-8706-7A068B18B3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 Compon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onents are created using construct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be usable, a component must be added to the application’s “content pane” or to another compon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09640" y="2251080"/>
            <a:ext cx="47167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Label guest = new JLabel ("Guest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09640" y="4487760"/>
            <a:ext cx="47167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Panel scorePanel = new JPan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Panel.add (gue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FF4-B292-484A-903F-5E392B2732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 Ev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onents (excep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Lab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can generate ev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nts are captured and processed by “listeners” — objects equipped to handle a particular type of ev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t types of events are processed by different types of listen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3FE-C7EB-4A63-81B5-938DFC2F23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196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t types of “listeners” are described as interfa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Liste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Liste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Liste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ame object can serve as different listeners (as long as its class implements all the corresponding interface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348-A3A7-459C-A5F8-6E3F1EBC62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1600200"/>
            <a:ext cx="5562720" cy="2838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Go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s Action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tion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4572000"/>
            <a:ext cx="575964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Button go = new JButton (“Go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ActionListen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GoHandler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495320" y="182880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124080" y="5572080"/>
            <a:ext cx="1622520" cy="533520"/>
            <a:chOff x="3124080" y="5572080"/>
            <a:chExt cx="1622520" cy="533520"/>
          </a:xfrm>
        </p:grpSpPr>
        <p:sp>
          <p:nvSpPr>
            <p:cNvPr id="84" name=""/>
            <p:cNvSpPr/>
            <p:nvPr/>
          </p:nvSpPr>
          <p:spPr>
            <a:xfrm flipV="1">
              <a:off x="3124080" y="557208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24080" y="6105600"/>
              <a:ext cx="1622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 flipV="1">
            <a:off x="3809880" y="32004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3733920"/>
            <a:ext cx="2198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1127160"/>
            <a:ext cx="297504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of this class ar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Hand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but als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638680"/>
            <a:ext cx="370512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thod expect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Hand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 qualif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429000"/>
            <a:ext cx="281952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thod is called automatically when the button i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CB4-C428-4026-84D3-92DB380CE1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implementing an event listener, programmers often use a priv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 that has access to all the fields of the surrounding public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inner class can have constructors and private fields, like any other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ivate inner class is accessible only in its outer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9FC-7E59-4133-8FF3-17644EC9F0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14-04-18T15:05:37Z</dcterms:modified>
  <cp:revision>204</cp:revision>
  <dc:subject>Chapter 17</dc:subject>
  <dc:title>Java Methods 2nd AP edition</dc:title>
</cp:coreProperties>
</file>