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EFEF-201E-4B4D-ADD6-7F2D4D28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essentially a “learning by doing” chapter.  Not much theory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ignore all character k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ith bit masks requires bit-wise logical operators, explained in Section 18.3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ava Metho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audio in applications (not applets) can get more involved.  We have provided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asyS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 for that (see Appendix 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the fi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ells.wa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located i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directory of the directory that contains the applet’s HTML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this works only in applets.  Us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, added in Java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lace an icon on a component, use component’s constructor that takes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 para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gram is to be written from scratch.  It can be a team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ditor can be extended to handle different shapes, using a hierarchy of shapes (for example, a round and elongated balloons and a square “balloon”) and polymorph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lds a list of balloons and keeps track of the active balloon (last added or picked with the mou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also introduces bit-wise logical operators in the context of identifying the status of keyboard modifier keys (Alt, Shift, Ctr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the five methods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 class imp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but no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but it would be a little unus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units and the origin for the coordinates returned by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rdinates are in pixels, relative to the upper-left corner of the component to which the listener is att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methods does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nterface specif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 is used to capture an action key e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 returns the actual character ty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s return the status of modifier key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AltD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ShiftD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ControlD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tc.,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do we need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questFocus(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component needs to listen to keyboard events, but doesn’t get the keyboard focus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es an applet’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DocumentBase(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turns the path part of the absolute URL that contains the applet’s HTML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class was written earlier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ich was added in Java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can we display an icon in a panel (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bject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Icon(this, g, 0, 0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panel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can we display an icon on a button (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bject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dd the icon as a parameter for the button’s constructor (or call the button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use listener can be implemented as an inner class or even a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,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MyPanel extends J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MyPanel() //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MouseListener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Adapter()  // inlin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void mouseClicked(MouseEvent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 // process click at e.getX(), e.get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ecks that the button was pressed and released in the same place, which may result in missed cli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ordinates are relative to the upper-left corner of the component to which the mouse listener is att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rag an object smoothly, save the initial position of the object and the position of the initial mouse click, then move the object in such a way that the offsets from the object to the mouse position remain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ing focus is tricky.  Java’s event manager keeps shifting the keyboard focus to the last button or menu item cl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yp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i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auses five events: Shift pressed, ‘A’ pressed, ‘A’ released, Shift released, ‘A’ typ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thus ignores all “action” k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09F-B2A6-4A2B-A7FB-53B90501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ED4-05D7-4549-99A8-E57238F8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3AB-F1F9-42D7-BC80-EC1854CF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347-312B-4A9B-A6FF-BFC77A37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E74-44DE-41D6-BE32-054FE1E1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861-CC82-4FA8-A141-70109D5E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890-A422-42C0-AAAD-043B5D5B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735-384A-4143-ACC0-BE291DF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EE9-A71E-4548-AA70-F54721DB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B9A-5A2C-4794-B326-BADF29A7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19B-5E47-436D-A46A-31B35FC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957-2BF0-4A9C-A8C8-728B0039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-</a:t>
            </a:r>
            <a:fld id="{30C286EC-1950-4091-BEFE-A6C478D4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51120" y="4667400"/>
            <a:ext cx="577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se, Keyboard, Sounds, and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11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4240" y="544680"/>
            <a:ext cx="1036800" cy="1342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32040" y="430200"/>
            <a:ext cx="39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9960" y="11318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2040" y="2462040"/>
            <a:ext cx="3941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9960" y="190008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nd AP e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ith Grid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30640" y="3321000"/>
          <a:ext cx="2847960" cy="130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0640" y="3321000"/>
                    <a:ext cx="28479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43C-F1A6-458A-9080-81CD6B13C6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0600" y="1417320"/>
            <a:ext cx="7772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Press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Releas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handle “action” keys, such as cursor key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Enter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function keys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etKeyCode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the key’s “virtual code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defines constants for various virtual keys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15960" y="498168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K_LEFT, VK_RIGHT, VK_UP, VK_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K_HOME, VK_END, VK_PAGE_UP, ...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97800" y="4981680"/>
            <a:ext cx="16761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15960" y="4905360"/>
            <a:ext cx="6934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15960" y="551484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148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97800" y="5591160"/>
            <a:ext cx="16761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248-E08B-40DC-A67F-186E54DA59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isShiftDown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isControlDown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isAltDown(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urn the status of the respective modifier ke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etModifiers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a bit pattern that represents the status of all modifier ke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fines “mask” consta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RL_MAS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_MAS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_MAS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AB4-59EE-4E21-84D6-3ECF57A0E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ying Audio Cli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pl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has a meth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AudioCli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return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Cli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44480" y="2765520"/>
            <a:ext cx="556272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java.applet.AudioCl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C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une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AudioC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Path,  relativePath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.play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75360" y="4641840"/>
            <a:ext cx="3124080" cy="1618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ay be a slight delay.  The audio clip is actually loaded only when you call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for the firs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55680" y="4870440"/>
            <a:ext cx="12193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ACE-9FBD-4036-9EF4-4EFE94254B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ying Audio Clip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Pa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path part of the URL where the audio clip file is located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DocumentBase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often used for this para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DocumentBase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the path part of the absolute URL of this applet’s HTML fi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648320"/>
            <a:ext cx="449712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Clip bells = getAudioClip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DocumentBase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s.wav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469-29C6-40E1-8353-E706B827D2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m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pl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has a meth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return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577960"/>
            <a:ext cx="690228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awt.Ima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mage pic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Im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etDocumentBase(),  "flower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icture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Im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cture, x, y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911920" y="5353200"/>
            <a:ext cx="1283760" cy="304560"/>
            <a:chOff x="5911920" y="5353200"/>
            <a:chExt cx="1283760" cy="304560"/>
          </a:xfrm>
        </p:grpSpPr>
        <p:sp>
          <p:nvSpPr>
            <p:cNvPr id="113" name=""/>
            <p:cNvSpPr/>
            <p:nvPr/>
          </p:nvSpPr>
          <p:spPr>
            <a:xfrm>
              <a:off x="5911920" y="5353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11920" y="5353200"/>
              <a:ext cx="1283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858000" y="5005440"/>
            <a:ext cx="205740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Ob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f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16B-F8E3-4190-88F1-9429CB2E3C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mag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pplications, it may be easier to work with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Ic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666880"/>
            <a:ext cx="595296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x.swing.ImageIc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Ic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c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ture = new ImageIcon ("flower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aintComponent 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icture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Ic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his, g, x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900680" y="5408640"/>
            <a:ext cx="2057400" cy="304920"/>
            <a:chOff x="4900680" y="5408640"/>
            <a:chExt cx="2057400" cy="304920"/>
          </a:xfrm>
        </p:grpSpPr>
        <p:sp>
          <p:nvSpPr>
            <p:cNvPr id="120" name=""/>
            <p:cNvSpPr/>
            <p:nvPr/>
          </p:nvSpPr>
          <p:spPr>
            <a:xfrm>
              <a:off x="4900680" y="5408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00680" y="540864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683400" y="4867200"/>
            <a:ext cx="205740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n which this icon is displayed (usual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4D9-041A-4FA2-9E37-71C2783D28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mag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5549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ns can be placed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tt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Lab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I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, etc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n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returns its image (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673360"/>
            <a:ext cx="696744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x.swing.ImageIc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Icon arrow = new ImageIcon ("rightarrow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Button next = new JButton(“Next”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226-1938-46FF-87E0-4B3BE21D99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Drawing Edit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gra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191448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86D-10FE-48B0-B6ED-A0D34C92BD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Drawing Edit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to move and shape objects on “canvas” using the mouse and the cursor ke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 the shapes are circles (“balloons”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ColorChoos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pick a col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2FC-A3D6-4B57-9CDD-2E31B5EFD4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rawing Editor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7480" y="4513320"/>
            <a:ext cx="694512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You write the whole program; there is a detailed step-by-step plan in the book (Section 18.4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781600" y="3240000"/>
            <a:ext cx="120600" cy="696960"/>
            <a:chOff x="5781600" y="3240000"/>
            <a:chExt cx="120600" cy="696960"/>
          </a:xfrm>
        </p:grpSpPr>
        <p:sp>
          <p:nvSpPr>
            <p:cNvPr id="134" name=""/>
            <p:cNvSpPr/>
            <p:nvPr/>
          </p:nvSpPr>
          <p:spPr>
            <a:xfrm flipV="1">
              <a:off x="5841720" y="334944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81600" y="3240000"/>
              <a:ext cx="120600" cy="20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H="1">
            <a:off x="5837400" y="2035080"/>
            <a:ext cx="108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1600" y="3319560"/>
            <a:ext cx="120600" cy="207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8520" y="1797120"/>
            <a:ext cx="2068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0000" y="2824200"/>
            <a:ext cx="1785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72120" y="3851280"/>
            <a:ext cx="1339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7320" y="2168640"/>
            <a:ext cx="1523880" cy="860400"/>
          </a:xfrm>
          <a:custGeom>
            <a:avLst/>
            <a:gdLst/>
            <a:ahLst/>
            <a:rect l="l" t="t" r="r" b="b"/>
            <a:pathLst>
              <a:path w="1097" h="542">
                <a:moveTo>
                  <a:pt x="0" y="0"/>
                </a:moveTo>
                <a:lnTo>
                  <a:pt x="0" y="542"/>
                </a:lnTo>
                <a:lnTo>
                  <a:pt x="1097" y="54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25600" y="1797120"/>
            <a:ext cx="2068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oon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48C-6D65-467D-9C7E-985A7FE78E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3692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how to handle mouse and keyboard events in Ja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 a simple drawing editor appli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he basics of playing sounds and displaying images in applets and applic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826-2CE6-4798-B1B9-0E15E36A94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e five metho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 class impl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Motion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ut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units and the origin for the coordinates returned by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any methods doe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 specif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1EE-1C7D-4062-9DA9-F7AEF4361E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method is used to capture an action key ev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method returns the actual character typ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methods return the status of modifier key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do we need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Focus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l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CC3-7897-4230-95A8-4A284B07F2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an applet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DocumentBase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retur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class was written earli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Ic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display an icon on a panel (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an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)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display an icon on a button (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tt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)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21E-5933-444E-B004-D01B8FA428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1760" y="3510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se Ev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0240" y="1284120"/>
            <a:ext cx="7543800" cy="33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use events are captured by an object which 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possibly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Motion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mouse listener is often attached to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an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pon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uncommon for a panel to serve as its own mouse listen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36800" y="4802040"/>
            <a:ext cx="585612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MyPane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MouseListener(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MouseMotionListener(this); //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18E-8970-47E0-9307-0D4D02028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se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 defines five metho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Press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Releas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Click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Enter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Exit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click and release causes several calls.  Using on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Releas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usually a safe b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189840" y="3832200"/>
            <a:ext cx="457200" cy="848880"/>
            <a:chOff x="6189840" y="3832200"/>
            <a:chExt cx="457200" cy="848880"/>
          </a:xfrm>
        </p:grpSpPr>
        <p:sp>
          <p:nvSpPr>
            <p:cNvPr id="71" name=""/>
            <p:cNvSpPr/>
            <p:nvPr/>
          </p:nvSpPr>
          <p:spPr>
            <a:xfrm>
              <a:off x="6189840" y="383220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89840" y="46810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47040" y="3832200"/>
              <a:ext cx="0" cy="848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635880" y="4265640"/>
            <a:ext cx="64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2651040"/>
            <a:ext cx="1676520" cy="1923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when the mouse cursor enters/exits   component’s visibl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58C-D2CE-4D41-9B33-40B611B347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se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use listener methods receiv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 as a para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mouse event can provide the coordinates of the event and other inform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63640" y="3787920"/>
            <a:ext cx="579132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mousePressed (Mouse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 = 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y = 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b = 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Bu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C3A-67B1-40B5-AA39-B6EBE91A8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se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Motion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 adds two metho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Mov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Dragg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often used together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(the same class implements both interface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629400" y="3191040"/>
            <a:ext cx="728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2170080"/>
            <a:ext cx="1676520" cy="1618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when the mouse has moved with a button held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AD4-0A99-4B65-837C-7D20AE95E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board events are captured by an object which 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bject to which a key listener is attached must first obtain keyboard “focus.”   This is done by calling the component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Foc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mponent (for example,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an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can serve as its own key listen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5421240"/>
            <a:ext cx="624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KeyListener(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419-6B84-4882-B393-030CD8EDE6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 defines three metho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keyPressed (Key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keyReleased (Key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keyTyped (Key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key pressed and released causes several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46B-759F-4482-AE92-914556A02C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Typ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capture character keys (that is, keys that correspond to printable character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etKeyChar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the typed charac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6840" y="4005360"/>
            <a:ext cx="513900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keyTyped (KeyEvent 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ch = e.getKeyCha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ch == ‘A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832-859F-4B8D-AB0E-62A0C83B18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14-04-18T15:06:15Z</dcterms:modified>
  <cp:revision>211</cp:revision>
  <dc:subject>Chapter 18</dc:subject>
  <dc:title>Java Methods 2nd AP edition</dc:title>
</cp:coreProperties>
</file>