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E0E-C58F-4AE1-8BD0-EB2DD972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ntroduces basic general computer graphics concepts as well as a few specifics for Ja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convenient for drawing, but other components can be used, for examp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laces a “repaint” request into the application’s events queue.  If a repaint request is issued from a method that handles some other event, repainting does not occur until that method fin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ifts the origin to a specified location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s methods for rotating the coordinates by a certain angle and for applying more general transfor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c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you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uniform way to specify the positions of  different shapes.  The same approach was used in the first GUI prototyping and development tool Skylights/GX developed by Gary Litvin in 198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circles look a little rugged, even on high-resolution scre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so has a metho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ible combinations of RGB values defin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ver 16 million)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s metho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nightSky = Color.BLUE.dark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Color 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pickColo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pickedColor = JColorChooser.showDialog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, "Pick a color", 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pickedColor != 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= picked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ear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lls the rectangle with the component’s current backgrou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Round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rz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t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horizontal and vertical diameters of the oval used to round the cor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coordinates of the left end of the bas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detailed graphics information refer to Java API, Oracle’s tutorials and more technical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fs are the small horizontal strokes in letters.  The main characteristics of fonts are serif vs. sans serif and fixed-pitch vs. proportional.  In a fixed-pitch (monospace) font, the width of all letters is the same.  A program editor uses a fixed-pitch font (for example, Cour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has a way to get a list of all the fonts available in a system and choose one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vector and raster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ector graphics the device directly draws strokes on the surface.  A raster device keeps an array of pixels.   To draw a stroke you need to set certain pixels to a particular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what units are the coordinates measured in Grap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isplay pix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is the origin of the coordinat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fault, it is in the upper-left co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is the position and size of a rectangle or an oval def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scribing the bounding rectangle with the coordinates of its upper-left corner, its width, and its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do you set a drawing col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ll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.setColor(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drawing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l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vector device is a plotter.  Some models actually include a moving “hand” that grabs pens of different colors from a pen h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computer screen may have a resolution of 1024 by 768 (pixel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graphics co-processors may assist in generating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mportantly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pports polymorphic treatment of shapes and lets you define your own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lows you to repaint individual components for better animation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comes from the very early versions of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get hold of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, then?  Actuall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 in disguise.  All you have to do is cas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 g2d = (Graphics2D)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FEC-667B-4601-A2BA-2324D705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C10-C336-4F71-831C-CF5DDDD6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FFB-FFF7-48F7-B1BC-A2677304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EFD-0FA8-4C51-A2EA-BB0E1298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248-FFBF-4887-9CA8-29B5593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C8E-96F7-4588-823E-01B813D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3C-1AF5-4896-A41F-ADD870F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17E-0927-4AA2-A33E-136A54C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BCE-7552-4160-8EF4-3A42E75E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29A-AB28-4E2F-ABD1-E641ACB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6FF-A5B6-4573-A767-13C178D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F0D-7C11-47F3-8E72-8706BD7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FA954098-BEA5-4015-BA81-0C7B6DAB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467676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24240" y="3362400"/>
          <a:ext cx="4573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4240" y="3362400"/>
                    <a:ext cx="4573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1A8-4597-42FA-9DBF-6ADDC71B19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7360" y="2440080"/>
            <a:ext cx="539892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Canvas exte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Compone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Componen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324480" y="2910960"/>
            <a:ext cx="990720" cy="686160"/>
            <a:chOff x="6324480" y="2910960"/>
            <a:chExt cx="990720" cy="686160"/>
          </a:xfrm>
        </p:grpSpPr>
        <p:sp>
          <p:nvSpPr>
            <p:cNvPr id="95" name=""/>
            <p:cNvSpPr/>
            <p:nvPr/>
          </p:nvSpPr>
          <p:spPr>
            <a:xfrm flipH="1">
              <a:off x="6324480" y="3597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315200" y="2910960"/>
              <a:ext cx="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245280" y="2362320"/>
            <a:ext cx="221292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nother Swing GUI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D15-A936-4713-9663-23DF4A701C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grammer never ca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rectly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alled instead whenever you need to refresh the picture (after adding, moving, or changing some elements, etc.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191120"/>
            <a:ext cx="48006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Canvas 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.move(dx, d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a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33680" y="5645160"/>
            <a:ext cx="3386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3886200"/>
            <a:ext cx="2212920" cy="22284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no parameters: the graphics context is restored and sen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DF2-37B1-4DE4-ACC0-930A62067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97320" y="1835280"/>
            <a:ext cx="2852640" cy="27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97320" y="1835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97320" y="18352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00840" y="156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75240" y="4307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06600" y="4883040"/>
            <a:ext cx="28958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 poin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 in many other graphics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49800" y="2673360"/>
            <a:ext cx="18288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14640" y="1447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676680" y="1933200"/>
            <a:ext cx="514440" cy="514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200320"/>
            <a:ext cx="3003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: the upper-left corner of th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0E0-8352-4509-BCF2-9854DD97C7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2184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UI component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that return its respective dimen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can be used to produce scalable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ly work after the component has been placed (do not call them from a component’s construct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BAB-191C-47C0-9E01-BC8D8CE9B0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osition of a rectangle, oval, and even an arc is defined by using its “bounding rectangle,” describ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21160" y="3965400"/>
            <a:ext cx="2727360" cy="2028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71840" y="4052880"/>
            <a:ext cx="2978280" cy="1967040"/>
          </a:xfrm>
          <a:custGeom>
            <a:avLst/>
            <a:gdLst/>
            <a:ahLst/>
            <a:rect l="l" t="t" r="r" b="b"/>
            <a:pathLst>
              <a:path w="1876" h="1239">
                <a:moveTo>
                  <a:pt x="0" y="0"/>
                </a:moveTo>
                <a:lnTo>
                  <a:pt x="0" y="1239"/>
                </a:lnTo>
                <a:lnTo>
                  <a:pt x="1876" y="12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8840" y="4016520"/>
            <a:ext cx="2978280" cy="1966680"/>
          </a:xfrm>
          <a:custGeom>
            <a:avLst/>
            <a:gdLst/>
            <a:ahLst/>
            <a:rect l="l" t="t" r="r" b="b"/>
            <a:pathLst>
              <a:path w="1876" h="1239">
                <a:moveTo>
                  <a:pt x="1876" y="0"/>
                </a:moveTo>
                <a:lnTo>
                  <a:pt x="1876" y="1239"/>
                </a:lnTo>
                <a:lnTo>
                  <a:pt x="0" y="1239"/>
                </a:lnTo>
                <a:lnTo>
                  <a:pt x="18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21160" y="3965400"/>
            <a:ext cx="2727360" cy="2028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1160" y="3965400"/>
            <a:ext cx="2724120" cy="2025720"/>
          </a:xfrm>
          <a:custGeom>
            <a:avLst/>
            <a:gdLst/>
            <a:ahLst/>
            <a:rect l="l" t="t" r="r" b="b"/>
            <a:pathLst>
              <a:path w="1716" h="1276">
                <a:moveTo>
                  <a:pt x="389" y="0"/>
                </a:moveTo>
                <a:lnTo>
                  <a:pt x="349" y="2"/>
                </a:lnTo>
                <a:lnTo>
                  <a:pt x="311" y="8"/>
                </a:lnTo>
                <a:lnTo>
                  <a:pt x="273" y="18"/>
                </a:lnTo>
                <a:lnTo>
                  <a:pt x="238" y="31"/>
                </a:lnTo>
                <a:lnTo>
                  <a:pt x="204" y="47"/>
                </a:lnTo>
                <a:lnTo>
                  <a:pt x="172" y="66"/>
                </a:lnTo>
                <a:lnTo>
                  <a:pt x="142" y="90"/>
                </a:lnTo>
                <a:lnTo>
                  <a:pt x="114" y="115"/>
                </a:lnTo>
                <a:lnTo>
                  <a:pt x="89" y="143"/>
                </a:lnTo>
                <a:lnTo>
                  <a:pt x="66" y="172"/>
                </a:lnTo>
                <a:lnTo>
                  <a:pt x="47" y="204"/>
                </a:lnTo>
                <a:lnTo>
                  <a:pt x="31" y="238"/>
                </a:lnTo>
                <a:lnTo>
                  <a:pt x="18" y="273"/>
                </a:lnTo>
                <a:lnTo>
                  <a:pt x="7" y="311"/>
                </a:lnTo>
                <a:lnTo>
                  <a:pt x="1" y="349"/>
                </a:lnTo>
                <a:lnTo>
                  <a:pt x="0" y="389"/>
                </a:lnTo>
                <a:lnTo>
                  <a:pt x="0" y="888"/>
                </a:lnTo>
                <a:lnTo>
                  <a:pt x="1" y="927"/>
                </a:lnTo>
                <a:lnTo>
                  <a:pt x="7" y="965"/>
                </a:lnTo>
                <a:lnTo>
                  <a:pt x="18" y="1004"/>
                </a:lnTo>
                <a:lnTo>
                  <a:pt x="31" y="1039"/>
                </a:lnTo>
                <a:lnTo>
                  <a:pt x="47" y="1072"/>
                </a:lnTo>
                <a:lnTo>
                  <a:pt x="66" y="1105"/>
                </a:lnTo>
                <a:lnTo>
                  <a:pt x="89" y="1134"/>
                </a:lnTo>
                <a:lnTo>
                  <a:pt x="114" y="1162"/>
                </a:lnTo>
                <a:lnTo>
                  <a:pt x="142" y="1187"/>
                </a:lnTo>
                <a:lnTo>
                  <a:pt x="172" y="1210"/>
                </a:lnTo>
                <a:lnTo>
                  <a:pt x="204" y="1229"/>
                </a:lnTo>
                <a:lnTo>
                  <a:pt x="238" y="1246"/>
                </a:lnTo>
                <a:lnTo>
                  <a:pt x="273" y="1259"/>
                </a:lnTo>
                <a:lnTo>
                  <a:pt x="311" y="1269"/>
                </a:lnTo>
                <a:lnTo>
                  <a:pt x="349" y="1275"/>
                </a:lnTo>
                <a:lnTo>
                  <a:pt x="389" y="1276"/>
                </a:lnTo>
                <a:lnTo>
                  <a:pt x="1328" y="1276"/>
                </a:lnTo>
                <a:lnTo>
                  <a:pt x="1367" y="1275"/>
                </a:lnTo>
                <a:lnTo>
                  <a:pt x="1405" y="1269"/>
                </a:lnTo>
                <a:lnTo>
                  <a:pt x="1443" y="1259"/>
                </a:lnTo>
                <a:lnTo>
                  <a:pt x="1479" y="1246"/>
                </a:lnTo>
                <a:lnTo>
                  <a:pt x="1512" y="1229"/>
                </a:lnTo>
                <a:lnTo>
                  <a:pt x="1545" y="1210"/>
                </a:lnTo>
                <a:lnTo>
                  <a:pt x="1574" y="1187"/>
                </a:lnTo>
                <a:lnTo>
                  <a:pt x="1602" y="1162"/>
                </a:lnTo>
                <a:lnTo>
                  <a:pt x="1627" y="1134"/>
                </a:lnTo>
                <a:lnTo>
                  <a:pt x="1650" y="1105"/>
                </a:lnTo>
                <a:lnTo>
                  <a:pt x="1669" y="1072"/>
                </a:lnTo>
                <a:lnTo>
                  <a:pt x="1685" y="1039"/>
                </a:lnTo>
                <a:lnTo>
                  <a:pt x="1699" y="1004"/>
                </a:lnTo>
                <a:lnTo>
                  <a:pt x="1709" y="965"/>
                </a:lnTo>
                <a:lnTo>
                  <a:pt x="1715" y="927"/>
                </a:lnTo>
                <a:lnTo>
                  <a:pt x="1716" y="888"/>
                </a:lnTo>
                <a:lnTo>
                  <a:pt x="1716" y="389"/>
                </a:lnTo>
                <a:lnTo>
                  <a:pt x="1715" y="349"/>
                </a:lnTo>
                <a:lnTo>
                  <a:pt x="1709" y="311"/>
                </a:lnTo>
                <a:lnTo>
                  <a:pt x="1699" y="273"/>
                </a:lnTo>
                <a:lnTo>
                  <a:pt x="1685" y="238"/>
                </a:lnTo>
                <a:lnTo>
                  <a:pt x="1669" y="204"/>
                </a:lnTo>
                <a:lnTo>
                  <a:pt x="1650" y="172"/>
                </a:lnTo>
                <a:lnTo>
                  <a:pt x="1627" y="143"/>
                </a:lnTo>
                <a:lnTo>
                  <a:pt x="1602" y="115"/>
                </a:lnTo>
                <a:lnTo>
                  <a:pt x="1574" y="90"/>
                </a:lnTo>
                <a:lnTo>
                  <a:pt x="1545" y="66"/>
                </a:lnTo>
                <a:lnTo>
                  <a:pt x="1512" y="47"/>
                </a:lnTo>
                <a:lnTo>
                  <a:pt x="1479" y="31"/>
                </a:lnTo>
                <a:lnTo>
                  <a:pt x="1443" y="18"/>
                </a:lnTo>
                <a:lnTo>
                  <a:pt x="1405" y="8"/>
                </a:lnTo>
                <a:lnTo>
                  <a:pt x="1367" y="2"/>
                </a:lnTo>
                <a:lnTo>
                  <a:pt x="1328" y="0"/>
                </a:lnTo>
                <a:lnTo>
                  <a:pt x="38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09960" y="3666960"/>
            <a:ext cx="434880" cy="262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0" y="3954600"/>
            <a:ext cx="2759040" cy="2050920"/>
          </a:xfrm>
          <a:prstGeom prst="rect">
            <a:avLst/>
          </a:prstGeom>
          <a:noFill/>
          <a:ln w="144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8120" y="3276720"/>
            <a:ext cx="91440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A0B-0D8F-4320-BCAF-D2A8850F6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02080" y="385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3200" y="3036960"/>
            <a:ext cx="1882800" cy="180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2280" y="3919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06480" y="1633680"/>
            <a:ext cx="5040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drawOval(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, 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,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54600" y="3298680"/>
            <a:ext cx="642960" cy="64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308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8800" y="3036960"/>
            <a:ext cx="1905120" cy="181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2800" y="261144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30160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97360" y="5202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2360" y="3040200"/>
            <a:ext cx="0" cy="18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8600" y="4984920"/>
            <a:ext cx="4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9600" y="3743280"/>
            <a:ext cx="42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AF5-0226-4CB7-8907-C4F3AB4A2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lor attribute is set by cal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setCol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tays in effect until chang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form a color with specified red, green, and blue (RGB) valu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666880"/>
            <a:ext cx="480060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setColor(Color.LIGHT_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473800"/>
            <a:ext cx="55623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rVal = 5, gVal = 255, bVal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yourEyes = new Color (rVal, gVal, b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209-D63E-4F82-BBB7-5149DE99F4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l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0600" y="123984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.JColorChoos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ts you choose a color in a GUI appli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81280" y="2279520"/>
            <a:ext cx="41623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56E-5038-4E0C-873E-A7A8C47815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awing Basic Shap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4640" y="1828800"/>
            <a:ext cx="73123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1, y1, x2, y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Round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horzD, vert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Round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horzD, vert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fromDegr, measureDeg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251000" y="1981080"/>
            <a:ext cx="457200" cy="152640"/>
          </a:xfrm>
          <a:prstGeom prst="line">
            <a:avLst/>
          </a:prstGeom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84120" y="2822400"/>
            <a:ext cx="392400" cy="254160"/>
          </a:xfrm>
          <a:prstGeom prst="rect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84120" y="3286080"/>
            <a:ext cx="392400" cy="254160"/>
          </a:xfrm>
          <a:prstGeom prst="rect">
            <a:avLst/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89160" y="3735360"/>
            <a:ext cx="380880" cy="22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89160" y="4176720"/>
            <a:ext cx="380880" cy="2221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3320" y="4613400"/>
            <a:ext cx="412560" cy="222120"/>
          </a:xfrm>
          <a:prstGeom prst="ellipse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3320" y="5043600"/>
            <a:ext cx="412560" cy="2221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5532480"/>
            <a:ext cx="412920" cy="222120"/>
          </a:xfrm>
          <a:prstGeom prst="ellipse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52640" y="5499000"/>
            <a:ext cx="333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52520" y="5641920"/>
            <a:ext cx="3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2680" y="2414520"/>
            <a:ext cx="392040" cy="254160"/>
          </a:xfrm>
          <a:prstGeom prst="rect">
            <a:avLst/>
          </a:prstGeom>
          <a:solidFill>
            <a:srgbClr val="e1e1b7"/>
          </a:solidFill>
          <a:ln w="2844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3EE-124D-4AE8-977B-1F03B626E2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 Shap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74640" y="1828800"/>
            <a:ext cx="7010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Poly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Poly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Poly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, x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mg, x, y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2880" y="1927080"/>
            <a:ext cx="339840" cy="308160"/>
          </a:xfrm>
          <a:prstGeom prst="hexagon">
            <a:avLst>
              <a:gd name="adj" fmla="val 27570"/>
              <a:gd name="vf" fmla="val 115470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2880" y="2357280"/>
            <a:ext cx="339840" cy="308160"/>
          </a:xfrm>
          <a:prstGeom prst="hexagon">
            <a:avLst>
              <a:gd name="adj" fmla="val 27570"/>
              <a:gd name="vf" fmla="val 115470"/>
            </a:avLst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2880" y="2835360"/>
            <a:ext cx="339840" cy="307800"/>
          </a:xfrm>
          <a:prstGeom prst="hexagon">
            <a:avLst>
              <a:gd name="adj" fmla="val 27602"/>
              <a:gd name="vf" fmla="val 115470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4840" y="2992320"/>
            <a:ext cx="3175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0600" y="356868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73240" y="3939840"/>
            <a:ext cx="201600" cy="30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0160" y="4483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18080" y="4952880"/>
            <a:ext cx="707760" cy="533520"/>
            <a:chOff x="5518080" y="4952880"/>
            <a:chExt cx="707760" cy="533520"/>
          </a:xfrm>
        </p:grpSpPr>
        <p:sp>
          <p:nvSpPr>
            <p:cNvPr id="170" name=""/>
            <p:cNvSpPr/>
            <p:nvPr/>
          </p:nvSpPr>
          <p:spPr>
            <a:xfrm flipV="1">
              <a:off x="5518080" y="49528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18080" y="5486400"/>
              <a:ext cx="707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19920" y="5105520"/>
            <a:ext cx="24382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Observer, oft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560" y="3890880"/>
            <a:ext cx="6811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6EA-A7B7-472C-B48A-B592754007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computer graphics bas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coordinates and col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shape drawing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use fonts and draw graphics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7E1-0BDD-4446-A88A-D92EAEF5B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74640" y="1828800"/>
            <a:ext cx="7010640" cy="3112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nt = new Font (name, style,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setFont (fo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310360" y="226512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324480" y="2265480"/>
            <a:ext cx="0" cy="15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008840" y="2265480"/>
            <a:ext cx="0" cy="566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5840" y="2535120"/>
            <a:ext cx="253548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erif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ansSerif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Monospace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713040"/>
            <a:ext cx="16765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P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ITA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590920"/>
            <a:ext cx="14479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(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941-7A6E-4EEF-A665-38FDA291D5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 between vector and rast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what units are the coordinates measured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is the origin of the coordinate syste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e position and size of a rectangle or an oval is defin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set a drawing col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drawing meth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37D-0C00-4BAE-888D-6914A2F96A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uter Graphics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58341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types of graphics devices: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as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ector device has some kind of pen that can move and draw lines directly on the su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aster device creates a picture by setting colors to individual pixels (picture elements) on a rectangular “raster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51760" y="4432320"/>
            <a:ext cx="1447560" cy="148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70640" y="2889360"/>
            <a:ext cx="782640" cy="7506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4800" y="3090960"/>
            <a:ext cx="74520" cy="745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99400" y="3087720"/>
            <a:ext cx="74520" cy="745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61240" y="319572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593480" y="3125880"/>
            <a:ext cx="3578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77" y="818"/>
                </a:moveTo>
                <a:arcTo wR="10800" hR="10800" stAng="-6746438" swAng="6746438"/>
                <a:lnTo>
                  <a:pt x="10800" y="10800"/>
                </a:lnTo>
                <a:close/>
              </a:path>
              <a:path fill="none" w="21600" h="21600">
                <a:moveTo>
                  <a:pt x="6677" y="818"/>
                </a:moveTo>
                <a:arcTo wR="10800" hR="10800" stAng="-6746438" swAng="67464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80240" y="2928960"/>
            <a:ext cx="7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Wingdings"/>
                <a:ea typeface="Wingdings"/>
              </a:rPr>
              <a:t>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987320" y="3188520"/>
            <a:ext cx="148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54800" y="3319560"/>
            <a:ext cx="66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9080" y="5137200"/>
            <a:ext cx="66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4B5-6A60-496F-B2AE-7FD82BB95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aphics adapter in your computer is a raster dev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M (video RAM) contains the information about the colors of all pix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creen displays the contents of V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draw a shape, you need to set the exactly right set of pixels to the required col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umber of pixels in the raster vertically and horizontally is called the devic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676-FACF-45AA-8FCD-343FF5766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aphics software package provides function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 drawing attributes: color, line width and style, fill texture and pattern, fo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ing lines, circles, rectangles, polygons, and other basic sha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other words, a graphics package turns a raster device into a “logical” vector dev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B28-613C-4F6A-A85A-E25FC0C2A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phics in Jav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library offers a graphics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a graphics pack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vides only most basic capabil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related class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 better graphics with color gradients, line styl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we only deal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934-E1B0-4947-ACDF-CE685BC76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phics in Window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windowing environment, a picture must be repainted every time we move, reopen or reshape th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gram must have one “central” place or method where all the drawing happe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perating system sends a “message” to the program to repaint its window when necessa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9F8-8A2D-4B23-8D63-FE9E842BB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Compon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.JFra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(which represents application windows) has one method,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where all the drawing takes pl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each of the GUI components in th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grammer creates a picture by overriding the defa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(o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B0C-9DBF-4F7A-92FE-1446BCECF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1400" y="484200"/>
            <a:ext cx="79232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1418760"/>
            <a:ext cx="71769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takes one argument of the ty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57360" y="2651040"/>
            <a:ext cx="505440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Window exte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070600" y="4905000"/>
            <a:ext cx="1154160" cy="284400"/>
            <a:chOff x="5070600" y="4905000"/>
            <a:chExt cx="1154160" cy="284400"/>
          </a:xfrm>
        </p:grpSpPr>
        <p:sp>
          <p:nvSpPr>
            <p:cNvPr id="88" name=""/>
            <p:cNvSpPr/>
            <p:nvPr/>
          </p:nvSpPr>
          <p:spPr>
            <a:xfrm flipV="1">
              <a:off x="5070600" y="4905000"/>
              <a:ext cx="0" cy="28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0600" y="5189400"/>
              <a:ext cx="1154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845320" y="4808520"/>
            <a:ext cx="29746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graphics “context” (location, size, coordinat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FAC-A5FB-4F48-B732-E00C84E23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4:56Z</dcterms:modified>
  <cp:revision>198</cp:revision>
  <dc:subject>Chapter 16</dc:subject>
  <dc:title>Java Methods 2nd AP edition</dc:title>
</cp:coreProperties>
</file>