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7FD9-B7CE-4835-91DE-3015C6D7F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also contains a case study on asynchronous computing architectures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rackets match, the stack must be empty at the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 traversal is much easier with recursion (Chapter 2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s can be also used in sor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ersonal computer, a small ring buffer is used for queuing characters typed on the key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 an object in a queue in itself does not protect it from further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 the Java Collections Framework does not have a special class for queues: it use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Remember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class bu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Que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lines of text read from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processed in the same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two main operations for a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few applications of st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ing all files in nested directories; evaluation of nested expressions; traversing a 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e four methods of the java.util.Stack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two main operations for a que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few applications of que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ing events; system tasks, such as queuing print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e four methods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ava.util.Queu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in why a stack of objects can be equally efficiently implemented using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and removing a value at the end of the list is equally efficient: tak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is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ot as efficient for implementing a queue (unless you use a ring-buffer implementation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(or adding) a value at the beginning of an array tak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compare these two data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eue operations are sometimes call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but Java us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recursion is a more straightforward way of handling such tasks.  Recursive method calls use the system stack behind the sc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implementation, the stack pointer points to the next available slot.  In another implementation it might point to the top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and efficient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imple and as efficient a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 an object on stack in itself does not protect it from further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tend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Ve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C19-7259-4DBC-95D1-3634BF4F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C6A-182D-4EFD-810D-8482E8A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0D0-99BB-446D-BCDB-3A31566D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46E-B02A-4BF4-AC42-F2669CC7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31F-97E4-4EB5-80B4-0F07643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214-C865-4F07-A40D-84F4D61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CA1-C399-45FD-88ED-65D607AD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7EF-C4B2-4252-B447-C71CCFD3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FC0-86EE-4FCA-895A-12446793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72F-FCA2-4DB5-9E53-4522BC3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180-B89E-4F09-B091-2320FC9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ACB-84DB-49EA-A460-1994347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-</a:t>
            </a:r>
            <a:fld id="{F05E00EA-934F-4071-883D-9A6E6A71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10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879640" y="2820960"/>
          <a:ext cx="366408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2820960"/>
                    <a:ext cx="366408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886-807F-45BF-B93C-925F51D506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3440" y="310680"/>
            <a:ext cx="73958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tack Example: Matching Bracket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263600"/>
            <a:ext cx="6024600" cy="5277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bracketsMatch (String s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&lt;Integer&gt; stk = new Stack&lt;Integer&gt; 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pos = 0;  pos &lt; str.length( );  pos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t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t (pos) == ' [ ' 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ush (po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st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t (pos) == ' ] '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os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op 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ln (pos0 + "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 + po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376880" y="3314880"/>
            <a:ext cx="2373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712760" y="4811760"/>
            <a:ext cx="1916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4880" y="4610160"/>
            <a:ext cx="18986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unbo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3440" y="3103560"/>
            <a:ext cx="21477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bo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ve pos of ' [ ‘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0280" y="1189080"/>
            <a:ext cx="27464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St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8E8-E95D-4EA2-95A2-8DCC17CBEA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3440" y="310680"/>
            <a:ext cx="359568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tack Example: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raversing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 Tre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54320" y="604800"/>
            <a:ext cx="4905360" cy="5582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st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tack&lt;TreeNode&gt;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Node node = roo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node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ln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Value ( 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Left ( ) !=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Right ( ) !=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ush (node.getRight ( 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Left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Right ( ) !=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Right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 stk.isEmpty 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op 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8000" y="3095640"/>
            <a:ext cx="19047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for futur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52760" y="32479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58520" y="1968480"/>
            <a:ext cx="2588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40040" y="1979640"/>
            <a:ext cx="31896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30000" y="2325600"/>
            <a:ext cx="9684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7440" y="2314440"/>
            <a:ext cx="106200" cy="2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444680" y="2558880"/>
            <a:ext cx="8568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30360" y="2558880"/>
            <a:ext cx="619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98640" y="195912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3440" y="2263680"/>
            <a:ext cx="74520" cy="7488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16120" y="251136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88960" y="2549520"/>
            <a:ext cx="7488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65280" y="275904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13000" y="275904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120400" y="2325600"/>
            <a:ext cx="9684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47840" y="2314440"/>
            <a:ext cx="106560" cy="2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24160" y="2570040"/>
            <a:ext cx="302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35080" y="2558880"/>
            <a:ext cx="8568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3840" y="2263680"/>
            <a:ext cx="74520" cy="7488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27400" y="250200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9720" y="254952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3400" y="275904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8600" y="2768760"/>
            <a:ext cx="7488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6680" y="2797200"/>
            <a:ext cx="619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41600" y="299736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86000" y="1959120"/>
            <a:ext cx="931680" cy="1153800"/>
          </a:xfrm>
          <a:custGeom>
            <a:avLst/>
            <a:gdLst/>
            <a:ahLst/>
            <a:rect l="l" t="t" r="r" b="b"/>
            <a:pathLst>
              <a:path w="587" h="727">
                <a:moveTo>
                  <a:pt x="325" y="0"/>
                </a:moveTo>
                <a:lnTo>
                  <a:pt x="127" y="191"/>
                </a:lnTo>
                <a:lnTo>
                  <a:pt x="47" y="365"/>
                </a:lnTo>
                <a:lnTo>
                  <a:pt x="0" y="561"/>
                </a:lnTo>
                <a:lnTo>
                  <a:pt x="121" y="561"/>
                </a:lnTo>
                <a:lnTo>
                  <a:pt x="147" y="727"/>
                </a:lnTo>
                <a:lnTo>
                  <a:pt x="226" y="710"/>
                </a:lnTo>
                <a:lnTo>
                  <a:pt x="255" y="408"/>
                </a:lnTo>
                <a:lnTo>
                  <a:pt x="498" y="230"/>
                </a:lnTo>
                <a:lnTo>
                  <a:pt x="434" y="389"/>
                </a:lnTo>
                <a:lnTo>
                  <a:pt x="366" y="525"/>
                </a:lnTo>
                <a:lnTo>
                  <a:pt x="408" y="587"/>
                </a:lnTo>
                <a:lnTo>
                  <a:pt x="587" y="395"/>
                </a:lnTo>
                <a:lnTo>
                  <a:pt x="574" y="536"/>
                </a:lnTo>
              </a:path>
            </a:pathLst>
          </a:custGeom>
          <a:noFill/>
          <a:ln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04920" y="4924440"/>
            <a:ext cx="190512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children, take the next node from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1480" y="50767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3AE-3577-4AAA-BEA4-9B0C9E71B1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ues are used for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ing events or messages in order of their arriv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 tas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ueing print jo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ing keystrok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ing mouse clic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AE8-141B-476F-A101-9F380FE9B3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659952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ue: Ring-Buffer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65120" y="1882800"/>
          <a:ext cx="693900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882800"/>
                    <a:ext cx="69390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B60-2F5B-4FAB-B7C4-52EF9487C9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perties of Queu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efficient implementat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run i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)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queue of objects hold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referen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necessary, a queue can hold multiple references to the same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are not careful, an object can change while stored in the queue (unless that object is immutab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D34-FB65-46FE-B852-277E11ED1E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8280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.util.Queu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82800" y="397044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“generic” interface, part of the Java Collections Framework (Chapter 2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85880" y="1712880"/>
            <a:ext cx="4564080" cy="18720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 ob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2AA-F30B-4D25-910D-413FCBA528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31760" y="3510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ue Exampl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11240" y="1214280"/>
            <a:ext cx="735012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Queue&lt;String&gt;  findMatches (Scanner inpu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tar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&lt;String&gt; q = new LinkedList&lt;String&gt;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input.hasNextLine ( 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line = input.nextLine 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line.indexOf (target) &gt;=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.add (li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0200" y="2627280"/>
            <a:ext cx="2249280" cy="9169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 queue of all the lines that conta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43440" y="3952800"/>
            <a:ext cx="4676760" cy="228852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process (Queue&lt;String&gt;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 q.isEmpty 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.remove 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// proc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91040" y="5181480"/>
            <a:ext cx="742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9040" y="4869000"/>
            <a:ext cx="175896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e contents of q (leaves the queue emp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40E-8BEA-45D9-AB0E-37D8744F54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wo main operations for a stac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few applications of stac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four metho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Stac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wo main operations for a queu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few applications of que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C87-48B9-4DC6-AB9B-273462EAA4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four metho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Que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y a stack of objects can be equally efficiently implemented using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i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ot as efficient for implementing a queue (unless you use a      ring-buffer implementation)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A20-A0DF-409C-9C64-ACA5CEDC2C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different implementations of stacks and que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applications of stacks and que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DFB-5BB8-433E-BF2C-DAF22DC2E3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52480" y="335268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0040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05740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304812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89548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33520" y="2590920"/>
            <a:ext cx="0" cy="380880"/>
          </a:xfrm>
          <a:prstGeom prst="line">
            <a:avLst/>
          </a:prstGeom>
          <a:ln w="381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47840" y="216684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68600" y="2351160"/>
            <a:ext cx="357120" cy="363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828800" y="2361960"/>
            <a:ext cx="339840" cy="500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243828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82880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0480" y="457200"/>
            <a:ext cx="23428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c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57200"/>
            <a:ext cx="23428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962520"/>
            <a:ext cx="2895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) acces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95360" y="298116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8324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8500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2308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61160" y="24382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315200" y="27432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105520" y="27432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2895480"/>
            <a:ext cx="129528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2209680"/>
            <a:ext cx="12956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3962520"/>
            <a:ext cx="2895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) acces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609480"/>
            <a:ext cx="0" cy="4191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3800" y="520056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s and queues are used for temporary storage, but in different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C29-6FB8-42F3-8590-FB961B136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cks are Used f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ling nested structur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ing directories within direct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ng expressions within expres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ling branching processe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versing a branching tree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ing a move in a chess g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cking the sequence of method calls in a Java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1B1-D11B-4873-B679-BFDEC7308E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659952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ck: Array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752480"/>
          <a:ext cx="4648320" cy="28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4648320" cy="28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00640" y="1701720"/>
            <a:ext cx="3505320" cy="344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ush (Objec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ements [sp]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pop 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myElements [s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2C3-65E1-46AD-A90C-67C2BD2B0B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469880"/>
            <a:ext cx="7162560" cy="49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Array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Array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List&lt;Object&gt;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rrayStack 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items = new ArrayList&lt;Object&gt;( 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mpty ( 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bject x)   { 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(x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(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( 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(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( 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079-45C7-4FE2-B96F-316079CBD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edLis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517760"/>
            <a:ext cx="7086600" cy="4857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Linked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List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List&lt;Object&gt;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Stack 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items = new LinkedList&lt;Object&gt; ( 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mpty ( 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bject x)   { 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First (x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First ( 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rst ( 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53E-3D8A-4931-8B90-6C73E6F29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perties of Stack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efficient implementat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run i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)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tack of objects hold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referen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necessary, a stack can hold multiple references to the same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are not careful, an object can change while stored on the stack (unless that object is immutab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161-7406-4925-B292-53FBCD0A7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.util.Stac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758844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Java Collections Framework (Chapter 20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“generic” class (works with objects of specified typ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the legac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, similar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mp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other methods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o not use them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3F9-9E39-423E-9D0E-77F687EBAE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5:09:39Z</dcterms:modified>
  <cp:revision>207</cp:revision>
  <dc:subject>Chapter 22</dc:subject>
  <dc:title>Java Methods 2nd AP edition</dc:title>
</cp:coreProperties>
</file>